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2.jpeg" ContentType="image/jpeg"/>
  <Override PartName="/ppt/media/EXPLODE.WAV" ContentType="audio/x-wav"/>
  <Override PartName="/ppt/media/WHOOSH.WAV" ContentType="audio/x-wav"/>
  <Override PartName="/ppt/media/CHIMES.WAV" ContentType="audio/x-wav"/>
  <Override PartName="/ppt/media/CASHREG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67B3CDA-A7C8-48E8-AFA0-EC31C6E4D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6314980-CBBD-4ACD-8579-CCC700568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770-24A8-47AC-8930-0AA3444A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D0F-1695-4D44-8715-1E07564D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F17-6B86-4D8D-962B-04449693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1DB-1F28-46EF-9291-C97834D3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197-7CC1-4320-BCC9-B11184A5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765-68FA-4EDA-B002-B5611F1E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252-A1E5-4DF7-BF4C-AD07523B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7CE-1D7C-4131-92FC-C95837CC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6B9-07A5-4ECB-A9DE-735F5EBA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19C-1B2D-4B4B-8BA3-B8FE94CE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5A7-4B73-4D70-9CCB-B154229C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6C0-EC3B-4297-892B-8C017EB4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08C4-2B99-46F3-97DE-158250AFE48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8AF5-8629-4DCA-9E1F-2AC211A6E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200" y="7632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5 -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EXPLODE.WAV"/><Relationship Id="rId11" Type="http://schemas.openxmlformats.org/officeDocument/2006/relationships/audio" Target="../media/WHOOSH.WAV"/><Relationship Id="rId12" Type="http://schemas.openxmlformats.org/officeDocument/2006/relationships/audio" Target="../media/CAMERA.WAV"/><Relationship Id="rId13" Type="http://schemas.openxmlformats.org/officeDocument/2006/relationships/audio" Target="../media/EXPLODE.WAV"/><Relationship Id="rId14" Type="http://schemas.openxmlformats.org/officeDocument/2006/relationships/audio" Target="../media/WHOOSH.WAV"/><Relationship Id="rId15" Type="http://schemas.openxmlformats.org/officeDocument/2006/relationships/audio" Target="../media/EXPLODE.WAV"/><Relationship Id="rId16" Type="http://schemas.openxmlformats.org/officeDocument/2006/relationships/audio" Target="../media/CASHREG.WAV"/><Relationship Id="rId1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358-1DF8-45FE-BF21-D765AAC6B79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7A83A-1A8A-4479-AA34-4180DF623F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important general features of algorith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 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Information or data that comes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Output.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Information or data that goes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efiniteness. 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lgorithm is precisely def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orrectness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Outputs correctly relate to in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initeness. 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Won’t take forever to describe or r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ffectiveness. 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Individual steps are all do-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enerality. 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Works for many possible in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fficiency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akes little time &amp; memory to r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49E-6377-49F5-81A8-E6D81F841E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8104B-E471-41F7-B8B8-E4B11AB602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seudocode Language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A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br>
              <a:rPr sz="2800"/>
            </a:b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gu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formal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ement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els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itial 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nal val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c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gu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defined in boo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1680" y="1066320"/>
            <a:ext cx="4341600" cy="2059560"/>
            <a:chOff x="301680" y="1066320"/>
            <a:chExt cx="4341600" cy="2059560"/>
          </a:xfrm>
        </p:grpSpPr>
        <p:sp>
          <p:nvSpPr>
            <p:cNvPr id="76" name=""/>
            <p:cNvSpPr/>
            <p:nvPr/>
          </p:nvSpPr>
          <p:spPr>
            <a:xfrm>
              <a:off x="301680" y="1982880"/>
              <a:ext cx="4341600" cy="114300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 rot="20786400">
              <a:off x="1447920" y="1371240"/>
              <a:ext cx="266688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eflateBottom">
                <a:avLst>
                  <a:gd name="adj" fmla="val 7975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381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07070"/>
                      </a:gs>
                      <a:gs pos="50000">
                        <a:srgbClr val="ffffff"/>
                      </a:gs>
                      <a:gs pos="100000">
                        <a:srgbClr val="707070"/>
                      </a:gs>
                    </a:gsLst>
                    <a:lin ang="13500000"/>
                  </a:gradFill>
                  <a:latin typeface="Impact"/>
                </a:rPr>
                <a:t>Declaration</a:t>
              </a:r>
              <a:endPara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1600200"/>
            <a:ext cx="8001000" cy="5029200"/>
            <a:chOff x="533520" y="1600200"/>
            <a:chExt cx="8001000" cy="5029200"/>
          </a:xfrm>
        </p:grpSpPr>
        <p:sp>
          <p:nvSpPr>
            <p:cNvPr id="79" name=""/>
            <p:cNvSpPr/>
            <p:nvPr/>
          </p:nvSpPr>
          <p:spPr>
            <a:xfrm>
              <a:off x="609480" y="2971800"/>
              <a:ext cx="3733920" cy="53352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3520" y="3505320"/>
              <a:ext cx="3276360" cy="53316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9480" y="3962520"/>
              <a:ext cx="3505320" cy="53316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9480" y="4952880"/>
              <a:ext cx="3505320" cy="152424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1905120"/>
              <a:ext cx="3962520" cy="152388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19720" y="3352680"/>
              <a:ext cx="2971800" cy="99072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48320" y="4343400"/>
              <a:ext cx="3429000" cy="60948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48320" y="5334120"/>
              <a:ext cx="3047760" cy="60948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 rot="5400000">
              <a:off x="1990440" y="3800520"/>
              <a:ext cx="5029200" cy="628560"/>
            </a:xfrm>
            <a:prstGeom prst="rect">
              <a:avLst/>
            </a:prstGeom>
          </p:spPr>
          <p:txBody>
            <a:bodyPr wrap="none" lIns="90000" rIns="90000" tIns="46800" bIns="46800" anchor="ctr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8160">
                    <a:solidFill>
                      <a:srgbClr val="800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STATEMENTS</a:t>
              </a:r>
              <a:endParaRPr b="1" lang="en-US" sz="2400" spc="1" strike="noStrike">
                <a:ln w="381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99B-FB2A-4BF2-84F1-EC06A46930F6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22C07-DABD-422F-9CAB-DFABCDF388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e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cna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r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es that the following text defines a procedure name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takes input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name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ich are data objects of the typ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ample: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cedur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maximu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 list of integers)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[statements definin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maximu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…]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7D5-6EB2-4360-9702-A11FB6A14B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4E15A-5805-4588-BB1A-B85FA1E314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variab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signm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 evaluates the expressio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reassigns the variabl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ri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value that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ample assignment statement:</a:t>
            </a:r>
            <a:br>
              <a:rPr sz="2800"/>
            </a:b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3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7         (I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2, change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to 13.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seudocode (but not real code),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ght be informally sta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the largest integer in the lis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3EE-B637-4BCF-AB40-586988DBAB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8A3EC-4965-4F12-8838-FAE5004283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formal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e may write a statement as an informal English imperative, if the meaning is still clear and precise: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“swap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n mind that real programming languages never allow th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ask for an algorithm to do so-and-so, writing “Do so-and-so” isn’t enoug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reak down algorithm into detailed step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497-7C70-4292-9C2C-BDF1DAF85E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AAEF2-25A1-42DE-A241-B936E0930E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ate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a sequence of statements together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ement 1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ement 2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ement 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862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the sequence to be used just like a single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ht be 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fter 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eclaration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a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tatement afte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the body of 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hil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loop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8480" y="2970360"/>
            <a:ext cx="2211120" cy="25146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2240" y="5626080"/>
            <a:ext cx="4127760" cy="825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ly braces {} are used inste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any langu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D7F-AA5D-4466-9730-ACB2CFF456C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584D5-3A91-4A0B-B8F2-53602D7BA2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xecuted (does noth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-language text explaining some aspect of the procedure to human rea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alled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ma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some real programming languag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, might appear i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{Note tha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the largest integer seen so far.}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87F-C933-40B5-8FEB-AE2AB922C3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522F1-EC55-45A1-8762-4EE1A4AB1D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i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the propositional expressio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the resulting truth value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u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then execute the statement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tatemen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therwise, just skip on ahead to the next statement after 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statement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t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mt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m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ke before, but iff truth value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als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executes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tmt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EE6-BD64-4106-8F9E-7F53E35810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31293-697C-4B25-9F7F-0EAC989BA2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i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alu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ropositional (Boolean) expressio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resulting value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execut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repeating the above two actions over and over until finally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aluates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en proceed to the next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14A-444D-44C9-8769-6BF89CF54B2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239E4-8DB8-462C-8B5C-594CF5870D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i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equivalent to infinite nest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, like so: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f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ondition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gi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tatement </a:t>
            </a:r>
            <a:br>
              <a:rPr sz="2800"/>
            </a:b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f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gi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tatement </a:t>
            </a:r>
            <a:br>
              <a:rPr sz="2800"/>
            </a:b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                …(continue infinite nested if’s)</a:t>
            </a:r>
            <a:br>
              <a:rPr sz="2800"/>
            </a:b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br>
              <a:rPr sz="2800"/>
            </a:b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514600"/>
            <a:ext cx="6096240" cy="3886200"/>
          </a:xfrm>
          <a:prstGeom prst="rect">
            <a:avLst/>
          </a:prstGeom>
          <a:noFill/>
          <a:ln w="63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407-3FF2-498A-88A4-3A2F8472F8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B7479-B762-473B-85C2-8E60430E6B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5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§2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1 slides, ~1 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951600" y="3352680"/>
            <a:ext cx="1766880" cy="21337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6721560" y="5562720"/>
            <a:ext cx="2227320" cy="7038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 al-Khowarizmi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a. 780-8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125-A58D-4F0C-9BCC-9AA4FE2720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5CA81-9EB3-4858-9CE5-AB820BEDEA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va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iti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m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i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integer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other integer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Repeatedly execut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m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irst with variable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ar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i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with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ar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itial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with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ar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itial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, then finally with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ar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at happens i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m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nges the value of var, or the value tha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i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aluates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7EA-83E9-4CCA-BA6C-81B3B7E6C20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55F84-8ED3-42AE-9577-9B80BCF3BC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va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iti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m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exactly defined in terms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l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ke 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2544840"/>
            <a:ext cx="4267080" cy="39934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gin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va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nitial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il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va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inal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gin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tmt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va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va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+ 1</a:t>
            </a:r>
            <a:br>
              <a:rPr sz="3200"/>
            </a:b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d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440-471E-47D3-AFF8-FC2062C6C0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9CBAB-E147-435D-BC3B-D9A16EF4F3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rgu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dure c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nvokes the name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giving it as its input the value of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us real programming languages refer to procedur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ince the procedure call notation works similarly to function applic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, or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routi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progra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E78-C739-4153-B0D7-BC61E3BD42F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D2F6B-EA27-475B-AC85-2FC572E86D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 procedure in pseudo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teg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largest element so far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go thru rest of elems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found bigger?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at this point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’s value is the same as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the largest integer in the list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E4F4-FEDD-4310-9E80-C008DC1D1B1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8AF1D-3520-41A5-82AA-672BC30487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nting a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a lot of creativity and intu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ke writing proof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fortunately, we can’t give you an algorithm for inventing algo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Just look at lots of examples…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 practice (preferably, on a computer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 look at more examples…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 practice some more… etc., etc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FE4-5771-4FD9-99AD-D5C21615BA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FB218-435F-4B74-962D-F737E4EE2F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-Invent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ask you to write an algorithm to compute the predic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sPri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T,F}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utes whether a given natural number is a prime number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start with a correct predicate-logic definition of the desired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sPrim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¬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&lt;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5638680" y="544824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41760 h 533520"/>
              <a:gd name="textAreaBottom" fmla="*/ 491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08360" y="5826240"/>
            <a:ext cx="2689200" cy="6426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vid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ly (without remain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6CD-CC9A-4E17-90E5-91FB569357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42B7E-BDD7-4AB4-BB09-3EDD0C7F6B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Pri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 that the negated exponential can be rewritten as a univers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¬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&lt;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 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&lt;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br>
              <a:rPr sz="2400"/>
            </a:b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universal can then be translated directly into a correspond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:= 2 t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−1   { Try all potential divisors &gt;1 &amp; &lt;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}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|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tur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F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has diviso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; not prime }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tur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{ no divisors were found;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must be prime}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381280" y="3098880"/>
            <a:ext cx="15228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69600" y="2579760"/>
            <a:ext cx="210888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o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ven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e remainder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929200" y="3460680"/>
            <a:ext cx="15264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76960" y="2590920"/>
            <a:ext cx="1573200" cy="399960"/>
          </a:xfrm>
          <a:custGeom>
            <a:avLst/>
            <a:gdLst/>
            <a:ahLst/>
            <a:rect l="l" t="t" r="r" b="b"/>
            <a:pathLst>
              <a:path w="991" h="358">
                <a:moveTo>
                  <a:pt x="991" y="144"/>
                </a:moveTo>
                <a:cubicBezTo>
                  <a:pt x="968" y="142"/>
                  <a:pt x="944" y="143"/>
                  <a:pt x="921" y="139"/>
                </a:cubicBezTo>
                <a:cubicBezTo>
                  <a:pt x="880" y="132"/>
                  <a:pt x="843" y="103"/>
                  <a:pt x="806" y="87"/>
                </a:cubicBezTo>
                <a:cubicBezTo>
                  <a:pt x="765" y="69"/>
                  <a:pt x="725" y="55"/>
                  <a:pt x="685" y="35"/>
                </a:cubicBezTo>
                <a:cubicBezTo>
                  <a:pt x="634" y="10"/>
                  <a:pt x="568" y="4"/>
                  <a:pt x="513" y="0"/>
                </a:cubicBezTo>
                <a:cubicBezTo>
                  <a:pt x="459" y="2"/>
                  <a:pt x="405" y="3"/>
                  <a:pt x="351" y="6"/>
                </a:cubicBezTo>
                <a:cubicBezTo>
                  <a:pt x="274" y="11"/>
                  <a:pt x="209" y="54"/>
                  <a:pt x="138" y="75"/>
                </a:cubicBezTo>
                <a:cubicBezTo>
                  <a:pt x="116" y="91"/>
                  <a:pt x="91" y="100"/>
                  <a:pt x="69" y="116"/>
                </a:cubicBezTo>
                <a:cubicBezTo>
                  <a:pt x="57" y="133"/>
                  <a:pt x="52" y="150"/>
                  <a:pt x="40" y="167"/>
                </a:cubicBezTo>
                <a:cubicBezTo>
                  <a:pt x="33" y="187"/>
                  <a:pt x="29" y="201"/>
                  <a:pt x="17" y="219"/>
                </a:cubicBezTo>
                <a:cubicBezTo>
                  <a:pt x="9" y="242"/>
                  <a:pt x="8" y="265"/>
                  <a:pt x="0" y="288"/>
                </a:cubicBezTo>
                <a:cubicBezTo>
                  <a:pt x="2" y="305"/>
                  <a:pt x="3" y="323"/>
                  <a:pt x="6" y="340"/>
                </a:cubicBezTo>
                <a:cubicBezTo>
                  <a:pt x="7" y="346"/>
                  <a:pt x="11" y="358"/>
                  <a:pt x="11" y="358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C82-5509-4E96-AC0B-3885F944D38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9AFDA-D4B4-4D46-8A26-3FBCC35D15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Pr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Pr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gorithm can be further optimiz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:= 2 to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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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n return F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turn 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orks because of th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ny (integer) divisors, it must have one less th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of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uppos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’s smallest divisor &gt;1 i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and let </a:t>
            </a:r>
            <a:br>
              <a:rPr sz="2400"/>
            </a:b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≡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  The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but i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he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sinc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’s smallest divisor) and s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&gt; 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an absurdity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5080" y="5432400"/>
            <a:ext cx="44326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ther optimizations are poss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nly try diviso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ss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580920" y="2590920"/>
            <a:ext cx="762120" cy="75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12800" y="2438280"/>
            <a:ext cx="37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smaller range of 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FE83-47F3-4024-8962-353B8791739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BDFEA-459E-4F21-A6E1-E550A52DE0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arching an ordered 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iven a lis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lements that are sorted into a definite order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numeric, alphabetical),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 given a particular elemen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termine whethe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ppears in the list,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 if so, return its index (position) in the list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occurs often in many contex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find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ffic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13D-82EF-4EB6-9494-2836C6B414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F3DBB-9C48-413D-98A0-7AE3F5ADF8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alg. #1: Linear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near sear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teg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istinct integers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start at beginning of list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not done, not found}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go to the next position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it was found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it wasn’t found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catio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index or 0 if not found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079-D9B3-45C4-86EC-8C0E700B344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E4CC9-0CC8-4611-889C-49591E9FFE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: More Fundament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§2.1: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rmal procedur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§2.2: Orders of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§2.3: Complexity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alysis using order-of-growth notation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§2.4: The Integers &amp;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ome basic number theory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§2.5: Integers &amp;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ternate bases, algorithms for basic arithmetic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§2.6: Number theory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ublic-Key Cryptography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§2.7: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ome basic linear algebra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E00-09AC-4277-B662-B2B079E5787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C5219-1F4A-4A34-A1BE-32C94EE15D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alg. #2: Binary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idea: On each step, look at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of the remaining list to eliminate half of it, and quickly zero in on the desired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5181480"/>
            <a:ext cx="7162560" cy="38124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949560"/>
            <a:ext cx="3581280" cy="1231920"/>
          </a:xfrm>
          <a:custGeom>
            <a:avLst/>
            <a:gdLst/>
            <a:ahLst/>
            <a:rect l="l" t="t" r="r" b="b"/>
            <a:pathLst>
              <a:path w="2256" h="776">
                <a:moveTo>
                  <a:pt x="0" y="56"/>
                </a:moveTo>
                <a:cubicBezTo>
                  <a:pt x="476" y="28"/>
                  <a:pt x="952" y="0"/>
                  <a:pt x="1296" y="56"/>
                </a:cubicBezTo>
                <a:cubicBezTo>
                  <a:pt x="1640" y="112"/>
                  <a:pt x="1904" y="272"/>
                  <a:pt x="2064" y="392"/>
                </a:cubicBezTo>
                <a:cubicBezTo>
                  <a:pt x="2224" y="512"/>
                  <a:pt x="2240" y="644"/>
                  <a:pt x="2256" y="77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305240"/>
            <a:ext cx="1752480" cy="876240"/>
          </a:xfrm>
          <a:custGeom>
            <a:avLst/>
            <a:gdLst/>
            <a:ahLst/>
            <a:rect l="l" t="t" r="r" b="b"/>
            <a:pathLst>
              <a:path w="1216" h="552">
                <a:moveTo>
                  <a:pt x="0" y="552"/>
                </a:moveTo>
                <a:cubicBezTo>
                  <a:pt x="28" y="380"/>
                  <a:pt x="56" y="208"/>
                  <a:pt x="144" y="120"/>
                </a:cubicBezTo>
                <a:cubicBezTo>
                  <a:pt x="232" y="32"/>
                  <a:pt x="368" y="0"/>
                  <a:pt x="528" y="24"/>
                </a:cubicBezTo>
                <a:cubicBezTo>
                  <a:pt x="688" y="48"/>
                  <a:pt x="992" y="176"/>
                  <a:pt x="1104" y="264"/>
                </a:cubicBezTo>
                <a:cubicBezTo>
                  <a:pt x="1216" y="352"/>
                  <a:pt x="1208" y="452"/>
                  <a:pt x="1200" y="55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84880" y="4737240"/>
            <a:ext cx="863640" cy="444240"/>
          </a:xfrm>
          <a:custGeom>
            <a:avLst/>
            <a:gdLst/>
            <a:ahLst/>
            <a:rect l="l" t="t" r="r" b="b"/>
            <a:pathLst>
              <a:path w="544" h="280">
                <a:moveTo>
                  <a:pt x="544" y="280"/>
                </a:moveTo>
                <a:cubicBezTo>
                  <a:pt x="512" y="180"/>
                  <a:pt x="480" y="80"/>
                  <a:pt x="400" y="40"/>
                </a:cubicBezTo>
                <a:cubicBezTo>
                  <a:pt x="320" y="0"/>
                  <a:pt x="128" y="0"/>
                  <a:pt x="64" y="40"/>
                </a:cubicBezTo>
                <a:cubicBezTo>
                  <a:pt x="0" y="80"/>
                  <a:pt x="8" y="180"/>
                  <a:pt x="16" y="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4876920"/>
            <a:ext cx="457200" cy="3045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0" y="192"/>
                </a:moveTo>
                <a:cubicBezTo>
                  <a:pt x="48" y="96"/>
                  <a:pt x="96" y="0"/>
                  <a:pt x="144" y="0"/>
                </a:cubicBezTo>
                <a:cubicBezTo>
                  <a:pt x="192" y="0"/>
                  <a:pt x="240" y="96"/>
                  <a:pt x="288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4952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72"/>
                  <a:pt x="72" y="0"/>
                  <a:pt x="96" y="0"/>
                </a:cubicBezTo>
                <a:cubicBezTo>
                  <a:pt x="120" y="0"/>
                  <a:pt x="132" y="72"/>
                  <a:pt x="144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5105520"/>
            <a:ext cx="228600" cy="60948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90720" y="5181120"/>
            <a:ext cx="3581280" cy="381600"/>
            <a:chOff x="990720" y="5181120"/>
            <a:chExt cx="3581280" cy="381600"/>
          </a:xfrm>
        </p:grpSpPr>
        <p:sp>
          <p:nvSpPr>
            <p:cNvPr id="148" name=""/>
            <p:cNvSpPr/>
            <p:nvPr/>
          </p:nvSpPr>
          <p:spPr>
            <a:xfrm>
              <a:off x="990720" y="5181480"/>
              <a:ext cx="35812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990720" y="5181120"/>
              <a:ext cx="35812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90720" y="5181480"/>
              <a:ext cx="3581280" cy="381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324480" y="5181120"/>
            <a:ext cx="1828800" cy="381600"/>
            <a:chOff x="6324480" y="5181120"/>
            <a:chExt cx="1828800" cy="381600"/>
          </a:xfrm>
        </p:grpSpPr>
        <p:sp>
          <p:nvSpPr>
            <p:cNvPr id="152" name=""/>
            <p:cNvSpPr/>
            <p:nvPr/>
          </p:nvSpPr>
          <p:spPr>
            <a:xfrm>
              <a:off x="6324480" y="5181480"/>
              <a:ext cx="18288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324480" y="5181120"/>
              <a:ext cx="18288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24480" y="5181480"/>
              <a:ext cx="1828800" cy="381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572000" y="5181120"/>
            <a:ext cx="838080" cy="381600"/>
            <a:chOff x="4572000" y="5181120"/>
            <a:chExt cx="838080" cy="381600"/>
          </a:xfrm>
        </p:grpSpPr>
        <p:sp>
          <p:nvSpPr>
            <p:cNvPr id="156" name=""/>
            <p:cNvSpPr/>
            <p:nvPr/>
          </p:nvSpPr>
          <p:spPr>
            <a:xfrm>
              <a:off x="4572000" y="5181480"/>
              <a:ext cx="8380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572000" y="5181120"/>
              <a:ext cx="8380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0" y="5181480"/>
              <a:ext cx="838080" cy="381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410080" y="5181120"/>
            <a:ext cx="457200" cy="381600"/>
            <a:chOff x="5410080" y="5181120"/>
            <a:chExt cx="457200" cy="381600"/>
          </a:xfrm>
        </p:grpSpPr>
        <p:sp>
          <p:nvSpPr>
            <p:cNvPr id="160" name=""/>
            <p:cNvSpPr/>
            <p:nvPr/>
          </p:nvSpPr>
          <p:spPr>
            <a:xfrm>
              <a:off x="5410080" y="5181480"/>
              <a:ext cx="4572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410080" y="5181120"/>
              <a:ext cx="4572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5181480"/>
              <a:ext cx="457200" cy="381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095880" y="5181120"/>
            <a:ext cx="228600" cy="381600"/>
            <a:chOff x="6095880" y="5181120"/>
            <a:chExt cx="228600" cy="381600"/>
          </a:xfrm>
        </p:grpSpPr>
        <p:sp>
          <p:nvSpPr>
            <p:cNvPr id="164" name=""/>
            <p:cNvSpPr/>
            <p:nvPr/>
          </p:nvSpPr>
          <p:spPr>
            <a:xfrm>
              <a:off x="6095880" y="5181480"/>
              <a:ext cx="2286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095880" y="5181120"/>
              <a:ext cx="2286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5880" y="5181480"/>
              <a:ext cx="228600" cy="381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344480" y="5561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6960" y="5561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2560" y="5561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9760" y="55616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767-A2B4-4E27-90AF-C594BDF8A1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98EFB-07BE-465A-B05E-C2ACD2ED2B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alg. #2: Binary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integ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istinct integers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{left endpoint of search interval}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{right endpoint of search interval}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{while interval has &gt;1 item}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{midpoint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8B4-33CB-4329-A4B9-2701D94EAC4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A05FD-E0DB-4E04-857A-F6061ABD26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e 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1.3: Devise an algorithm that finds the sum of all the integers in a list.  [2 mi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teger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sum of elems so far}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go thru all elems}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add current item}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{at this point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is the sum of all items}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51C-E2CD-4B1D-AF83-01FED28A04E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9720A-CFBC-4EBE-AD45-8F0FAD2F9A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 is a common operation in many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spreadsheets and databas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lso widely used as a subroutine in other data-processing algo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orting algorithms shown in textbo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bble sor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ertion sor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5029200"/>
            <a:ext cx="457200" cy="838080"/>
          </a:xfrm>
          <a:custGeom>
            <a:avLst/>
            <a:gdLst>
              <a:gd name="textAreaLeft" fmla="*/ 0 w 457200"/>
              <a:gd name="textAreaRight" fmla="*/ 164880 w 4572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30880" y="48420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However, these are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not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very efficient, and you should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ot use them on large data se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7160" y="6019920"/>
            <a:ext cx="758124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see some more efficient algorithms later in the cour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55E-B8EC-4BA4-94AB-66FAA66CDE0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19472-263A-473F-8F11-6A04FE8C6E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st elements “float” up to the top of the list, like bubbles in a container of liqu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bble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525680" y="3276720"/>
            <a:ext cx="563040" cy="3429000"/>
            <a:chOff x="1525680" y="3276720"/>
            <a:chExt cx="563040" cy="3429000"/>
          </a:xfrm>
        </p:grpSpPr>
        <p:sp>
          <p:nvSpPr>
            <p:cNvPr id="183" name=""/>
            <p:cNvSpPr/>
            <p:nvPr/>
          </p:nvSpPr>
          <p:spPr>
            <a:xfrm rot="5400000">
              <a:off x="107280" y="4724640"/>
              <a:ext cx="3429000" cy="533160"/>
            </a:xfrm>
            <a:prstGeom prst="flowChartDelay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41600" y="40575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41600" y="51530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50960" y="58770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5680" y="3276720"/>
              <a:ext cx="48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609640" y="3276720"/>
            <a:ext cx="541080" cy="3429000"/>
            <a:chOff x="2609640" y="3276720"/>
            <a:chExt cx="541080" cy="3429000"/>
          </a:xfrm>
        </p:grpSpPr>
        <p:sp>
          <p:nvSpPr>
            <p:cNvPr id="189" name=""/>
            <p:cNvSpPr/>
            <p:nvPr/>
          </p:nvSpPr>
          <p:spPr>
            <a:xfrm rot="5400000">
              <a:off x="1169280" y="4724640"/>
              <a:ext cx="3429000" cy="533160"/>
            </a:xfrm>
            <a:prstGeom prst="flowChartDelay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25920" y="3676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25920" y="4800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35280" y="5533920"/>
              <a:ext cx="380880" cy="381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09640" y="3276720"/>
              <a:ext cx="48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673440" y="3276720"/>
            <a:ext cx="550440" cy="3429000"/>
            <a:chOff x="3673440" y="3276720"/>
            <a:chExt cx="550440" cy="3429000"/>
          </a:xfrm>
        </p:grpSpPr>
        <p:sp>
          <p:nvSpPr>
            <p:cNvPr id="195" name=""/>
            <p:cNvSpPr/>
            <p:nvPr/>
          </p:nvSpPr>
          <p:spPr>
            <a:xfrm rot="5400000">
              <a:off x="2242440" y="4724640"/>
              <a:ext cx="3429000" cy="533160"/>
            </a:xfrm>
            <a:prstGeom prst="flowChartDelay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89360" y="33242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89360" y="44197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99080" y="51530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73440" y="3276720"/>
              <a:ext cx="48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744800" y="3276720"/>
            <a:ext cx="541440" cy="3429000"/>
            <a:chOff x="4744800" y="3276720"/>
            <a:chExt cx="541440" cy="3429000"/>
          </a:xfrm>
        </p:grpSpPr>
        <p:sp>
          <p:nvSpPr>
            <p:cNvPr id="201" name=""/>
            <p:cNvSpPr/>
            <p:nvPr/>
          </p:nvSpPr>
          <p:spPr>
            <a:xfrm rot="5400000">
              <a:off x="3304800" y="4724280"/>
              <a:ext cx="3429000" cy="533520"/>
            </a:xfrm>
            <a:prstGeom prst="flowChartDelay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60720" y="33242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60720" y="40575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70080" y="4781520"/>
              <a:ext cx="381240" cy="380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44800" y="3276720"/>
              <a:ext cx="48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808600" y="3267000"/>
            <a:ext cx="550080" cy="3429000"/>
            <a:chOff x="5808600" y="3267000"/>
            <a:chExt cx="550080" cy="3429000"/>
          </a:xfrm>
        </p:grpSpPr>
        <p:sp>
          <p:nvSpPr>
            <p:cNvPr id="207" name=""/>
            <p:cNvSpPr/>
            <p:nvPr/>
          </p:nvSpPr>
          <p:spPr>
            <a:xfrm rot="5400000">
              <a:off x="4377600" y="4714920"/>
              <a:ext cx="3429000" cy="533160"/>
            </a:xfrm>
            <a:prstGeom prst="flowChartDelay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4520" y="3324240"/>
              <a:ext cx="380520" cy="380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24520" y="3695760"/>
              <a:ext cx="380520" cy="380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33880" y="44197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08600" y="3276720"/>
              <a:ext cx="48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81760" y="3276720"/>
            <a:ext cx="541440" cy="3429000"/>
            <a:chOff x="6881760" y="3276720"/>
            <a:chExt cx="541440" cy="3429000"/>
          </a:xfrm>
        </p:grpSpPr>
        <p:sp>
          <p:nvSpPr>
            <p:cNvPr id="213" name=""/>
            <p:cNvSpPr/>
            <p:nvPr/>
          </p:nvSpPr>
          <p:spPr>
            <a:xfrm rot="5400000">
              <a:off x="5441760" y="4724280"/>
              <a:ext cx="3429000" cy="533520"/>
            </a:xfrm>
            <a:prstGeom prst="flowChartDelay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97680" y="3333600"/>
              <a:ext cx="381240" cy="381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97680" y="3705120"/>
              <a:ext cx="381240" cy="381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07400" y="4076640"/>
              <a:ext cx="380880" cy="381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81760" y="3286080"/>
              <a:ext cx="48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2133720" y="3962160"/>
            <a:ext cx="457200" cy="152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133720" y="5105160"/>
            <a:ext cx="457200" cy="152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133720" y="5867280"/>
            <a:ext cx="457200" cy="152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200400" y="5486040"/>
            <a:ext cx="457200" cy="152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200400" y="4724280"/>
            <a:ext cx="457200" cy="152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200400" y="3581280"/>
            <a:ext cx="457200" cy="152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267080" y="4343040"/>
            <a:ext cx="457200" cy="152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267080" y="5105160"/>
            <a:ext cx="457200" cy="152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334120" y="4724280"/>
            <a:ext cx="457200" cy="152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334120" y="3962160"/>
            <a:ext cx="457200" cy="152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400800" y="4343040"/>
            <a:ext cx="457200" cy="152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2CD-A3E3-4F38-BA12-DAD0D4CE7A2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98024-1BFE-4CD8-922E-44763F5386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Sort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description of algorith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 each item in the input list,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sert” it into the correct place in the sorted output list generated so far.  Like so: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se linear or binary search to find the location where the new item should be inserted.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hen, shift the items from that position onwards down by one position. 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ut the new item in the hole remaining.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55C-064E-43EB-B626-42EBB6B7976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60DAC-6DDD-4A91-B24D-AD52539375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§2.1: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 of algorith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Max algorithm, primality-testing, linear search &amp; binary search algorithms.  Sor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ly we see that binary search is much faster than linear search, but how do we analyze the efficiency of algorithms formal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ethod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orithmic complex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utilize the order-of-growth concepts from §1.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4DC-79AF-4974-9D81-3645E0AAB52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2E843-1689-482E-BD2D-43A385C4C0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§2.1: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undation of computer program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st generally, a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lgorith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just means a definite procedure for performing some sort of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 computer 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program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is simply a description of an algorithm, in a language precise enough for a computer to understand, requiring only operations that the computer already knows how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e say that a program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mplement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(or “is an implementation of”) it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70A-673E-4E52-B8AD-E4A1754E6C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F568E-881B-4076-9BAF-8143F447FE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s You Already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-school arithmetic algorith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ow to add any two natural numbers written in decimal on paper, using carrie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imilar: Subtraction using borrowing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ultiplication &amp; long division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favorite cooking reci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register for classes at U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A8A-F303-4B54-82B2-603CEB050E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4FC5E-E3F4-416F-B165-105895C808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ming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mmon programming langu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wer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Java, C, C++, C#, Visual Basic, JavaScript, Perl, Tcl, Pascal, many others…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lder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Fortran, Cobol, Lisp, Basic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ssembly languages, for low-level coding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lass we will use an informal, Pascal-like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seudo-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know at least 1 real langua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ABC-1667-4BB8-9DA2-958A877B71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9D8B0-998C-4DFC-806C-A414DD990A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Example (Englis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n a sequence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ay what its largest element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algorithm for doing this, in Englis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t the value of a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emporary variabl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largest element seen so far) to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’s valu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ok at the next elemen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n the sequence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then re-assig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to the numbe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peat then previous 2 steps until there are no more elements in the sequence, &amp; retur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432-212A-41BF-976F-2F97D11EE6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0E4B4-A838-446B-9472-CCFEE90290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ing a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start up a piece of software, we say the program or its algorithm are be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ecu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the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description of an algorithm, you can also execute it by hand, by working through all of its steps with pencil &amp;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~1940, “computer” meant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ose job was to execute algorith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04D-CCE6-4794-A56D-81C488489E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7B0BE-0A08-488C-9FA5-E00A32151D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ing the Max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=7,12,3,15,8.   Find its maximu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next element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 Yes, so chan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next element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3&gt;12?  No, le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on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15&gt;12?  Y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5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AB8-95BC-4773-BB76-2342790D80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BF5AC-C8C8-498E-BFB2-00D31B2A2B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1-22T21:46:00Z</dcterms:modified>
  <cp:revision>47</cp:revision>
  <dc:subject>Discrete Mathematics</dc:subject>
  <dc:title>Slides for Rosen, 5th edition</dc:title>
</cp:coreProperties>
</file>