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CB36C3D-EEB2-4992-8B09-3B5CC5B27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7D1F3AC-321F-4070-B9B4-0797AF983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E6C-0710-4FE0-8C95-B07F9952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184-CDDF-4137-AD22-B4C530C5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7AD-475C-464B-A5F5-8A387FB8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B73-4C6D-4533-81C0-F8EE5FAB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C30-1936-402B-9059-D9CD8E1C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737-1345-4992-9F0E-8C344E9B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C51-B306-46DF-BFF8-9D4C5FD0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903-99EF-4864-9043-4C0A9448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EC2-F550-4C29-8C4B-0AABDC8C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167-E06B-455C-B0A2-9F73C0A4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C1B-5365-4DDB-99BE-581F41C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B6D-5A43-4306-A6FC-C4FFFAB6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3535-D9E6-43B3-B7DB-728CC167AD2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C67A-2D48-4651-B2A3-D8597048B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200" y="763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19 –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mpsonline.co.uk/gfx/dic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3C7-76ED-4598-85F2-AA327166C3F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9D1E9-2553-46A3-94DF-7A5936A419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ability: Frequentist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of an even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imit, a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fraction of times that we fi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the cou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dependent repetitions of (different instances of) the same e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oblems with this 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t is only well-defined for experiments that can be independently repeated, infinitely many times!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r at least, if the experiment can be repeated in principle,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e.g.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over some hypothetical ensemble of (say) alternate universe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t can never be measured exactly in finite time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ant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’s an objective, mathematical defin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388200" y="3240000"/>
                <a:ext cx="22986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:</m:t>
                    </m:r>
                    <m:r>
                      <m:t xml:space="preserve">≡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∈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95C-CAB1-4607-8D29-51D55C09CB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23575-62BF-4A85-8E21-1DED88121C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: Bayesian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a rational, profit-maximizing entit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ffered a choice between two rewa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nnin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$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f and only if the even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ctually occur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eiving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ollars (wher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0,1]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 unconditionally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onestly state that he is completely indifferent between these two rewards, then we say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robability fo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is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’s a subjective definition; depends on the reasone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his knowledge, beliefs, &amp; rati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ersion above additionally assumes that the utility of money is linear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is assumption can be avoided by using “utils” (utility units) instead of dollar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ECC-A71F-41FF-9086-E2C6D44577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49F29-744E-4056-AA49-29253676CF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: Laplacian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34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assume that all individual outcomes in the sample spac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ally lik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each ot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 that this term still needs an operational definition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the probability of any even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iven b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= 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/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ry simp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till needs a definition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ally lik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depends on the existenc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ite sample spa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ll outcomes i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, in fact, equally lik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B15-9811-48CE-847E-6861758950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37DD9-3FC0-46B9-8625-8CA1E2365E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ability: Axiomatic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00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total functi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[0,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∑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ability under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ny even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ju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ly mathematically well-defin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is definition can even be extended to apply to infinite sample spaces, by changin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∑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∫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and calling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bability density func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r a probability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s operational meaning unspecif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638680" y="3156120"/>
                <a:ext cx="274320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:</m:t>
                    </m:r>
                    <m:r>
                      <m:t xml:space="preserve">≡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91F-968E-4235-9BE9-3BFE245843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23F17-B4CD-437E-B7D6-E533247FD9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abilities of Mutual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ementary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event in a sample spac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nt, saying that the actual value o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 Pr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 = 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 Pr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is can be proved using the Laplacian definition of probability, sinc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 = 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/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 = (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−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)/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 = 1 − 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/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 = 1 − Pr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Other definitions can also be used to prove it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95560" y="268596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376236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477216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478476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260-426A-4F98-8C19-FAF59B5EFB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B04CB-D93B-4F4F-9A17-0BCA2300F2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vs. Od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have heard the term “odd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t is widely used in the gambling community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not the same thing as probabil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, it is very closely related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dds in fav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even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d with its complemen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 Pr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/Pr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i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0.6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h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0.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0.6/0.4 = 1.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ds are conventionally written as a ratio of inte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/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: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 above example.  “Three to two in favor.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ds agai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mean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/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2 to 3 again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21956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14960" y="467676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3809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990720"/>
            <a:ext cx="2006640" cy="22885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odds in fav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90A-E4C5-4BE8-94B3-38F00781E6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953C7-FFB4-4E77-8733-155816E026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: Balls-and-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an urn contains 4 blue balls and 5 red b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men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ke up the urn, reach in (without looking) and pull out a 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dom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Identity of the chosen 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p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set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this case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{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“The ball chosen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”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______________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odds in fav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robabilit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Use Laplacian def’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6019560" y="3429000"/>
            <a:ext cx="2438280" cy="2438280"/>
          </a:xfrm>
          <a:prstGeom prst="flowChartDelay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525780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51814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44956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24680" y="46483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4724280"/>
            <a:ext cx="457200" cy="457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4876920"/>
            <a:ext cx="457200" cy="457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4876920"/>
            <a:ext cx="457200" cy="457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4343400"/>
            <a:ext cx="457200" cy="457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5334120"/>
            <a:ext cx="457200" cy="457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04160" y="4343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71080" y="4495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80480" y="4857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61360" y="5210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85360" y="48387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13960" y="52959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9800" y="46767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2080" y="51339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52040" y="4619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D06-E71C-4585-9E79-89FA27F8BE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E1FF3-CB57-44C0-84CB-A3EDE2A9A3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: Seven on Two 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erimen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ll a pair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r (unweighted) 6-sided d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cribe a sample space for this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ment that fits the Laplacian defin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Using this sample space, represent an event </a:t>
            </a:r>
            <a:r>
              <a:rPr b="0" i="1" lang="en-US" sz="3200" spc="-1" strike="noStrike">
                <a:solidFill>
                  <a:srgbClr val="80008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expressing that “the upper spots sum to 7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What is the probability of </a:t>
            </a:r>
            <a:r>
              <a:rPr b="0" i="1" lang="en-US" sz="3200" spc="-1" strike="noStrike">
                <a:solidFill>
                  <a:srgbClr val="006699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057400"/>
            <a:ext cx="1981440" cy="139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73B-37D2-494C-B121-63424888BD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49CCC-278D-4797-9444-BDD443BFA1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Unions of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we hav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 = Pr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 + Pr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 Pr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 the inclusion-exclusion principle, together with the Laplacian definition of probability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be able to easily flesh out the proof yourself at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59D-E443-4044-ADD5-28A2F222FB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19CE1-ECDF-4B12-B581-6101D110D7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ually Exclusiv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v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tually exclu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y are disjoint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te that two mutually exclusive event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annot both occu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n the same instance of a given experimen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utually exclusive event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 = Pr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 + Pr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llows from the sum rule of combinatoric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FDA-460D-445C-9B0B-5CA2F31EB0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D5DCA-AC9B-4507-AFE4-CA4D86E087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19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ch. 5 (§§5.1-5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26 slides, ~1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8D4-D32C-4138-B745-3CC428CD2A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50A02-A7F4-4BBB-9C21-C0DF3DD03B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haustive Sets of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…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events in the sample sp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haus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       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haustive s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events that are all mutually exclusive with each other has the property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should be able to easily prove this theorem, using either the Laplacian or Axiomatic definitions of probability from earl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715000" y="2438280"/>
                <a:ext cx="14479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29000" y="3898800"/>
                <a:ext cx="19224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3BB-25D1-4C6F-912E-D3F0C89012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A3A55-60EE-4DE3-8B00-22853C29AF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v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 = Pr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Pr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s to the product rule for the number of ways of doing two independent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ample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Flip a coin, and roll a d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[(coin shows heads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(die shows 1)] =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[coin is heads]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Pr[die is 1] = ½×1/6 =1/1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595-7822-4F70-B790-C1DA535ADBB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A1BCA-EA95-4575-9281-99E2177992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events such tha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&gt;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al prob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defined 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/Pr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at our probability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turn out to occur should be, if we are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ormation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dependent the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= Pr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T Extra"/>
                <a:ea typeface="MT Extra"/>
              </a:rPr>
              <a:t>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] = Pr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]/Pr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] = Pr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Pr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]/Pr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] = Pr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80F-92DC-4FD6-AB4B-8FF9F734AD5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A7500-8D7F-4D87-AF35-D8716C4D6A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 and Posterior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at, before you are given any information about the outcome of an experiment, your personal probability for an even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occur i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= Pr[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probability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n your original probability distributio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called 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o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robability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his is its probability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rior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o obtaining any information about the outcome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suppose someone tells you that some even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hich may overlap wit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ctually occurred in the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n, you shoul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your personal probability for even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to occur, to become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Pr[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 =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∩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/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he conditional probability of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given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probability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 you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w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robability distributio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called 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sterio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robability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his is its probability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fter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learning that event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occurred. 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seeing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posterior distribu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ed by letting 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{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∩F)/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individual outcom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283-DF5F-4143-9AD1-255097E782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D0314-AB54-4C81-90D1-DEC2D335F2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sualizing Conditional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are given that even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ur attention gets restricted to the subspa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ur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osterior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probability fo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(after see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rresponds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 the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raction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whe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ccurs al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=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∩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/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352680"/>
            <a:ext cx="4648320" cy="29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09880"/>
            <a:ext cx="2819520" cy="2438640"/>
          </a:xfrm>
          <a:prstGeom prst="ellipse">
            <a:avLst/>
          </a:pr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962520"/>
            <a:ext cx="2590920" cy="2286000"/>
          </a:xfrm>
          <a:prstGeom prst="ellipse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5360" y="4648320"/>
            <a:ext cx="77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312-054C-47D7-B466-AA8ED14145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39487-E0BE-4F86-9538-D6868C194E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I choose a single letter out of the 26-letter English alphabet, totally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se the Laplacian assumption on the sample space {a,b,..,z}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at is the (prior) probability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at the letter is a vowel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[Vowel] = __ / __ 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suppose I tell you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 chosen happened to be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9 letters of the alphab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w, what is the conditional (o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osterior) probability that the letter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s a vowel, given this information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[Vowel | First9] = ___ / ___ 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3809880"/>
            <a:ext cx="297180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4114800"/>
            <a:ext cx="1219320" cy="1371600"/>
          </a:xfrm>
          <a:prstGeom prst="ellipse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2840" y="3990960"/>
            <a:ext cx="1828800" cy="1600200"/>
          </a:xfrm>
          <a:prstGeom prst="ellipse">
            <a:avLst/>
          </a:pr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Probabilit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59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348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2600" y="4038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208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4520" y="464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5240" y="4572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406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98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5560" y="4952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1880" y="5410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45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5760" y="5029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3480" y="5486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908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90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33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980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8200" y="5029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5760" y="4191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31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8348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66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92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92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620120" y="3505320"/>
            <a:ext cx="304560" cy="6094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2720" y="2886120"/>
            <a:ext cx="929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cc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9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3429000"/>
            <a:ext cx="763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4160" y="30481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ow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9320" y="5867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D0A-0BF6-4986-984E-21503FDB89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41712-CC0F-49D6-A4B6-65A803A961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’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305920" cy="4648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ay to compute the probability that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rrect, given some dat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ollows directly from the definition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al probability!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ercise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Prove it at hom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ule is the found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yesian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probabilistic reasoning, which are very powerful, and widely used in artificial intelligence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data mining, automated diagnosis, pattern recognition, statistical modeling, even evaluating scientific hypothese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00200" y="2666880"/>
                <a:ext cx="41911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t xml:space="preserve">D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62920" y="1143000"/>
            <a:ext cx="1847880" cy="1981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7052760" y="3143160"/>
            <a:ext cx="2020320" cy="6426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. Thomas Bay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02-17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696-A855-4B43-9775-C45954849DA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8CE8B-5F17-42AF-A9A1-E55AA78B5D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ctation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5029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ing a numeric domain, it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ectation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ected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eighted average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arithmetic) mean valu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nder the probability distributio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defined 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“expected value” is very widely used for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ut this term is somewhat misleading, since the “expected” value might itself be totally unexpected, or even impossible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E.g.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i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0)=0.5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2)=0.5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the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[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=1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even though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)=0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nd so we know tha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1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Or, i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0)=0.5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)=0.5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the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[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=0.5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even i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is an integer variable!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971800"/>
                <a:ext cx="693396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: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: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:</m:t>
                    </m:r>
                    <m:r>
                      <m:t xml:space="preserve">≡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dom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sub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AB3-A7E7-4BFE-BDEC-CB8CA32CE50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825BD-C2B9-4B59-87FD-A497023BC8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ed Random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sample space over values of a random variabl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presenting possible outcomes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any functi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be considered to be a random variable (whose actual valu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rived from the actual value o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ang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ang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eric, then the mean valu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still be defined,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590920" y="5248440"/>
                <a:ext cx="3581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CF4-99C6-4ABB-AE65-748229B943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66E4F-2828-4349-82DF-EEC3DEC238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ity of Expectation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y two random variables derived from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ample spac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subject to the same underlying distribu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we have the following theor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+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be able to easily prove these for yourself at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663-3011-4CBD-960C-FE1E12C4AF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CC18B-856A-483C-996B-1F9EB6BD4A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real world, we often don’t know whether a given proposition is true or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ility theory gives us a way to reason about propositions whose truth i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uncertai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t is useful in weighing evidence, diagnosing problems, and analyzing situations whose exact details are un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832-A8F4-4357-9A74-F79BAC2561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901DA-CE35-4DA2-B852-6D0E0C93D5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ce &amp; Standard Dev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a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= </a:t>
            </a:r>
            <a:r>
              <a:rPr b="0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andom variabl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expected value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difference between the value o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ts expectation valu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-mean-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MS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:≡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913040" y="3936960"/>
                <a:ext cx="50133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:</m:t>
                    </m:r>
                    <m:r>
                      <m:t xml:space="preserve">≡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803-35C2-4A1E-BE9E-6703CB2F56C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4DED7-0C0B-4BDB-B7A0-EB4AF5ED6E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648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probability distributi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a sample spa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outcomes is a measure of ou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gree of uncertain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ut the actual outc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t measures the expected amount of increase in our known information that would result from learning the outcom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e of the logarithm gives the corresponding unit of entropy; base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1 bit,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1 nat (as bef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 nat is also known as “Boltzmann’s constant”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&amp; as the “ideal gas constant”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and was first discovered physicall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173240" y="3768840"/>
                <a:ext cx="6796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BC3-EEEF-4FF9-BE12-D10C12D11BC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CB30B-BD45-4E8B-95EA-4C865A233D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04920" y="1419120"/>
          <a:ext cx="8458200" cy="528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19120"/>
                    <a:ext cx="845820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76212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izing Entr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E80-AAB1-43ED-8090-A5C6BBF25B2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E5470-B893-4BCD-908F-9969FE9295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dom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95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random variabl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y variable whose value is unknown, or whose value depends on the precise sit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he number of students in class today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ther it will rain tonight (Boolean variable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the domai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inite domains can also be dealt with if needed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ositi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have an uncertain truth value, and may be assigned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1E0-5B56-4BBF-A97C-7942B77E1D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1F5AD-33B9-4B71-8CE4-2F154EFA62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formation capa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andom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finite domain can be defined as the logarithm (with indeterminate base) of the size of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log |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log’s base determines the associated information unit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aking the log base 2 yields an information unit of 1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bit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 = log 2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Related units include the </a:t>
            </a:r>
            <a:r>
              <a:rPr b="0" i="1" lang="en-US" sz="1800" spc="-1" strike="noStrike">
                <a:solidFill>
                  <a:srgbClr val="800080"/>
                </a:solidFill>
                <a:latin typeface="Times New Roman"/>
              </a:rPr>
              <a:t>nybble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 = 4 b = log 16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 (1 hexadecimal digit),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and more famously, the </a:t>
            </a:r>
            <a:r>
              <a:rPr b="0" i="1" lang="en-US" sz="1800" spc="-1" strike="noStrike">
                <a:solidFill>
                  <a:srgbClr val="800080"/>
                </a:solidFill>
                <a:latin typeface="Times New Roman"/>
              </a:rPr>
              <a:t>byte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 = 8 b = log 256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ther common logarithmic units that can be used as units of information: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the </a:t>
            </a:r>
            <a:r>
              <a:rPr b="0" i="1" lang="en-US" sz="1800" spc="-1" strike="noStrike">
                <a:solidFill>
                  <a:srgbClr val="800080"/>
                </a:solidFill>
                <a:latin typeface="Times New Roman"/>
              </a:rPr>
              <a:t>nat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, or </a:t>
            </a:r>
            <a:r>
              <a:rPr b="0" i="1" lang="en-US" sz="1800" spc="-1" strike="noStrike">
                <a:solidFill>
                  <a:srgbClr val="800080"/>
                </a:solidFill>
                <a:latin typeface="Times New Roman"/>
              </a:rPr>
              <a:t>e-fold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 = log e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Times New Roman"/>
              </a:rPr>
              <a:t>widely known in thermodynamics as </a:t>
            </a:r>
            <a:r>
              <a:rPr b="0" i="1" lang="en-US" sz="1800" spc="-1" strike="noStrike">
                <a:solidFill>
                  <a:srgbClr val="008080"/>
                </a:solidFill>
                <a:latin typeface="Times New Roman"/>
              </a:rPr>
              <a:t>Boltzmann’s constant k</a:t>
            </a:r>
            <a:r>
              <a:rPr b="0" lang="en-US" sz="1800" spc="-1" strike="noStrike">
                <a:solidFill>
                  <a:srgbClr val="008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808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the </a:t>
            </a:r>
            <a:r>
              <a:rPr b="0" i="1" lang="en-US" sz="1800" spc="-1" strike="noStrike">
                <a:solidFill>
                  <a:srgbClr val="800080"/>
                </a:solidFill>
                <a:latin typeface="Times New Roman"/>
              </a:rPr>
              <a:t>bel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800080"/>
                </a:solidFill>
                <a:latin typeface="Times New Roman"/>
              </a:rPr>
              <a:t>decade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800080"/>
                </a:solidFill>
                <a:latin typeface="Times New Roman"/>
              </a:rPr>
              <a:t>order of magnitude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 = log 10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),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and the </a:t>
            </a:r>
            <a:r>
              <a:rPr b="0" i="1" lang="en-US" sz="1800" spc="-1" strike="noStrike">
                <a:solidFill>
                  <a:srgbClr val="800080"/>
                </a:solidFill>
                <a:latin typeface="Times New Roman"/>
              </a:rPr>
              <a:t>decibel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 or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B = D/10 = (log 10)/1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≈ log 1.2589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8-bit register ha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56 possible valu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ts information capacity is thus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g 256 = 8 log 2 = 8 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B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og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56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5.545 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og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56 = 2.408 D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4.08 dB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DE8-6831-4F23-8946-F4A1832675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2110F-2D40-40D4-8694-DC35F84077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s &amp; Sample 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(stochastic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y process by which a given random variabl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ts assigned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, and where this value is not necessarily known in adv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 call it the “actual” value of the variable, as determined by that particular experimen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ple 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experiment is ju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omain of the random variable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dom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experiment is the specific valu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random variable that is se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706-C30A-4D91-98B7-56E21C8D48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53437-17B3-4850-8A5F-5E5715365C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y set of possible outcomes i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 is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.g., the event that “less than 50 people show up for our next class” is represented as the se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{1, 2, …, 49}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of values of the variable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= (# of people here next class)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ay that even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the actual value o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may be writte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 tha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notes the proposition (of uncertain truth) asserting that the actual outcome (value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 will be one of the outcomes in the se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F1F-D04D-4117-BD9E-7E74E3E34C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E6881-3292-4489-AFDD-4410D10EF1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 Pr[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[0,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ev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al number representing our degree of certainty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occ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] = 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absolutely certain to occur,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us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has the truth valu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] = 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absolutely certai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occur,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us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has the truth valu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[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]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½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then we ar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ximally uncerta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bout whethe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will occur; that is,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re considered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equally likel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do we interpret other values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5807160"/>
            <a:ext cx="4800600" cy="6426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ould also define probabilities for more general propositions, as well as ev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9E0-2688-424A-868A-B62F4C6EAE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6C593-0CD8-4E4C-AD1D-F6874706D0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 Definitions of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alternative definitions of probability are commonly encount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equentist, Bayesian, Laplacian, Axiomatic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have different strengths &amp; weaknesses, philosophically spea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t fortunately, they coincide with each other and work well together, in the majority of cases that are typically encountered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C46-CC0C-4901-9EF0-EB796D81DB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26111-E182-4066-B842-DB4D4A9635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3-17T19:30:06Z</dcterms:modified>
  <cp:revision>63</cp:revision>
  <dc:subject>Discrete Mathematics</dc:subject>
  <dc:title>Slides for Rosen, 5th edition</dc:title>
</cp:coreProperties>
</file>