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0480" cy="474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62520" y="-360"/>
            <a:ext cx="3030480" cy="474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2F2532B-0CB9-466C-BE27-7E0AEBB441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72880" y="71280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92640"/>
            <a:ext cx="3030480" cy="476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62520" y="8792640"/>
            <a:ext cx="3030480" cy="476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8D84A34-43F2-461F-8A80-48CD6987A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73240" y="71280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31680" y="4436640"/>
            <a:ext cx="5128920" cy="4119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about organization: Since different courses have different lengths of lecture periods, and different instructors go at different paces, rather than dividing the material up into fixed-length lectures, we will divide it up into “modules” which correspond to major topic areas and will generally take 1-3 lectures to cover.  Within modules, we have smaller “topics”.  Within topics are individual sl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B759-F7C0-4944-AE40-17A608BDA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705B-3C94-4830-8BDF-821D38F1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7F86-CB5E-41A8-953C-81107D915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2B52-97A5-418A-8B49-F9FB9F3CF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47BF-89F8-4383-A440-17DF8FDA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1B6B-FA09-4F9A-8AA4-24FAF6EE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10EB-10EC-4C2C-B633-4A379C4D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652A-3371-4B20-86FE-D21C21AD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E61C-E73E-46F2-B327-85A5808F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DF72-877C-416F-882F-304FC126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5FED-A3D5-4080-9F2C-97A53D0B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979E-6D0E-484E-BB51-37341BBC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9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B04F-A2D6-4641-95DA-48940833748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60ED-33E9-49FF-B61C-6EC7D477D9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9840" y="76320"/>
            <a:ext cx="34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dule #23 – Boolean 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6933960" cy="25146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Florid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t. of Computer &amp; Information Science &amp; Engineering</a:t>
            </a:r>
            <a:br>
              <a:rPr sz="2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T 3100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lications of Discrete Structures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Michael P. Fr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ides for a Course Based on the Text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iscrete Mathematics &amp; Its Applic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dition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Kenneth H. Ro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2E2C-1D06-4921-90ED-B5D97F59498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7BD35C-6BEB-46AA-9BED-924093BF64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oolean equivalents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perations on Boolean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Boolean expressio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represent the exac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quivalent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rit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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r jus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mplicitly, the two expressions have the same value for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values of the free variables appearing i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perator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be extended from operating on expressions to operating on the functions that they represent, in the obvious 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7635-21F4-47C4-ABF1-5AA217EC948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EF165-CFF9-49BB-BC30-E5FF7D89F4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popular Boolean ident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compl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mpotent la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       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ty la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+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       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·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ination la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+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       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·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tative la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  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·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·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ive la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+ (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 = (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 (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·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 = (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 ·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ve la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(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·(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· (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y + x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Morgan’s la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x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 (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·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y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rption la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 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· (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72960" y="3581280"/>
            <a:ext cx="1570320" cy="119124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←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tr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rdina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eb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47760" y="2581200"/>
            <a:ext cx="1522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47760" y="2533680"/>
            <a:ext cx="1522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48440" y="4848120"/>
            <a:ext cx="53316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81680" y="4848120"/>
            <a:ext cx="60984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48360" y="4905360"/>
            <a:ext cx="1522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48320" y="4905360"/>
            <a:ext cx="15264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77000" y="4905360"/>
            <a:ext cx="15264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72560" y="4905360"/>
            <a:ext cx="1522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8001000" y="4723560"/>
            <a:ext cx="914400" cy="1143000"/>
          </a:xfrm>
          <a:custGeom>
            <a:avLst/>
            <a:gdLst>
              <a:gd name="textAreaLeft" fmla="*/ 360 w 914400"/>
              <a:gd name="textAreaRight" fmla="*/ 915120 w 914400"/>
              <a:gd name="textAreaTop" fmla="*/ -360 h 1143000"/>
              <a:gd name="textAreaBottom" fmla="*/ 1143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60" stAng="10800000" swAng="5400000"/>
                <a:lnTo>
                  <a:pt x="12427" y="3900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8258"/>
                </a:lnTo>
                <a:lnTo>
                  <a:pt x="12427" y="8258"/>
                </a:lnTo>
                <a:arcTo wR="8069" hR="3902" stAng="16200000" swAng="-5400000"/>
                <a:lnTo>
                  <a:pt x="4358" y="21600"/>
                </a:lnTo>
                <a:close/>
              </a:path>
            </a:pathLst>
          </a:cu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240" y="6058080"/>
            <a:ext cx="79459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, the Unit Property: 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and Zero Property: 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4800600"/>
            <a:ext cx="1676520" cy="533520"/>
          </a:xfrm>
          <a:prstGeom prst="ellipse">
            <a:avLst/>
          </a:prstGeom>
          <a:noFill/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3200400"/>
            <a:ext cx="1676520" cy="533520"/>
          </a:xfrm>
          <a:prstGeom prst="ellipse">
            <a:avLst/>
          </a:prstGeom>
          <a:noFill/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3200400"/>
            <a:ext cx="1676520" cy="533520"/>
          </a:xfrm>
          <a:prstGeom prst="ellipse">
            <a:avLst/>
          </a:prstGeom>
          <a:noFill/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3581280"/>
            <a:ext cx="2590560" cy="457200"/>
          </a:xfrm>
          <a:prstGeom prst="ellipse">
            <a:avLst/>
          </a:prstGeom>
          <a:noFill/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5562720"/>
            <a:ext cx="3276360" cy="457200"/>
          </a:xfrm>
          <a:prstGeom prst="ellipse">
            <a:avLst/>
          </a:prstGeom>
          <a:noFill/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62485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72400" y="62485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C39C-7BB7-4C27-88D4-E7357F245160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350477-EF4D-456F-AC5A-68330E7603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Boolean expressio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ing functio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btained by exchanging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function represented by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s denote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ality principl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f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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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xample: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The equivalenc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mplies (and is implied by)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y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9DF1-AF8A-4873-9E49-ADC1C700F45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5E3A58-9549-4592-8CE5-D4EE646490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olean Algebra, in the abstr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ener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oolean algebr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ing element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wo binary operators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unary operator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satisfies the following la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ty laws:  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lement laws: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ociative laws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mutative laws: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ributive laws: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 = 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          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=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9240" y="5562720"/>
            <a:ext cx="3800880" cy="9169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 tha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ay generally have 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ements beside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and we have no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y defined any of the operator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DEF9-C8D2-4FDB-AD62-4700DAE92CA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A551F6-C16E-4139-92E2-B73DFB37FA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about Boolean algeb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oolean algebra can be proven to satisfy all the theorems of “ordinary” Boolean algebr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xample of another Boolean algeb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ny set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let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2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and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¯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(set complement)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Then,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is a Boolean algebra!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lean algebras can also be defined in term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tti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chapter 7, though we skipped i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poset where every pair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has a lub and a glb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complemented, distributed lattice is a Boolean alg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2225-8735-491C-89E3-9E519CC22FE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9BCC1E-5F90-48D3-BE35-89A1D8C5A5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10.2 – Representing Boolean Fun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-of-products Expa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.k.a. Disjunctive Normal Form (DNF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-of-sums Expa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.k.a. Conjunctive Normal Form (CNF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Complet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inimal functionally complete sets of operators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8A11-4FA8-4520-BD76-D765ACD53A2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DEF8EC-E89F-4333-A71B-255F2CA077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-of-Products Expan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ny Boolean function can be represented as a sum of products of variables and their comp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of: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By construction from the function’s truth table.  For each row that is 1, include a term in the sum that is a product representing the condition that the variables have the values given for that row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98600" y="5832360"/>
            <a:ext cx="4027320" cy="459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 an example on the 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ED9A-347E-4D0B-AD8F-CF8FA0B9D4E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A5AE1C-1281-45AE-B111-C22E3EA786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erals, Minterms, D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iter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Boolean variable or its comp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inte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Boolean variable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…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Boolean product of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teral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i="1" lang="en-US" sz="2800" spc="-1" strike="noStrike" u="sng" baseline="-25000">
                <a:solidFill>
                  <a:srgbClr val="ff0000"/>
                </a:solidFill>
                <a:uFillTx/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ither the literal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its complemen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 that at most one minterm can have the value 1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sjunctive normal 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DNF) of a degree-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oolean function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unique sum of minterms of the variable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…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represent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.k.a. the sum-of-products expansion of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00800" y="3400560"/>
            <a:ext cx="304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4DF1-AD28-4C09-BE8E-63A9AE7F816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DAF7A5-BC06-441D-B77B-64043753A5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junctive Normal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te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um of liter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NF i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-of-maxter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pres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the CNF representation for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the DNF representation for complement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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∑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∏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y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j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then complement both sides &amp; apply DeMorgan’s laws to g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∏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∑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j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81440" y="5181480"/>
            <a:ext cx="3061080" cy="1191240"/>
          </a:xfrm>
          <a:prstGeom prst="rect">
            <a:avLst/>
          </a:prstGeom>
          <a:solidFill>
            <a:srgbClr val="ffff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so get CNF mo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ly, using the 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ws of the truth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1AB7-7020-46CD-A5C2-E04B2E50DFD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151047-8195-4981-B5FF-3FB3AA8D40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Complet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every Boolean function can be expressed in terms of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e say that the set of operator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{·,+,¯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ly comple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smaller sets of operators that are also functionally comple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e can eliminate eithe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·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o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using DeMorgan’s law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N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NOR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also functionally complete, each by itself (as a singleton se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.g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and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|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DB5D-441F-451A-A50D-9DB4221F001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C0E133-4701-4199-BB28-A705EE3024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ule #23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oolean Algeb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218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sen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., ch.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19 slides (under const.), ~1 l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703E-EEA2-41D9-AB3D-5F1C49892E3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1A82E2-EA7B-4F01-A039-76C978D070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ersible Boolean Log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vers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oolean function of degre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bijective function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↔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lso corresponds to a permutation of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ersible unary and binary Boolean operators are bijective operators on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nary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↔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binary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↔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t turns out that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o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set of reversible unary and binary Boolean operators is functionally complete!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owever, there are many ternary reversible operators that are functionally complete, even as singletons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18F7-0E55-421F-8279-06130F5E6B7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848F47-80AE-4516-B500-564781F6D0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ittle Quantum Log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antum Boolean fun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bijective and linear function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 Unicode MS"/>
                <a:ea typeface="Arial Unicode MS"/>
              </a:rPr>
              <a:t>ⁿ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↔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 Unicode MS"/>
                <a:ea typeface="Arial Unicode MS"/>
              </a:rPr>
              <a:t>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That is, it maps vectors o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2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  <a:ea typeface="Arial Unicode MS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complex numbers (one for each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-bit string of Boolean values) reversibly and linearly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Any reversible Boolean function corresponds to a quantum Boolean function where a string i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B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  <a:ea typeface="Arial Unicode MS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is represented by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=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for that string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=0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for all others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ny quantum Boolean function can be built ou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quantum operato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operating on jus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Quantization removes the need for ternary gates!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8060-F276-4DB3-AF4F-91A0FFCF404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7636F3-5A67-41E7-81F0-B045B89C5A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.3 – Logic G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ter, Or, And gate symbo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input g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 circuits and exa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rs, “half,” “full,”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94E7-2FD0-4094-876E-1BFF1C17CD6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C4A3CB-5AD0-43C1-A097-7948BB459A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 Gate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ter (logical NOT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lean complemen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gate (Boolea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gate (Boolean su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OR gate (exclusive-OR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 mod 2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6354360" y="2124000"/>
            <a:ext cx="762120" cy="91440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92800" y="2505240"/>
            <a:ext cx="152640" cy="15228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744880" y="25812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7345080" y="25812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40280" y="196524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99520" y="2124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3200400"/>
            <a:ext cx="990360" cy="609480"/>
          </a:xfrm>
          <a:custGeom>
            <a:avLst/>
            <a:gdLst/>
            <a:ahLst/>
            <a:rect l="l" t="t" r="r" b="b"/>
            <a:pathLst>
              <a:path w="484" h="340">
                <a:moveTo>
                  <a:pt x="2" y="0"/>
                </a:moveTo>
                <a:cubicBezTo>
                  <a:pt x="173" y="0"/>
                  <a:pt x="120" y="2"/>
                  <a:pt x="290" y="2"/>
                </a:cubicBezTo>
                <a:cubicBezTo>
                  <a:pt x="388" y="2"/>
                  <a:pt x="476" y="48"/>
                  <a:pt x="484" y="172"/>
                </a:cubicBezTo>
                <a:cubicBezTo>
                  <a:pt x="480" y="280"/>
                  <a:pt x="396" y="340"/>
                  <a:pt x="292" y="337"/>
                </a:cubicBezTo>
                <a:cubicBezTo>
                  <a:pt x="188" y="334"/>
                  <a:pt x="147" y="338"/>
                  <a:pt x="0" y="338"/>
                </a:cubicBezTo>
                <a:cubicBezTo>
                  <a:pt x="0" y="226"/>
                  <a:pt x="2" y="142"/>
                  <a:pt x="2" y="0"/>
                </a:cubicBezTo>
                <a:close/>
              </a:path>
            </a:pathLst>
          </a:custGeom>
          <a:solidFill>
            <a:srgbClr val="ff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36576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7389720" y="2085840"/>
                <a:ext cx="45900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5837040" y="28638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08600" y="34592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238880" y="35053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88920" y="2895480"/>
            <a:ext cx="7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4191120"/>
            <a:ext cx="1120680" cy="701640"/>
          </a:xfrm>
          <a:custGeom>
            <a:avLst/>
            <a:gdLst/>
            <a:ahLst/>
            <a:rect l="l" t="t" r="r" b="b"/>
            <a:pathLst>
              <a:path w="706" h="442">
                <a:moveTo>
                  <a:pt x="126" y="224"/>
                </a:moveTo>
                <a:cubicBezTo>
                  <a:pt x="122" y="134"/>
                  <a:pt x="60" y="86"/>
                  <a:pt x="0" y="4"/>
                </a:cubicBezTo>
                <a:cubicBezTo>
                  <a:pt x="192" y="4"/>
                  <a:pt x="284" y="0"/>
                  <a:pt x="416" y="6"/>
                </a:cubicBezTo>
                <a:cubicBezTo>
                  <a:pt x="548" y="8"/>
                  <a:pt x="652" y="128"/>
                  <a:pt x="706" y="216"/>
                </a:cubicBezTo>
                <a:cubicBezTo>
                  <a:pt x="668" y="296"/>
                  <a:pt x="568" y="426"/>
                  <a:pt x="426" y="432"/>
                </a:cubicBezTo>
                <a:cubicBezTo>
                  <a:pt x="268" y="442"/>
                  <a:pt x="72" y="442"/>
                  <a:pt x="2" y="440"/>
                </a:cubicBezTo>
                <a:cubicBezTo>
                  <a:pt x="78" y="368"/>
                  <a:pt x="130" y="314"/>
                  <a:pt x="126" y="224"/>
                </a:cubicBezTo>
                <a:close/>
              </a:path>
            </a:pathLst>
          </a:custGeom>
          <a:solidFill>
            <a:srgbClr val="ff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38680" y="437184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57760" y="46864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37040" y="38862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08600" y="44816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81800" y="45244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44360" y="3894120"/>
            <a:ext cx="8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+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48520" y="5226120"/>
            <a:ext cx="1120680" cy="701640"/>
          </a:xfrm>
          <a:custGeom>
            <a:avLst/>
            <a:gdLst/>
            <a:ahLst/>
            <a:rect l="l" t="t" r="r" b="b"/>
            <a:pathLst>
              <a:path w="706" h="442">
                <a:moveTo>
                  <a:pt x="126" y="224"/>
                </a:moveTo>
                <a:cubicBezTo>
                  <a:pt x="122" y="134"/>
                  <a:pt x="60" y="86"/>
                  <a:pt x="0" y="4"/>
                </a:cubicBezTo>
                <a:cubicBezTo>
                  <a:pt x="192" y="4"/>
                  <a:pt x="284" y="0"/>
                  <a:pt x="416" y="6"/>
                </a:cubicBezTo>
                <a:cubicBezTo>
                  <a:pt x="548" y="8"/>
                  <a:pt x="652" y="128"/>
                  <a:pt x="706" y="216"/>
                </a:cubicBezTo>
                <a:cubicBezTo>
                  <a:pt x="668" y="296"/>
                  <a:pt x="568" y="426"/>
                  <a:pt x="426" y="432"/>
                </a:cubicBezTo>
                <a:cubicBezTo>
                  <a:pt x="268" y="442"/>
                  <a:pt x="72" y="442"/>
                  <a:pt x="2" y="440"/>
                </a:cubicBezTo>
                <a:cubicBezTo>
                  <a:pt x="78" y="368"/>
                  <a:pt x="130" y="314"/>
                  <a:pt x="126" y="224"/>
                </a:cubicBezTo>
                <a:close/>
              </a:path>
            </a:pathLst>
          </a:custGeom>
          <a:solidFill>
            <a:srgbClr val="ff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86400" y="5410080"/>
            <a:ext cx="787320" cy="1800"/>
          </a:xfrm>
          <a:custGeom>
            <a:avLst/>
            <a:gdLst/>
            <a:ahLst/>
            <a:rect l="l" t="t" r="r" b="b"/>
            <a:pathLst>
              <a:path w="496" h="1">
                <a:moveTo>
                  <a:pt x="0" y="0"/>
                </a:moveTo>
                <a:lnTo>
                  <a:pt x="49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86400" y="5721480"/>
            <a:ext cx="828720" cy="1440"/>
          </a:xfrm>
          <a:custGeom>
            <a:avLst/>
            <a:gdLst/>
            <a:ahLst/>
            <a:rect l="l" t="t" r="r" b="b"/>
            <a:pathLst>
              <a:path w="522" h="1">
                <a:moveTo>
                  <a:pt x="0" y="0"/>
                </a:moveTo>
                <a:lnTo>
                  <a:pt x="522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16440" y="55166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81800" y="55594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40120" y="49068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46640" y="5254560"/>
            <a:ext cx="228600" cy="660600"/>
          </a:xfrm>
          <a:custGeom>
            <a:avLst/>
            <a:gdLst/>
            <a:ahLst/>
            <a:rect l="l" t="t" r="r" b="b"/>
            <a:pathLst>
              <a:path w="144" h="416">
                <a:moveTo>
                  <a:pt x="8" y="0"/>
                </a:moveTo>
                <a:cubicBezTo>
                  <a:pt x="31" y="35"/>
                  <a:pt x="143" y="139"/>
                  <a:pt x="142" y="208"/>
                </a:cubicBezTo>
                <a:cubicBezTo>
                  <a:pt x="144" y="300"/>
                  <a:pt x="24" y="381"/>
                  <a:pt x="0" y="41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56240" y="4957920"/>
            <a:ext cx="9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⊕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4258-657C-49D0-B2E5-C1C9FD477D9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1EA3AC-AB07-43C9-B386-F06F04D55D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input AND, OR, X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extend the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es to arbitraril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inpu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commonl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n drawing sty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ote that the second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yle keeps the gate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con relatively small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2362320"/>
            <a:ext cx="1295280" cy="914400"/>
          </a:xfrm>
          <a:custGeom>
            <a:avLst/>
            <a:gdLst/>
            <a:ahLst/>
            <a:rect l="l" t="t" r="r" b="b"/>
            <a:pathLst>
              <a:path w="484" h="340">
                <a:moveTo>
                  <a:pt x="2" y="0"/>
                </a:moveTo>
                <a:cubicBezTo>
                  <a:pt x="173" y="0"/>
                  <a:pt x="120" y="2"/>
                  <a:pt x="290" y="2"/>
                </a:cubicBezTo>
                <a:cubicBezTo>
                  <a:pt x="388" y="2"/>
                  <a:pt x="476" y="48"/>
                  <a:pt x="484" y="172"/>
                </a:cubicBezTo>
                <a:cubicBezTo>
                  <a:pt x="480" y="280"/>
                  <a:pt x="396" y="340"/>
                  <a:pt x="292" y="337"/>
                </a:cubicBezTo>
                <a:cubicBezTo>
                  <a:pt x="188" y="334"/>
                  <a:pt x="147" y="338"/>
                  <a:pt x="0" y="338"/>
                </a:cubicBezTo>
                <a:cubicBezTo>
                  <a:pt x="0" y="226"/>
                  <a:pt x="2" y="142"/>
                  <a:pt x="2" y="0"/>
                </a:cubicBezTo>
                <a:close/>
              </a:path>
            </a:pathLst>
          </a:custGeom>
          <a:solidFill>
            <a:srgbClr val="ff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81480" y="25146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28195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25760" y="20574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10280" y="2819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45920" y="2133720"/>
            <a:ext cx="1186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81480" y="3124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25760" y="23623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25760" y="26668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4006800"/>
            <a:ext cx="761760" cy="609480"/>
          </a:xfrm>
          <a:custGeom>
            <a:avLst/>
            <a:gdLst/>
            <a:ahLst/>
            <a:rect l="l" t="t" r="r" b="b"/>
            <a:pathLst>
              <a:path w="484" h="340">
                <a:moveTo>
                  <a:pt x="2" y="0"/>
                </a:moveTo>
                <a:cubicBezTo>
                  <a:pt x="173" y="0"/>
                  <a:pt x="120" y="2"/>
                  <a:pt x="290" y="2"/>
                </a:cubicBezTo>
                <a:cubicBezTo>
                  <a:pt x="388" y="2"/>
                  <a:pt x="476" y="48"/>
                  <a:pt x="484" y="172"/>
                </a:cubicBezTo>
                <a:cubicBezTo>
                  <a:pt x="480" y="280"/>
                  <a:pt x="396" y="340"/>
                  <a:pt x="292" y="337"/>
                </a:cubicBezTo>
                <a:cubicBezTo>
                  <a:pt x="188" y="334"/>
                  <a:pt x="147" y="338"/>
                  <a:pt x="0" y="338"/>
                </a:cubicBezTo>
                <a:cubicBezTo>
                  <a:pt x="0" y="226"/>
                  <a:pt x="2" y="142"/>
                  <a:pt x="2" y="0"/>
                </a:cubicBezTo>
                <a:close/>
              </a:path>
            </a:pathLst>
          </a:custGeom>
          <a:solidFill>
            <a:srgbClr val="ff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38800" y="3537000"/>
            <a:ext cx="96840" cy="469800"/>
          </a:xfrm>
          <a:custGeom>
            <a:avLst/>
            <a:gdLst/>
            <a:ahLst/>
            <a:rect l="l" t="t" r="r" b="b"/>
            <a:pathLst>
              <a:path w="61" h="296">
                <a:moveTo>
                  <a:pt x="0" y="0"/>
                </a:moveTo>
                <a:cubicBezTo>
                  <a:pt x="17" y="24"/>
                  <a:pt x="59" y="91"/>
                  <a:pt x="60" y="140"/>
                </a:cubicBezTo>
                <a:cubicBezTo>
                  <a:pt x="61" y="189"/>
                  <a:pt x="26" y="265"/>
                  <a:pt x="6" y="29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4603680"/>
            <a:ext cx="96840" cy="469800"/>
          </a:xfrm>
          <a:custGeom>
            <a:avLst/>
            <a:gdLst/>
            <a:ahLst/>
            <a:rect l="l" t="t" r="r" b="b"/>
            <a:pathLst>
              <a:path w="61" h="296">
                <a:moveTo>
                  <a:pt x="0" y="0"/>
                </a:moveTo>
                <a:cubicBezTo>
                  <a:pt x="17" y="24"/>
                  <a:pt x="59" y="91"/>
                  <a:pt x="60" y="140"/>
                </a:cubicBezTo>
                <a:cubicBezTo>
                  <a:pt x="61" y="189"/>
                  <a:pt x="26" y="265"/>
                  <a:pt x="6" y="29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37782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10080" y="4038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10080" y="43117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10080" y="457524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48448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010280" y="43117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64320" y="3365640"/>
            <a:ext cx="637920" cy="18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08560" y="3670200"/>
            <a:ext cx="12578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962520" y="3123720"/>
            <a:ext cx="68580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3809880"/>
            <a:ext cx="76176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A4FC-EFCE-4C7F-92B6-185447E21FD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2F582A-C649-45E7-8A7D-BE4A918B22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ND, NOR, XN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 like the earlier icon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with a small circle 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ate’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notes that output is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lemented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ircles can also b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d on inpu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eans, input is complemented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efore being used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248520" y="2470320"/>
            <a:ext cx="990360" cy="609480"/>
          </a:xfrm>
          <a:custGeom>
            <a:avLst/>
            <a:gdLst/>
            <a:ahLst/>
            <a:rect l="l" t="t" r="r" b="b"/>
            <a:pathLst>
              <a:path w="484" h="340">
                <a:moveTo>
                  <a:pt x="2" y="0"/>
                </a:moveTo>
                <a:cubicBezTo>
                  <a:pt x="173" y="0"/>
                  <a:pt x="120" y="2"/>
                  <a:pt x="290" y="2"/>
                </a:cubicBezTo>
                <a:cubicBezTo>
                  <a:pt x="388" y="2"/>
                  <a:pt x="476" y="48"/>
                  <a:pt x="484" y="172"/>
                </a:cubicBezTo>
                <a:cubicBezTo>
                  <a:pt x="480" y="280"/>
                  <a:pt x="396" y="340"/>
                  <a:pt x="292" y="337"/>
                </a:cubicBezTo>
                <a:cubicBezTo>
                  <a:pt x="188" y="334"/>
                  <a:pt x="147" y="338"/>
                  <a:pt x="0" y="338"/>
                </a:cubicBezTo>
                <a:cubicBezTo>
                  <a:pt x="0" y="226"/>
                  <a:pt x="2" y="142"/>
                  <a:pt x="2" y="0"/>
                </a:cubicBezTo>
                <a:close/>
              </a:path>
            </a:pathLst>
          </a:custGeom>
          <a:solidFill>
            <a:srgbClr val="ff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26226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15000" y="29275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837040" y="2133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08600" y="27288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238880" y="2774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547040" y="216540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72200" y="3733920"/>
            <a:ext cx="1120680" cy="701640"/>
          </a:xfrm>
          <a:custGeom>
            <a:avLst/>
            <a:gdLst/>
            <a:ahLst/>
            <a:rect l="l" t="t" r="r" b="b"/>
            <a:pathLst>
              <a:path w="706" h="442">
                <a:moveTo>
                  <a:pt x="126" y="224"/>
                </a:moveTo>
                <a:cubicBezTo>
                  <a:pt x="122" y="134"/>
                  <a:pt x="60" y="86"/>
                  <a:pt x="0" y="4"/>
                </a:cubicBezTo>
                <a:cubicBezTo>
                  <a:pt x="192" y="4"/>
                  <a:pt x="284" y="0"/>
                  <a:pt x="416" y="6"/>
                </a:cubicBezTo>
                <a:cubicBezTo>
                  <a:pt x="548" y="8"/>
                  <a:pt x="652" y="128"/>
                  <a:pt x="706" y="216"/>
                </a:cubicBezTo>
                <a:cubicBezTo>
                  <a:pt x="668" y="296"/>
                  <a:pt x="568" y="426"/>
                  <a:pt x="426" y="432"/>
                </a:cubicBezTo>
                <a:cubicBezTo>
                  <a:pt x="268" y="442"/>
                  <a:pt x="72" y="442"/>
                  <a:pt x="2" y="440"/>
                </a:cubicBezTo>
                <a:cubicBezTo>
                  <a:pt x="78" y="368"/>
                  <a:pt x="130" y="314"/>
                  <a:pt x="126" y="224"/>
                </a:cubicBezTo>
                <a:close/>
              </a:path>
            </a:pathLst>
          </a:custGeom>
          <a:solidFill>
            <a:srgbClr val="ff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62720" y="391464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81800" y="422928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60720" y="3429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32280" y="40244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05840" y="406728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3000" y="343692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248520" y="4997520"/>
            <a:ext cx="1120680" cy="701640"/>
          </a:xfrm>
          <a:custGeom>
            <a:avLst/>
            <a:gdLst/>
            <a:ahLst/>
            <a:rect l="l" t="t" r="r" b="b"/>
            <a:pathLst>
              <a:path w="706" h="442">
                <a:moveTo>
                  <a:pt x="126" y="224"/>
                </a:moveTo>
                <a:cubicBezTo>
                  <a:pt x="122" y="134"/>
                  <a:pt x="60" y="86"/>
                  <a:pt x="0" y="4"/>
                </a:cubicBezTo>
                <a:cubicBezTo>
                  <a:pt x="192" y="4"/>
                  <a:pt x="284" y="0"/>
                  <a:pt x="416" y="6"/>
                </a:cubicBezTo>
                <a:cubicBezTo>
                  <a:pt x="548" y="8"/>
                  <a:pt x="652" y="128"/>
                  <a:pt x="706" y="216"/>
                </a:cubicBezTo>
                <a:cubicBezTo>
                  <a:pt x="668" y="296"/>
                  <a:pt x="568" y="426"/>
                  <a:pt x="426" y="432"/>
                </a:cubicBezTo>
                <a:cubicBezTo>
                  <a:pt x="268" y="442"/>
                  <a:pt x="72" y="442"/>
                  <a:pt x="2" y="440"/>
                </a:cubicBezTo>
                <a:cubicBezTo>
                  <a:pt x="78" y="368"/>
                  <a:pt x="130" y="314"/>
                  <a:pt x="126" y="224"/>
                </a:cubicBezTo>
                <a:close/>
              </a:path>
            </a:pathLst>
          </a:custGeom>
          <a:solidFill>
            <a:srgbClr val="ff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86400" y="5181480"/>
            <a:ext cx="787320" cy="1800"/>
          </a:xfrm>
          <a:custGeom>
            <a:avLst/>
            <a:gdLst/>
            <a:ahLst/>
            <a:rect l="l" t="t" r="r" b="b"/>
            <a:pathLst>
              <a:path w="496" h="1">
                <a:moveTo>
                  <a:pt x="0" y="0"/>
                </a:moveTo>
                <a:lnTo>
                  <a:pt x="49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86400" y="5492880"/>
            <a:ext cx="828720" cy="1440"/>
          </a:xfrm>
          <a:custGeom>
            <a:avLst/>
            <a:gdLst/>
            <a:ahLst/>
            <a:rect l="l" t="t" r="r" b="b"/>
            <a:pathLst>
              <a:path w="522" h="1">
                <a:moveTo>
                  <a:pt x="0" y="0"/>
                </a:moveTo>
                <a:lnTo>
                  <a:pt x="522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16440" y="52880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381800" y="53308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40120" y="46782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46640" y="5025960"/>
            <a:ext cx="228600" cy="660600"/>
          </a:xfrm>
          <a:custGeom>
            <a:avLst/>
            <a:gdLst/>
            <a:ahLst/>
            <a:rect l="l" t="t" r="r" b="b"/>
            <a:pathLst>
              <a:path w="144" h="416">
                <a:moveTo>
                  <a:pt x="8" y="0"/>
                </a:moveTo>
                <a:cubicBezTo>
                  <a:pt x="31" y="35"/>
                  <a:pt x="143" y="139"/>
                  <a:pt x="142" y="208"/>
                </a:cubicBezTo>
                <a:cubicBezTo>
                  <a:pt x="144" y="300"/>
                  <a:pt x="24" y="381"/>
                  <a:pt x="0" y="41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48640" y="4724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238880" y="2698920"/>
            <a:ext cx="152640" cy="15228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315200" y="4000680"/>
            <a:ext cx="152280" cy="15228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381800" y="5267160"/>
            <a:ext cx="152640" cy="15264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7391520" y="2165400"/>
                <a:ext cx="49680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7315200" y="3505320"/>
                <a:ext cx="8380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7315200" y="4754520"/>
                <a:ext cx="9144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  <m:r>
                          <m:t xml:space="preserve">⊕</m:t>
                        </m:r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4091-1E53-4A4C-A46C-ADCF95F7969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2ED7DC-266B-46B4-BB20-0BCB59D9E5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an invert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circ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It is the identity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serves no logical purpose, bu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represents an explicit delay in the circu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s is sometimes useful for timing purposes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gates, when physically implemented, incur a non-zero delay between when their inputs are seen and when their outputs are rea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5400000">
            <a:off x="6430680" y="2063520"/>
            <a:ext cx="762120" cy="91440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821200" y="2521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7238880" y="2521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16600" y="190512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575480" y="206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64160" y="192096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5444-5FB5-4596-BB45-D9EE70E8AC8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914DC-6EA6-498A-9D80-FA16DB6D7E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binational Logic Circu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correct word to use here is “combinat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Times New Roman"/>
              </a:rPr>
              <a:t>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,”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combinat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or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any sloppy authors get this wrong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are circuits composed of Boolean gates whose outputs depend only on their most recent inputs, not on earlier inpu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us these circuits have no useful memory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heir state persists while the inputs are constant, but is irreversibly lost when the input signals change.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707B-4D96-4B4A-ACE5-D90269FF99B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27BEF3-8FAF-4AB5-A3A4-63C5F9337F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binational Circuit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 a few examples on the boar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ajority voting circuit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OR using OR / AND / NOT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-input XOR using OR / AND / NOT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, show some binary add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alf adder using OR/AND/NOT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ull adder from half-adders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ipple-carry adders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63F4-3E9B-4D8A-8F94-06D59EF3245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19C6E-D766-46E8-BE5F-D1EA51DC42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10.4 – Minimizing Circu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rnaugh M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c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Quine-McCluskey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A71E-22E0-4AF1-8B29-56EC0C0778D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BDB0FF-8BC7-42E7-8B89-1D2B923E25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oolean Algebr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572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inor generalization of propositional log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general,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lgebr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is any mathematical structure satisfying certain standard algebraic axioms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uch as associative/commutative/transitive laws, 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al theorems that are proved about an algebra then apply to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ny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ructure satisfying these axioms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oolean algebr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ust generalizes the rules of propositional logic to sets other tha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E.g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to the se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{0,1}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of base-2 digits, or the set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of low and high voltage levels in a circui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see that this algebraic perspective lends itself to the desig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gital logic circui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82280" y="5791320"/>
            <a:ext cx="2408760" cy="8254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ude Shannon’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’s thes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424E-941E-4532-8FF9-6A327ECB92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AA77D2-3BD0-4D32-B388-8FE2CFA2A3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 of Circuit Mini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Minimize the number of primitive Boolean logic gates needed to implement the circu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ltimately, this also roughly minimizes the number of transistors, the chip area, and the co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lso roughly minimizes the energy expenditure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mong traditional irreversible circuits.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s will be our focus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It is also often useful to minimize the number of combination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g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logic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p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circu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s roughly minimizes th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dela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latenc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through the circuit, the time between input and outpu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242D-6DA1-4C98-8BF4-0A1CB4C2AC4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16121C-6610-4F0D-B905-36C90600D8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imizing DNF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DNF (or CNF) guarantees there is alway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ircuit that implements any desired Boolean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it may be far larger than needed!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ould like to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malle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m-of-products expression that yields a given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s will yield a fairly small circui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circuits of other forms (not CNF or DNF) might be even smaller for complex functions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09BB-E9D9-4F5E-94C4-9328B00F48D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66C43-A64E-47E1-87B9-B6ABCF0F59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olean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tions of chapter 10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§1 – Boolean Function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§2 – Representing Boolean Function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§3 – Logic Gat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§4 – Minimization of Circuit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3F6F-94F5-4F9C-BD94-676FF42049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8F0836-EC73-44E5-B209-4B117A9A58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10.1 – Boolean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lean complement, sum, produ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lean expressions and fun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lean algebra ident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a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ract definition of a Boolean algeb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CAB7-0A62-4E51-BFEB-061535C018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0DEA2-4D97-470F-9765-817D590EEA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ment, Sum, Produ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spond to logical NOT, OR, and 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ill denote the two logic values a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≡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≡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nstead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sing numbers encourages algebraic thinking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, more algebraic-looking notation for the most common Boolean operator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447920" y="5375160"/>
                <a:ext cx="12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:</m:t>
                    </m:r>
                    <m:r>
                      <m:t xml:space="preserve">≡</m:t>
                    </m:r>
                    <m:r>
                      <m:t xml:space="preserve">¬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248520" y="5418000"/>
                <a:ext cx="2133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:</m:t>
                    </m:r>
                    <m:r>
                      <m:t xml:space="preserve">≡</m:t>
                    </m:r>
                    <m:r>
                      <m:t xml:space="preserve">x</m:t>
                    </m:r>
                    <m:r>
                      <m:t xml:space="preserve">∨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505320" y="5429160"/>
                <a:ext cx="20574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:</m:t>
                    </m:r>
                    <m:r>
                      <m:t xml:space="preserve">≡</m:t>
                    </m:r>
                    <m:r>
                      <m:t xml:space="preserve">x</m:t>
                    </m:r>
                    <m:r>
                      <m:t xml:space="preserve">∧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1981080" y="5867280"/>
            <a:ext cx="525780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06240" y="5943600"/>
            <a:ext cx="2547360" cy="459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edence order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7629-BD83-4A7A-AD23-3D3BB56340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B9D7B-B843-45B0-8CD4-CA7ED309FA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olean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set of Boolean 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y functio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"/>
              </a:rPr>
              <a:t>→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olean function of degree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 Unicode MS"/>
                <a:ea typeface="Arial Unicode MS"/>
              </a:rPr>
              <a:t>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(wow!) distinct Boolean functions of degre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B/c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 2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  <a:ea typeface="Arial Unicode MS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rows in truth table, w. 0 or 1 in each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5127480"/>
            <a:ext cx="7315200" cy="16185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gr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ow m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gr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ow 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2                     4                          65,536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1                 4                      5                    4,294,967,2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2                16                     6          18,446,744,073,709,551,61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              2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51814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83FF-7718-465A-908E-F0FCD59379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B8223E-57F0-4025-92DA-3EA7B420D8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olean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441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fferent Boolean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ay be as large as desired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oolean exp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cursive definition) is a string of one of the following for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ase cases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…, or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cursive cases: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o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her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re Boolean expressions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oolean expression represents a Boolean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urthermore,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ever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Boolean function (of a given degree) can be represented by a Boolean expression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7000" y="42102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1B00-480D-4B42-89BB-3940DC9AD0E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307723-E37F-4EC0-91A4-0A4FA785D1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percube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oolean function of degre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be represented by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ube (hypercube) with the corresponding function value at each vert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30560" y="4343400"/>
            <a:ext cx="137160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11440" y="4114800"/>
            <a:ext cx="137160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130560" y="411444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130560" y="5333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502160" y="5333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502160" y="411444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34800" y="54100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,0,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6760" y="54100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,0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40920" y="41148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,1,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03240" y="41911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,1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06400" y="48769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0,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8000" y="5029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0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7960" y="36576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1,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8000" y="38098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1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418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4804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51240" y="508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8008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1964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19960" y="3867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03760" y="509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51680" y="4105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035760" y="4419720"/>
                <a:ext cx="197172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ba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6168240" y="3565440"/>
            <a:ext cx="176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45040" y="4753080"/>
            <a:ext cx="914400" cy="257040"/>
          </a:xfrm>
          <a:prstGeom prst="leftArrow">
            <a:avLst>
              <a:gd name="adj1" fmla="val 50000"/>
              <a:gd name="adj2" fmla="val 88936"/>
            </a:avLst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1-2003, Michael P. Fr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2093-AE3A-46AD-9640-3785CF7CF89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80266-753F-4222-A70E-D2D898A6B0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01:48:20Z</dcterms:created>
  <dc:creator>Michael P. Frank</dc:creator>
  <dc:description>Slides developed at the University of Florida
for course COT3100, Applications of
Discrete Structures, Spring 2001 &amp; 2003.</dc:description>
  <dc:language>en-US</dc:language>
  <cp:lastModifiedBy>Michael P. Frank</cp:lastModifiedBy>
  <dcterms:modified xsi:type="dcterms:W3CDTF">2004-04-01T21:45:52Z</dcterms:modified>
  <cp:revision>60</cp:revision>
  <dc:subject>Discrete Mathematics</dc:subject>
  <dc:title>Slides for Rosen, 5th edition</dc:title>
</cp:coreProperties>
</file>