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981BC6-01EA-4462-85DB-A73B252C2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488ACD-282C-455D-8A5E-9EEF19EB5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572-C4AA-4AEF-AC1C-A0D857D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046-AFF6-4E13-9A8B-56AB92B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7A6-1437-43A9-90A6-D06D9B19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E98-F878-4F0C-82C1-EDE4357F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BD5-BD00-4074-BAF1-5717369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55F-D296-47F3-B87B-2461185B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CD5-E706-4435-B159-3CD21C4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E3B-3327-4809-A868-A69043D2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532-2553-45B0-84A3-0068908B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F71-CABF-44A3-BABF-7BAE0CB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517-3377-413F-9FBF-12D1009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A38-6CDB-43B8-A4E0-967D9F4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DE5-63BC-47C1-8E51-7B0BA8501EC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4DC-0CB7-4B88-8D3F-C0AD9707E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920" y="763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4 -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364-529F-42DD-9393-86E1BAA7AD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3FCFD-8179-4B90-BFAD-355AD75BB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Functio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written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we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doma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mag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re-imag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unde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 general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may have more than 1 pre-image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ang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}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6880" y="3124080"/>
            <a:ext cx="178416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so s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B73-93BA-4B8D-B708-F60B53EE89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1E71D-DB93-4CBD-BF05-92A06F929C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 versus Co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 of a function m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its whole co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omain is the set that the func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ap all domain values 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of values in the codomain that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t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ps elements of the domain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422-0973-4321-A5D3-99C9C67C81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B72A9-7F15-43BE-9453-75063BD73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 vs. Codomain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I declare to you that: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mapping students in this class to the set of grades {A,B,C,D,E}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is point, you k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codomain is: __________, and its range is 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 grades turn out all As and 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ran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_________, but its codomain is 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57600" y="409176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A,B,C,D,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5480" y="409176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kn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0640" y="518076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A,B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5800" y="571428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 {A,B,C,D,E}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4A1-4001-4E47-BD3E-631B3B0A65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06483-4FE0-43C4-BBF0-6C8F2629F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s (general defini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function from the set of order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uples of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i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an be seen as a unary operator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re binary operators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example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binary operators on the set of all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D65-A60D-480B-A3A8-7F5D7FBFB3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851D1-EAF9-44BB-9EBB-752FA6DBF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Function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“dot”) is any operator ov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we can exte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lso denote an operator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 Given any binary operato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and function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we defin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: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 be the function defined by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87B-5762-457F-A250-1866974996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19A4-4B4B-4B2C-B59F-4DA093DBF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Operat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“plus”,“times”) are binary operators ov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Normal addition &amp; multiplicatio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we can also add and multip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6AE-2FF0-46A7-BD79-BE4A06EE14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62AF3-D65E-487C-ABDA-5A2A61450E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Composition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special operator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t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mpos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creates) a new function out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by apply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the result of apply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 say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○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: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○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so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) is defined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 th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like Cartesian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but unlike +,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is non-commuting. (Generally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○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○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7080" y="1671480"/>
            <a:ext cx="1276200" cy="492120"/>
          </a:xfrm>
          <a:custGeom>
            <a:avLst/>
            <a:gdLst/>
            <a:ahLst/>
            <a:rect l="l" t="t" r="r" b="b"/>
            <a:pathLst>
              <a:path w="804" h="310">
                <a:moveTo>
                  <a:pt x="0" y="310"/>
                </a:moveTo>
                <a:cubicBezTo>
                  <a:pt x="8" y="276"/>
                  <a:pt x="34" y="246"/>
                  <a:pt x="54" y="218"/>
                </a:cubicBezTo>
                <a:cubicBezTo>
                  <a:pt x="69" y="196"/>
                  <a:pt x="64" y="157"/>
                  <a:pt x="81" y="136"/>
                </a:cubicBezTo>
                <a:cubicBezTo>
                  <a:pt x="107" y="103"/>
                  <a:pt x="171" y="56"/>
                  <a:pt x="212" y="44"/>
                </a:cubicBezTo>
                <a:cubicBezTo>
                  <a:pt x="249" y="18"/>
                  <a:pt x="281" y="8"/>
                  <a:pt x="326" y="0"/>
                </a:cubicBezTo>
                <a:cubicBezTo>
                  <a:pt x="400" y="2"/>
                  <a:pt x="475" y="3"/>
                  <a:pt x="549" y="6"/>
                </a:cubicBezTo>
                <a:cubicBezTo>
                  <a:pt x="595" y="8"/>
                  <a:pt x="637" y="36"/>
                  <a:pt x="679" y="49"/>
                </a:cubicBezTo>
                <a:cubicBezTo>
                  <a:pt x="693" y="71"/>
                  <a:pt x="717" y="89"/>
                  <a:pt x="739" y="104"/>
                </a:cubicBezTo>
                <a:cubicBezTo>
                  <a:pt x="750" y="120"/>
                  <a:pt x="755" y="136"/>
                  <a:pt x="766" y="152"/>
                </a:cubicBezTo>
                <a:cubicBezTo>
                  <a:pt x="777" y="188"/>
                  <a:pt x="764" y="150"/>
                  <a:pt x="782" y="185"/>
                </a:cubicBezTo>
                <a:cubicBezTo>
                  <a:pt x="803" y="224"/>
                  <a:pt x="804" y="268"/>
                  <a:pt x="804" y="31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67720" y="1682640"/>
            <a:ext cx="1570680" cy="33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 match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335-7529-4AC0-BD1E-1B49E650EC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6EB70-15C9-4497-887A-1B87CBD468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s of Sets unde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imply the set of all images (un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the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: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e rang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defined as simply the image (un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do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4E0-814A-4711-B31F-CC319628CC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46EE-C013-4D6C-8B9D-93698A4D2A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o-On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-to-one (1-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in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f every element of its range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pre-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mally: giv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,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injective” :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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of the domain is mapp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y giv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of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main &amp; range have same cardinality. What about codomain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jogger:  Each element of the domai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 different element of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mpare “each dose of vaccine is injected into a different patient.”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64640" y="3962520"/>
            <a:ext cx="1179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y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arg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6ED-808D-467F-AA5B-27FB8DF6B6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387C5-5476-44D9-A206-541D84FAB7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o-One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partite (2-part) graph representations of functions that are (or not) one-to-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672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6720" y="3808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6720" y="3504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3199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9720" y="441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972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9720" y="3199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429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47920" y="34286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4038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4197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9720" y="4723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6960" y="53330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904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9040" y="3885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904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9040" y="3275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4037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2040" y="4342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2040" y="3656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2040" y="3275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505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809880" y="35053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09880" y="35049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4419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2040" y="464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02812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e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5920" y="4342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5920" y="4037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5920" y="37328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5920" y="342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892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8920" y="4494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8920" y="3808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8920" y="342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657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477120" y="36572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4267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45720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8920" y="4799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8440" y="4997520"/>
            <a:ext cx="15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ve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42670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3EE-5ADB-4B35-8971-A1EBBD5A1A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D1983-009F-43D4-9AB6-5A80564170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4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§1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1 slides, ~1.5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6D1-83C5-4D1C-8AD0-A402C1282B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E097F-8FA9-4EC3-870E-6510E472F0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fficient Conditions for 1-1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numbers, we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rict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notonical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creas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&gt;y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&gt;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 domain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rict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monotonical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creas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&gt;y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&lt;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n domain;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ither strictly increasing or strictly decreasing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ne-to-one.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onverse is not necessarily true. E.g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/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6C4-CF05-476B-9209-4213EB5DE6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13519-BC98-415C-81CA-BF4C9ADEBB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 (Surjective)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rj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surj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its range is equal to its codomain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nk: An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onto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function maps the set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onto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(over, covering)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entirety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of the set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, not just over a piece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for domain &amp; codomain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s onto, wherea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sn’t.  (Why no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0EA-6CEA-4295-96AA-854F9E869B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B03B-9A84-4E91-A535-85D164976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stration of 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unctions that are, or are no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ir codom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62080" y="515016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not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20760" y="4570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2076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0760" y="3885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076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3760" y="4342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4951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37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376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8098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371600" y="3809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4197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4800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3760" y="4723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71600" y="49525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5150160"/>
            <a:ext cx="13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8160" y="4570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816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8160" y="38851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816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1160" y="4342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4951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1160" y="3580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8098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3809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41907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4800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1160" y="47232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429000" y="49525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2640" y="5226120"/>
            <a:ext cx="12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1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6960" y="464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6960" y="4266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69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6960" y="3656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9960" y="441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9960" y="4037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9960" y="3656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257800" y="38858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257800" y="42667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8862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9960" y="4799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334120" y="46479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91920" y="5226120"/>
            <a:ext cx="11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1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3120" y="464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3120" y="4266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3120" y="3656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26120" y="441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6120" y="4037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6120" y="3656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934320" y="38858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934320" y="42667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8862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6120" y="4799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010280" y="46479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6120" y="3275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316-572A-42A6-A770-E94932A2BC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089D0-44BC-4453-B1FD-A50330EFF2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one-to-one correspo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bij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er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f it is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-to-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bije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: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exists a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erse 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the unique function such that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wher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 the identity function 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00720" y="5029200"/>
                <a:ext cx="20779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∘</m:t>
                    </m:r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0DE-B044-4C35-AAD5-74C8076DD5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9CEB-1649-481E-B5C5-88F5812D3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ent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dom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entity function I: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ariously writt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unique function such tha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dentity functions you’ve se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 0, ·ing by 1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 with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 with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 wit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g wit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identity function is always both one-to-one and onto (bijecti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7E4-2F3E-43B4-98E6-1C304D8235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B926-F03F-41B3-99B7-052117E9DC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895480"/>
            <a:ext cx="2286000" cy="2590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ty Function Illust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521000" y="3546360"/>
            <a:ext cx="436320" cy="569880"/>
            <a:chOff x="1521000" y="3546360"/>
            <a:chExt cx="436320" cy="569880"/>
          </a:xfrm>
        </p:grpSpPr>
        <p:sp>
          <p:nvSpPr>
            <p:cNvPr id="247" name=""/>
            <p:cNvSpPr/>
            <p:nvPr/>
          </p:nvSpPr>
          <p:spPr>
            <a:xfrm>
              <a:off x="1601640" y="36565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21000" y="354636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05120" y="3886200"/>
            <a:ext cx="436320" cy="569880"/>
            <a:chOff x="1905120" y="3886200"/>
            <a:chExt cx="436320" cy="569880"/>
          </a:xfrm>
        </p:grpSpPr>
        <p:sp>
          <p:nvSpPr>
            <p:cNvPr id="250" name=""/>
            <p:cNvSpPr/>
            <p:nvPr/>
          </p:nvSpPr>
          <p:spPr>
            <a:xfrm>
              <a:off x="1985760" y="3996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5120" y="388620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38280" y="4724280"/>
            <a:ext cx="436320" cy="569880"/>
            <a:chOff x="2438280" y="4724280"/>
            <a:chExt cx="436320" cy="569880"/>
          </a:xfrm>
        </p:grpSpPr>
        <p:sp>
          <p:nvSpPr>
            <p:cNvPr id="253" name=""/>
            <p:cNvSpPr/>
            <p:nvPr/>
          </p:nvSpPr>
          <p:spPr>
            <a:xfrm>
              <a:off x="2518920" y="48344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472428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4600" y="4343400"/>
            <a:ext cx="436320" cy="569880"/>
            <a:chOff x="2514600" y="4343400"/>
            <a:chExt cx="436320" cy="569880"/>
          </a:xfrm>
        </p:grpSpPr>
        <p:sp>
          <p:nvSpPr>
            <p:cNvPr id="256" name=""/>
            <p:cNvSpPr/>
            <p:nvPr/>
          </p:nvSpPr>
          <p:spPr>
            <a:xfrm>
              <a:off x="2595240" y="4453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434340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362320" y="3657600"/>
            <a:ext cx="436320" cy="569880"/>
            <a:chOff x="2362320" y="3657600"/>
            <a:chExt cx="436320" cy="569880"/>
          </a:xfrm>
        </p:grpSpPr>
        <p:sp>
          <p:nvSpPr>
            <p:cNvPr id="259" name=""/>
            <p:cNvSpPr/>
            <p:nvPr/>
          </p:nvSpPr>
          <p:spPr>
            <a:xfrm>
              <a:off x="2442960" y="3767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62320" y="365760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33720" y="3276720"/>
            <a:ext cx="436320" cy="569160"/>
            <a:chOff x="2133720" y="3276720"/>
            <a:chExt cx="436320" cy="569160"/>
          </a:xfrm>
        </p:grpSpPr>
        <p:sp>
          <p:nvSpPr>
            <p:cNvPr id="262" name=""/>
            <p:cNvSpPr/>
            <p:nvPr/>
          </p:nvSpPr>
          <p:spPr>
            <a:xfrm>
              <a:off x="2214360" y="3386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3276720"/>
              <a:ext cx="436320" cy="33948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752480" y="4648320"/>
            <a:ext cx="436320" cy="569160"/>
            <a:chOff x="1752480" y="4648320"/>
            <a:chExt cx="436320" cy="569160"/>
          </a:xfrm>
        </p:grpSpPr>
        <p:sp>
          <p:nvSpPr>
            <p:cNvPr id="265" name=""/>
            <p:cNvSpPr/>
            <p:nvPr/>
          </p:nvSpPr>
          <p:spPr>
            <a:xfrm>
              <a:off x="1833120" y="4757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4648320"/>
              <a:ext cx="436320" cy="33948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71600" y="4343400"/>
            <a:ext cx="436320" cy="569880"/>
            <a:chOff x="1371600" y="4343400"/>
            <a:chExt cx="436320" cy="569880"/>
          </a:xfrm>
        </p:grpSpPr>
        <p:sp>
          <p:nvSpPr>
            <p:cNvPr id="268" name=""/>
            <p:cNvSpPr/>
            <p:nvPr/>
          </p:nvSpPr>
          <p:spPr>
            <a:xfrm>
              <a:off x="1452240" y="44535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1600" y="434340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143000" y="3886200"/>
            <a:ext cx="436320" cy="569880"/>
            <a:chOff x="1143000" y="3886200"/>
            <a:chExt cx="436320" cy="569880"/>
          </a:xfrm>
        </p:grpSpPr>
        <p:sp>
          <p:nvSpPr>
            <p:cNvPr id="271" name=""/>
            <p:cNvSpPr/>
            <p:nvPr/>
          </p:nvSpPr>
          <p:spPr>
            <a:xfrm>
              <a:off x="1223640" y="3996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3000" y="3886200"/>
              <a:ext cx="436320" cy="339840"/>
            </a:xfrm>
            <a:custGeom>
              <a:avLst/>
              <a:gdLst/>
              <a:ahLst/>
              <a:rect l="l" t="t" r="r" b="b"/>
              <a:pathLst>
                <a:path w="275" h="214">
                  <a:moveTo>
                    <a:pt x="193" y="206"/>
                  </a:moveTo>
                  <a:cubicBezTo>
                    <a:pt x="205" y="187"/>
                    <a:pt x="275" y="127"/>
                    <a:pt x="266" y="93"/>
                  </a:cubicBezTo>
                  <a:cubicBezTo>
                    <a:pt x="257" y="59"/>
                    <a:pt x="180" y="8"/>
                    <a:pt x="137" y="4"/>
                  </a:cubicBezTo>
                  <a:cubicBezTo>
                    <a:pt x="94" y="0"/>
                    <a:pt x="14" y="34"/>
                    <a:pt x="7" y="69"/>
                  </a:cubicBezTo>
                  <a:cubicBezTo>
                    <a:pt x="0" y="104"/>
                    <a:pt x="78" y="184"/>
                    <a:pt x="96" y="2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921960" y="5523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an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29200" y="3123720"/>
            <a:ext cx="21337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46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89200" y="3732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9360" y="38098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84A-3DAA-40A1-A34A-586AC468B8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B6E4D-87FE-4577-83B0-8F77B93D2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ol (Literally)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omputer, the function mapping the machine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 at clock cycle #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e at clock cycle #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lled the computer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nsition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ransition function happens to be reversible (a bijection), then the computer’s operation, in theory, requir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energy expendi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y of practical low-pow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rsible compu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 based on this idea is my primary area of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143-3131-4DEE-BCC1-2D49333347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FBC36-C1FA-4FF9-BEF2-9570A342E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s of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1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present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set of ordered pair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) |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only 1 pai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ter (ch.6):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lation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oosen this restriction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unctions over numbers, we can represent an ordered pai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s a point on a pla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function is then drawn as a curve (set of points), with only on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or each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09560" y="2514600"/>
            <a:ext cx="2471400" cy="368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’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75D-D9B1-4FB6-8227-83A2BDAA61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A1179-8A57-431F-8CF8-FE8DA79E6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de About Re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represent any type of discrete structure (propositions, bit-strings, numbers, sets, ordered pairs, functions) in terms of virtually any of the other structures (or some combination thereo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ably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non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of these structures is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rul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more fundamental than the others (whatever that would mean).  However, strings, logic, and sets are often used a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foundation for all else.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426440" y="4419720"/>
            <a:ext cx="164124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323-00D8-48E2-B829-7F258AD1FF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1C940-6888-4FA9-98E0-A1250CB48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uple of Key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screte math, we will frequently use the following two functions over real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loo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unction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"/>
              </a:rPr>
              <a:t>→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“floor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”) means the largest (most positive) integ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.  I.e.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max(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eil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function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33cc"/>
                </a:solidFill>
                <a:latin typeface=""/>
              </a:rPr>
              <a:t>→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“ceiling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”) means the smallest (most negative) integ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 min(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}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613-739B-448E-AFCB-87205777D2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274F9-ED25-4F64-86B1-881118233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o section 1.8…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alculus, you are familiar with the concept of a real-valued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ssigns to each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articular valu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the notion of a function can also be naturally generalized to the concept of assigning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to e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.  (Also known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9BC-B3E2-4B83-A19F-634B39D6D1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25AD1-BC1B-4395-ADAC-8CFD501C8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Floor &amp; Ce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numbers “fall to their floor” or “rise to their ceiling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e that i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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&amp;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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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e that i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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9056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4680" y="396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4440" y="441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350424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468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4680" y="266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4440" y="4875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34440" y="5333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0480" y="3123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408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45040" y="2951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5040" y="4323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6440" y="4494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47804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2760" y="3462480"/>
            <a:ext cx="141480" cy="257040"/>
          </a:xfrm>
          <a:custGeom>
            <a:avLst/>
            <a:gdLst/>
            <a:ahLst/>
            <a:rect l="l" t="t" r="r" b="b"/>
            <a:pathLst>
              <a:path w="89" h="162">
                <a:moveTo>
                  <a:pt x="0" y="0"/>
                </a:moveTo>
                <a:cubicBezTo>
                  <a:pt x="39" y="13"/>
                  <a:pt x="23" y="21"/>
                  <a:pt x="49" y="49"/>
                </a:cubicBezTo>
                <a:cubicBezTo>
                  <a:pt x="68" y="106"/>
                  <a:pt x="56" y="83"/>
                  <a:pt x="81" y="122"/>
                </a:cubicBezTo>
                <a:cubicBezTo>
                  <a:pt x="84" y="135"/>
                  <a:pt x="89" y="162"/>
                  <a:pt x="89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321000"/>
            <a:ext cx="266760" cy="127080"/>
          </a:xfrm>
          <a:custGeom>
            <a:avLst/>
            <a:gdLst/>
            <a:ahLst/>
            <a:rect l="l" t="t" r="r" b="b"/>
            <a:pathLst>
              <a:path w="168" h="80">
                <a:moveTo>
                  <a:pt x="0" y="80"/>
                </a:moveTo>
                <a:cubicBezTo>
                  <a:pt x="32" y="69"/>
                  <a:pt x="64" y="65"/>
                  <a:pt x="96" y="56"/>
                </a:cubicBezTo>
                <a:cubicBezTo>
                  <a:pt x="104" y="54"/>
                  <a:pt x="112" y="51"/>
                  <a:pt x="120" y="48"/>
                </a:cubicBezTo>
                <a:cubicBezTo>
                  <a:pt x="129" y="45"/>
                  <a:pt x="144" y="32"/>
                  <a:pt x="144" y="32"/>
                </a:cubicBezTo>
                <a:cubicBezTo>
                  <a:pt x="152" y="21"/>
                  <a:pt x="162" y="12"/>
                  <a:pt x="1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6440" y="5237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080" y="5237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0280" y="5237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1160" y="4826160"/>
            <a:ext cx="433440" cy="272880"/>
          </a:xfrm>
          <a:custGeom>
            <a:avLst/>
            <a:gdLst/>
            <a:ahLst/>
            <a:rect l="l" t="t" r="r" b="b"/>
            <a:pathLst>
              <a:path w="273" h="172">
                <a:moveTo>
                  <a:pt x="0" y="0"/>
                </a:moveTo>
                <a:cubicBezTo>
                  <a:pt x="45" y="15"/>
                  <a:pt x="94" y="24"/>
                  <a:pt x="140" y="36"/>
                </a:cubicBezTo>
                <a:cubicBezTo>
                  <a:pt x="152" y="39"/>
                  <a:pt x="164" y="44"/>
                  <a:pt x="176" y="48"/>
                </a:cubicBezTo>
                <a:cubicBezTo>
                  <a:pt x="184" y="51"/>
                  <a:pt x="200" y="56"/>
                  <a:pt x="200" y="56"/>
                </a:cubicBezTo>
                <a:cubicBezTo>
                  <a:pt x="211" y="67"/>
                  <a:pt x="236" y="84"/>
                  <a:pt x="236" y="84"/>
                </a:cubicBezTo>
                <a:cubicBezTo>
                  <a:pt x="237" y="88"/>
                  <a:pt x="237" y="93"/>
                  <a:pt x="240" y="96"/>
                </a:cubicBezTo>
                <a:cubicBezTo>
                  <a:pt x="243" y="100"/>
                  <a:pt x="249" y="100"/>
                  <a:pt x="252" y="104"/>
                </a:cubicBezTo>
                <a:cubicBezTo>
                  <a:pt x="256" y="111"/>
                  <a:pt x="255" y="121"/>
                  <a:pt x="260" y="128"/>
                </a:cubicBezTo>
                <a:cubicBezTo>
                  <a:pt x="263" y="132"/>
                  <a:pt x="265" y="136"/>
                  <a:pt x="268" y="140"/>
                </a:cubicBezTo>
                <a:cubicBezTo>
                  <a:pt x="273" y="161"/>
                  <a:pt x="272" y="151"/>
                  <a:pt x="272" y="1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54680" y="4705200"/>
            <a:ext cx="190440" cy="114480"/>
          </a:xfrm>
          <a:custGeom>
            <a:avLst/>
            <a:gdLst/>
            <a:ahLst/>
            <a:rect l="l" t="t" r="r" b="b"/>
            <a:pathLst>
              <a:path w="120" h="72">
                <a:moveTo>
                  <a:pt x="0" y="72"/>
                </a:moveTo>
                <a:cubicBezTo>
                  <a:pt x="21" y="65"/>
                  <a:pt x="43" y="59"/>
                  <a:pt x="64" y="52"/>
                </a:cubicBezTo>
                <a:cubicBezTo>
                  <a:pt x="77" y="48"/>
                  <a:pt x="88" y="32"/>
                  <a:pt x="100" y="24"/>
                </a:cubicBezTo>
                <a:cubicBezTo>
                  <a:pt x="104" y="18"/>
                  <a:pt x="120" y="6"/>
                  <a:pt x="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2080" y="5365800"/>
            <a:ext cx="380880" cy="177840"/>
          </a:xfrm>
          <a:custGeom>
            <a:avLst/>
            <a:gdLst/>
            <a:ahLst/>
            <a:rect l="l" t="t" r="r" b="b"/>
            <a:pathLst>
              <a:path w="252" h="112">
                <a:moveTo>
                  <a:pt x="0" y="112"/>
                </a:moveTo>
                <a:cubicBezTo>
                  <a:pt x="25" y="74"/>
                  <a:pt x="56" y="44"/>
                  <a:pt x="96" y="24"/>
                </a:cubicBezTo>
                <a:cubicBezTo>
                  <a:pt x="109" y="17"/>
                  <a:pt x="122" y="12"/>
                  <a:pt x="136" y="8"/>
                </a:cubicBezTo>
                <a:cubicBezTo>
                  <a:pt x="144" y="6"/>
                  <a:pt x="160" y="0"/>
                  <a:pt x="160" y="0"/>
                </a:cubicBezTo>
                <a:cubicBezTo>
                  <a:pt x="188" y="3"/>
                  <a:pt x="209" y="5"/>
                  <a:pt x="232" y="20"/>
                </a:cubicBezTo>
                <a:cubicBezTo>
                  <a:pt x="239" y="42"/>
                  <a:pt x="248" y="56"/>
                  <a:pt x="252" y="80"/>
                </a:cubicBezTo>
                <a:cubicBezTo>
                  <a:pt x="251" y="88"/>
                  <a:pt x="248" y="104"/>
                  <a:pt x="2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23000" y="5581800"/>
            <a:ext cx="209520" cy="16488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4" y="0"/>
                </a:moveTo>
                <a:cubicBezTo>
                  <a:pt x="0" y="13"/>
                  <a:pt x="11" y="75"/>
                  <a:pt x="20" y="84"/>
                </a:cubicBezTo>
                <a:cubicBezTo>
                  <a:pt x="30" y="94"/>
                  <a:pt x="56" y="104"/>
                  <a:pt x="56" y="104"/>
                </a:cubicBezTo>
                <a:cubicBezTo>
                  <a:pt x="80" y="101"/>
                  <a:pt x="101" y="100"/>
                  <a:pt x="124" y="92"/>
                </a:cubicBezTo>
                <a:cubicBezTo>
                  <a:pt x="132" y="59"/>
                  <a:pt x="131" y="34"/>
                  <a:pt x="116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40320" y="33156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37560" y="2971080"/>
            <a:ext cx="61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00000" y="510480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60480" y="468072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95080" y="4342680"/>
            <a:ext cx="7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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327672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373392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510552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556272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84920" y="3733200"/>
            <a:ext cx="61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6920" y="5333400"/>
            <a:ext cx="30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04520" y="5562000"/>
            <a:ext cx="9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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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285-999D-45AB-BD94-25F80DD5F0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15E74-25E0-4AC4-96A7-AB588C945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s with floor/ce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ludes the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 for all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but not for the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y that the set of poin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0) that i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include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1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s that do not include all of their limit points are generally call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pen se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lot, we draw a limit point of a curve using an open dot (circle) if the limit point is not on the curve, and with a closed (solid) dot if it is on 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FEA-7BFF-48B9-A4DD-0142472095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9E4D7-8212-4DE7-B680-6032C9C81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s with floor/ceil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 of graph of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572000" y="2590560"/>
            <a:ext cx="0" cy="3276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191120"/>
            <a:ext cx="7162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197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197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197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19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197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95680" y="41148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36576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44956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2480" y="487692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419112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373392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3352680"/>
            <a:ext cx="106668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4572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495288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3657600"/>
            <a:ext cx="152640" cy="152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495680"/>
            <a:ext cx="152640" cy="15264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26120" y="411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48320" y="23612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5334120"/>
            <a:ext cx="990360" cy="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5257800"/>
            <a:ext cx="152640" cy="152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78720" y="31230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t of points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16080" y="41900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61360" y="472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1680" y="3123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05640" y="411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266-52B8-41D0-A640-01CBC6D09A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EC449-7EF1-415A-A272-4D58B583E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§1.8 (Funct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vari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: image, preimage, domain, codomain, range, one-to-one, onto, strictly (in/de)creasing, bijective, inverse,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unary oper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9C3-218E-4EE7-B745-F1137209F7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5EDA4-2BA9-4D05-B11F-3A995B3A61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: Forma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say that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from (or “mapping”) A to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particular assignment of exactly one el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el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me further generalizations of this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artia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non-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c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ssign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zero or on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lement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each ele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nction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rguments; relations (ch. 6)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DD7-F1A4-437E-87C3-4F7D3893FD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A78EB-707A-4E8C-B9F5-660F1A1958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Re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can be represented graphically in several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81280"/>
            <a:ext cx="990720" cy="15242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657600"/>
            <a:ext cx="99072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905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604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720960"/>
            <a:ext cx="1295640" cy="470160"/>
          </a:xfrm>
          <a:custGeom>
            <a:avLst/>
            <a:gdLst/>
            <a:ahLst/>
            <a:rect l="l" t="t" r="r" b="b"/>
            <a:pathLst>
              <a:path w="816" h="296">
                <a:moveTo>
                  <a:pt x="0" y="296"/>
                </a:moveTo>
                <a:cubicBezTo>
                  <a:pt x="172" y="156"/>
                  <a:pt x="344" y="16"/>
                  <a:pt x="480" y="8"/>
                </a:cubicBezTo>
                <a:cubicBezTo>
                  <a:pt x="616" y="0"/>
                  <a:pt x="716" y="124"/>
                  <a:pt x="816" y="2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4440" y="5104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21080" y="5294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127320"/>
            <a:ext cx="1190520" cy="528840"/>
          </a:xfrm>
          <a:custGeom>
            <a:avLst/>
            <a:gdLst/>
            <a:ahLst/>
            <a:rect l="l" t="t" r="r" b="b"/>
            <a:pathLst>
              <a:path w="750" h="333">
                <a:moveTo>
                  <a:pt x="0" y="294"/>
                </a:moveTo>
                <a:cubicBezTo>
                  <a:pt x="172" y="154"/>
                  <a:pt x="355" y="0"/>
                  <a:pt x="480" y="6"/>
                </a:cubicBezTo>
                <a:cubicBezTo>
                  <a:pt x="605" y="12"/>
                  <a:pt x="694" y="265"/>
                  <a:pt x="750" y="33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411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0560" y="419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2160" y="365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8480" y="312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2720" y="441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2720" y="40374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2720" y="37328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2720" y="342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720" y="41900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720" y="464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720" y="3808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5720" y="342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3657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33920" y="48765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33920" y="36572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267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733920" y="44193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2720" y="4799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38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3479760"/>
            <a:ext cx="2057400" cy="1473120"/>
          </a:xfrm>
          <a:custGeom>
            <a:avLst/>
            <a:gdLst/>
            <a:ahLst/>
            <a:rect l="l" t="t" r="r" b="b"/>
            <a:pathLst>
              <a:path w="1296" h="928">
                <a:moveTo>
                  <a:pt x="0" y="928"/>
                </a:moveTo>
                <a:cubicBezTo>
                  <a:pt x="100" y="892"/>
                  <a:pt x="200" y="856"/>
                  <a:pt x="288" y="736"/>
                </a:cubicBezTo>
                <a:cubicBezTo>
                  <a:pt x="376" y="616"/>
                  <a:pt x="424" y="328"/>
                  <a:pt x="528" y="208"/>
                </a:cubicBezTo>
                <a:cubicBezTo>
                  <a:pt x="632" y="88"/>
                  <a:pt x="784" y="0"/>
                  <a:pt x="912" y="16"/>
                </a:cubicBezTo>
                <a:cubicBezTo>
                  <a:pt x="1040" y="32"/>
                  <a:pt x="1168" y="168"/>
                  <a:pt x="1296" y="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2560" y="4951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0" y="3961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85760" y="5409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75440" y="5256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parti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1480" y="5599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Ven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308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6092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8C8-CC1F-461E-96AE-FA537A9B5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B62E-DB3D-43F2-B072-896C7C208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We’ve Seen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viewed as a function from “situations” to truth values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logic system call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tuation theor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“It is raining.”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our situation here,now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ositional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viewed as a funct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dered pai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ruth values to truth values: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)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6143760"/>
            <a:ext cx="42177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example: →(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21A-F599-492D-8121-5ED01EA823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97AD9-7035-4A85-B031-32A54BECA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functions so fa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viewed as a funct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osi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truth values):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≡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“is 7 feet tall”; </a:t>
            </a:r>
            <a:br>
              <a:rPr sz="3200"/>
            </a:b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Mike) = “Mike is 7 feet tall.”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 string B of length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viewed as a function from the numbers {1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br>
              <a:rPr sz="3200"/>
            </a:b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10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3)=</a:t>
            </a: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908-0732-460C-86F9-B5259AB6A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62BF2-B4C5-4744-9283-94F5B9CD6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 Mor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univer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viewed as a function from the elemen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saying for each elemen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ther it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{3}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0)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3)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a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an be viewed as a function from pairs of s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({1,3},{3,4})) = {3}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5D6-C6CE-4ABE-9E92-3E04164277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1E21D-21F9-4A05-9735-E591851899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at T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968120"/>
            <a:ext cx="7772400" cy="4179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wr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note the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sible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s notation is especially appropriate, because for finit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we hav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 = |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|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use representa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then a sub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just a funct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 the power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 of all such fns.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n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064-F76A-466C-9953-DD3F8E89EF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E65C4-24AA-455A-B2D4-C94E99B60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1-15T21:25:04Z</dcterms:modified>
  <cp:revision>44</cp:revision>
  <dc:subject>Discrete Mathematics</dc:subject>
  <dc:title>Slides for Rosen, 5th edition</dc:title>
</cp:coreProperties>
</file>