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D4D985-8792-4C74-9858-9A4C1CDD7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1155F0-AA3F-4981-AD72-95CC9948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 backwards “set-membership” relational operator is an abbreviation for “such that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another example on the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come up with other examples and work through them.  Maybe start with a 2-digit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deal with summation notation in detail later.  For now, explain what it means in this particular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write out pseudocode in cla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3-input full adder truth table on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try this or one of the following algorithm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C5E-3C3C-46B0-A6AA-74D7BD9B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D61-C249-41D0-8DFE-C706B52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786-4D1C-43A7-9D56-A75795E5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C6-833B-4353-9452-6070B11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AF9-BAA5-40E3-8686-C4F104B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0E6-C6B3-4EB4-992F-EDB9B0AB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59F-B52F-4E57-80A3-4F1C688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2EF-C4C8-4578-934E-BF7D367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07A-9F31-4E49-93A0-635A310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EA8-4D9F-4042-806A-B11992F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41A-96AB-48BD-872A-3065088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A24-BB82-4305-A88F-D0A5B594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6E3C-34F7-4835-91A6-3AD397C29D2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538-3F7A-45D1-96B4-90340C728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80" y="7632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8 – Number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E1A-6C95-4773-B92B-DB532E7C8B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9BA83-DF50-4427-B275-041106613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pplication of Prim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visit a secure web sit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ttp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address, indicated by padlock icon in IE, key icon in Netscape), the browser and web site may be using a technology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A en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ublic-key cryptograph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heme involves exchang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ntaining the produc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two random large prim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which must be kept secret by a given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, the security of your day-to-day web transactions depends critically on the fact that all known factoring algorithms are intract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Note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There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a tractable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quantum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algorithm for factoring; so if we can ever build big quantum computers, then RSA is not secur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780-242D-4E69-BA8B-6283C770E9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2D4DF-ED4D-418A-BCEB-39E0F5199C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vision “Algorith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really jus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t an algorith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ly called an “algorithm” for historical reason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unique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emaind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q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Formally, the theorem is: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0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|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=dq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fi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q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5800" y="5016600"/>
            <a:ext cx="69339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DE6-264F-46D0-96C5-6F1FD444C4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86B9F-5C75-4E4E-8A08-7445223FA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est Common Divi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st common divi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both 0) is the largest (most positive)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 a divisor bo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gcd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≥ 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gcd(24,36)=?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sitive common divisors: 1,2,3,4,6,12.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largest one of these is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6B7-73C9-4C41-B448-211C5DF05B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9217D-E7D5-4258-8531-8A66D446EA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CD shortc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the prime factorizations are written a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and                                 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 the GCD is given by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using the shortc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84=2·2·3·7         =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96=2·2·2·2·2·3   =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cd(84,96)             =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·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2·2·3 = 12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47920" y="2359080"/>
                <a:ext cx="28191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05520" y="2378160"/>
                <a:ext cx="2782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14400" y="3397320"/>
                <a:ext cx="73915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914400" y="3352680"/>
            <a:ext cx="72388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2A-C209-4030-B842-D589A7CAE1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F29A0-12B3-4D55-BC54-0075B36522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Pr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vely pr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pr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ir gcd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either 21 nor 10 is prime, but they ar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pri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1=3·7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=2·5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o they have no common factors &gt; 1, so their gcd = 1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integers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}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pairwise) relatively pr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ll pair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relatively p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858-0875-488E-9B42-1FB321102D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1A69F-BA10-4581-A835-31EE341F4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st Common Mult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cm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ositive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 smallest positive integer that is a multiple bo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cm(6,10)=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lcm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= min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→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≤ 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the prime factorizations are written a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and                                 ,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n the LCM is given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71600" y="4570560"/>
                <a:ext cx="26668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52880" y="4537080"/>
                <a:ext cx="2743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71600" y="5477040"/>
                <a:ext cx="6553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371600" y="5502240"/>
            <a:ext cx="64087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427-E142-49D8-ACBD-E013D1C446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61371-B0A3-4BCB-8FDD-91D44C3FBA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“division remainder”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&g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remain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division “algorithm” with divide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ivis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remainder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ivid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ong divisio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comput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/C++/Java languages,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= m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6ED-EE8F-4443-8F17-DE370B9F32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921C-4E0D-4CEF-8BBB-3000E8030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Congr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gt;0}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{0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the + integers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congruent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modulo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“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iff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: this is a different use of “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” than the meaning “is defined as” I’ve used befor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so equivalent to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A92-779D-4E66-AA15-809346D3B5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CAFA0-B75E-4CBB-86C1-46E43B225C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Visualization 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4495680" y="2743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95680" y="3504960"/>
            <a:ext cx="12956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106704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581280" y="41911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047760" y="3733920"/>
            <a:ext cx="1447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6920" y="52578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560" y="51814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6440" y="28954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348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33973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0800" y="3778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344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49600" y="4226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6240" y="419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73320" y="3809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0800" y="3467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8640" y="3848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9120" y="446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06720" y="441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748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0" y="31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25680" y="373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11040" y="4705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0240" y="464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0624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0160" y="28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116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30280" y="49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0080" y="4876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919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6760" y="2514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6080" y="342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8880" y="5181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48160" y="39909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1080" y="40766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62640" y="4257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4040" y="42958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2320" y="40575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7880" y="36957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7840" y="3933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72160" y="445788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3240" y="4533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7760" y="3952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57880" y="33908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3790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91040" y="46767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0" y="4781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52840" y="385776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57880" y="27907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7880" y="30765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0720" y="36482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0560" y="489600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360" y="501984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67000" y="37720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6840" y="3514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29160" y="5114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022480"/>
            <a:ext cx="27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show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o-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E03-AF36-4D25-936D-87B29759CC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C9F62-32D5-4F77-85D6-D298BD662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ful Congruence Theor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n if 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▪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+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+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an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▪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mo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FEB-84A7-4331-A06B-0A704CFDB4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F55C9-072F-4C4E-81A9-F9DD6F621B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8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Number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§2.4-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0 slides, ~2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1C1-83F5-4A5D-9FC4-36AA8F0965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0B0F2-0B27-428B-AE5A-B593FDCFED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se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2.5: Integers &amp;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clidean algorithm for finding GCD’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-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epresentations of intege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specially: binary, hexadecimal, octal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lso: Two’s complement representation of negative numbers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gorithms for computer arithmetic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inary addition, multiplication, division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9A3-9C2D-492B-BA9F-DE38DB76BB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554E2-E05E-4BAE-812D-0973AF18E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clid’s Algorithm for G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GCDs by comparing prime factorizations can be difficult w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e factors are not kn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clid discovere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ints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cd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gcd(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(giv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problem is simpl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23377" t="14778" r="19487" b="35335"/>
          <a:stretch/>
        </p:blipFill>
        <p:spPr>
          <a:xfrm>
            <a:off x="7315200" y="1523880"/>
            <a:ext cx="1676520" cy="2057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7626600" y="3618000"/>
            <a:ext cx="1421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li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xandr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5-265 B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03E-846A-48DE-9758-406FF98339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00C1E-6216-4DD1-B76C-7CB4D1B58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clid’s Algorith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d(372,164) = gcd(372 mod 164, 16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2 mod 164 = 37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2/16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7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4·2 = 37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8 = 44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d(164,44) = gcd(164 mod 44, 4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4 mod 44 = 16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4/4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6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4·3 = 164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2 = 32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d(44,32) = gcd(44 mod 32, 32) = gcd(12, 32) = gcd(32 mod 12, 12) = gcd(8,12) = gcd(12 mod 8, 8) = gcd(4,8) = gcd(8 mod 4, 4) = gcd(0,4) =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2FF-CCEB-40D7-80FD-F9418D65A6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6A6D-8660-432F-913C-BAF0EF9768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clid’s Algorithm Pseudo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ositive integ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959360"/>
            <a:ext cx="478620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! Number of while loop it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s out to be O(log(max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10480" y="3873600"/>
            <a:ext cx="455616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 inputs not needed b/c or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reversed each it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52C-32AE-44F4-93D1-028AC8BC09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3A225-AE9C-4B0C-8A4E-D3755A19E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-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umb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rily, we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-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s of numbers, using digits 0-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10 isn’t special!  Any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 wil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sitive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unique seque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g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&lt;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52680" y="4572000"/>
                <a:ext cx="21337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62120" y="4665240"/>
            <a:ext cx="190476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b expans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666880" y="4648320"/>
            <a:ext cx="7621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52680" y="342864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9280" y="5943600"/>
            <a:ext cx="516708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module #12 for summation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371-101D-4758-B0C4-FFFFB4476F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690BB-E0F6-4172-88D6-13975029D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ular Base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0 (decimal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digits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,1,2,3,4,5,6,7,8,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 (binar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digits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“Bits”=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y di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8 (octal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digits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,1,2,3,4,5,6,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6 (hexadecimal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digits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,1,2,3,4,5,6,7,8,9,A,B,C,D,E,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51560" y="2593080"/>
            <a:ext cx="1792440" cy="155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ly in all modern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723920" y="3276720"/>
            <a:ext cx="259092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4432320"/>
            <a:ext cx="335304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 digits correspond to groups of 3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6251760"/>
            <a:ext cx="42670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 digits give groups of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1603440"/>
            <a:ext cx="2819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only because we have 10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23920" y="1981080"/>
            <a:ext cx="121932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8120" y="4572000"/>
            <a:ext cx="160020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47D-64A3-4BE2-A25A-641F312A12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B1C93-320A-4FDA-8786-B90442B75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to Bas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 algorithm, informally stat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ny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y b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owest-order) digit, simply comp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quotien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above two steps to find subsequent digits,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one (=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4800" y="5924520"/>
            <a:ext cx="660132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for student: Write this out in pseudoco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D9A-B15B-4161-BD1E-6E0C011F8C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01C85-1AB2-4B77-8650-BB6BB7695B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of Binary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inary representations of non-negative integ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go through bit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it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itInde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arry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2-bit sum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it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low bit of sum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high bit of sum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inary representation of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9F0-67D8-456A-960C-783F539644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822A5-4DFC-4083-9291-5DFD37C56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’s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inary, negative numbers can be conveniently represented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’s complement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cheme, a string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 can represent any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lt; 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t in the highest-order bit-position (#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presents a coefficient multiply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other position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just repres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s befor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gation of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two’s complement numbe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548640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6019920"/>
            <a:ext cx="6324480" cy="4406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twise logical complemen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it 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553080" y="57913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010-1DA3-48D5-A58E-642238B297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50B90-FC1D-4911-A3DA-FFC6383148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ness of Negat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ed in two’s complement notation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− …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Not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(1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u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o we hav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−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1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… +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(1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45240" y="261936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038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4038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490536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5334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D56-B316-4D0A-97D9-A98FC3B10F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1B96-D68F-40DD-A7C8-218CFB3598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2.4: The Integers and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you already know what the integers are, and what division 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re are some specific notations, terminology, and theorems associated with these concepts which you may not k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orm the basic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umber 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tal in many important algorithms today (hash functions, cryptography, digital signatures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CE8-ADD7-41D6-B078-DCE47F308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6304F-BD27-439F-9158-2F1CDB60B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ion of Binary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inary two’s complement reps. of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))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(−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e that this fails if either of the adds causes a carry into or out of the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−1 position, si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≠ −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(−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−2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isn’t representable!  We call this an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verflow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124080"/>
            <a:ext cx="21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932-A5CF-4151-9434-6978F249F2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6171A-21BB-4AEF-BB60-D701E9EBB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ication of Binary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inary representa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0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13520" y="5553000"/>
            <a:ext cx="198684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ra 0-b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ed af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g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362640" y="5334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270-A933-4AAD-95F7-F47A97A439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7662C-2F88-4F5D-8E98-37F688BDB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Division with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v-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{Quotient &amp; rem. o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max(leng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bits, leng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≥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Can we subtract at this position?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This bit of quotient is 1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Subtract to get remainder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This bit of quotient is 0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quotien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remaind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9CB-66DF-4F0E-9C4A-264441E010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9E9F9-00A7-4D58-887E-86DF966FC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vid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vid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=a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There is an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: 3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but 3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we sa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.: “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even” 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 2|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Is 0 even?  Is −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715-AA8D-460A-A336-EA6896D8FB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ED461-922C-48C6-BC32-3326D84BD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re: the Divides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0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|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(2):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ere is a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there is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|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F60-EF36-4E46-8D40-173124BDDE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49299-8040-40DC-B7C4-2A8D0FFA4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etailed Version of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integers such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show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n.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know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=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=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 such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 = 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mel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651-FA67-43C9-998D-546DC86B2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BA761-A80A-4A52-8A14-38065C404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it is not the product of two integers greater than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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positive factors of a pr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1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elf.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me primes: 2,3,5,7,11,13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on-prime integers greater than 1 are called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composite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, because they can be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composed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by multiplying two integers greater tha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CB1-C931-449A-B94C-240665CFA5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E963F-AF3D-41F0-9445-3D737A90F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§2.4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=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1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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1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|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mpo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07A-F747-46A5-ADA7-DD4B75C649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6BE66-4AED-48E3-953A-DBCC11B37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al Theorem of Arithme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positive integer h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tion as the product of a non-decreasing series of zero or more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me example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 = (product of empty series) = 1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 = 2 (product of series with one element 2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 = 2·2 (product of series 2,2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000 = 2·2·2·2·5·5·5;   2001 = 3·23·29;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002 = 2·7·11·13;  2003 = 2003  (no clear pattern!)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9320" y="1523880"/>
            <a:ext cx="666252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s "Prime Factorization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505320" y="1980720"/>
            <a:ext cx="0" cy="838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0040" y="5827680"/>
            <a:ext cx="565200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, we will see how to rigorously prove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amental Theorem of Arithmetic, starting from scrat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C99-6B7E-4087-A35F-78F467FD1D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0B7AA-F87B-493F-B9A9-36F7273F3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29T21:33:08Z</dcterms:modified>
  <cp:revision>58</cp:revision>
  <dc:subject>Discrete Mathematics</dc:subject>
  <dc:title>Slides for Rosen, 5th edition</dc:title>
</cp:coreProperties>
</file>