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69363DE-8972-464D-99A9-D491D566C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AD22FF-0C14-4E57-B92F-A38A5464E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8BD-C27E-4C66-BC69-553B492D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98F-B895-49D8-B434-61E990E1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C06-E9F6-431F-9BFA-4E33F9E4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D9D-FEFB-4F58-A5FE-7306233D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C31-B180-4902-8F07-FB5D1D75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BB1-39A2-41F0-971B-71FCA5D0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848-22A8-4772-82FD-D2742C45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0A0-0A35-4B0B-808E-D47E8111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2A8-9567-44CC-B738-CD3F754B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356-D3EF-460A-8574-39515864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874-4D56-47A4-8FCC-0B794D06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52F-33B9-4CB9-8B39-F68BE67F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40DD-7DF4-42CD-A6B4-FF6BD5A7C67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84E0-D733-4DBC-8A87-7761E4D5E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000" y="7632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21 -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CCD-60C6-4272-877C-F026DF7488D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AD0F7-7B4A-4D2A-83DF-43E2C87DA7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t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for every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re is at least on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t total, then it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ctly part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al re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relation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strictly partial.  (Or, it might be tota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other words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l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ons are considered “partial.”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33B-3EB0-4510-8323-95E48242E3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24578-ED4C-412D-BD78-CFE9E5647C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ct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, for an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functional”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¬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functional, then it corresponds to a partial functio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where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=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Rb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; 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e.g.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.g.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The relation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b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≡ “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0” yields the function −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funct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s inverse rel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functiona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te: A functional relation (partial function) that is also antifunctional is a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vertibl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artial function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is both functional and total, that is, for an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¬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functional but not total, then it is a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rictly partial functio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ercise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how that if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functional and antifunctional, and both it and its inverse are total, then it is a bijective function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72B-3274-49D4-BDEB-5915EDE42C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EC8DB-8B52-4FD5-A770-982B306A94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mbda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mbda calcul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formal mathematical language for defining and operating on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t is the mathematical foundation of a number of functional (recursive function-based) programming languages, such as LISP and ML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ba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mbda n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which “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s a way to denote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ever assigning it a specific 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.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3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a name for the functio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=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bda notation and the “such that” operator “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can also be used to compose an expression for the function that corresponds to any given functional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be any functional relation o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.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n the expressio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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notes the functio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ere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f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E.g., If I write: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≡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l-G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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0)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his is one way of defining the function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=−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8B0-3E8F-4CA9-B9EA-AB4D267526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36079-FBA6-478C-8A3C-CD6779BE16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e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×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MT Extra"/>
                <a:ea typeface="MT Extra"/>
              </a:rPr>
              <a:t>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MT Extra"/>
                <a:ea typeface="MT Extra"/>
              </a:rPr>
              <a:t>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{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|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S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function compositio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MT Extra"/>
                <a:ea typeface="MT Extra"/>
              </a:rPr>
              <a:t>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ove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ransitive if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MT Extra"/>
                <a:ea typeface="MT Extra"/>
              </a:rPr>
              <a:t>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defined recursively b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≡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+1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≡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MT Extra"/>
                <a:ea typeface="MT Extra"/>
              </a:rPr>
              <a:t>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for all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gative powers o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an also be defined if desired, by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≡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19D-F1DE-4C43-8137-4E1AB3F0AD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FFBC2-1DE6-4031-9B3C-7439221388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7.2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ary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ry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set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(with signature)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simply a sub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… ×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in the domain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t contains at most o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upl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…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…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y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dom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61E-23CE-4C02-960F-D9D19120BE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11018-2DDC-491D-B7DC-E1586A1684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lational data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ssentially just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y rel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oma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he database if the rel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functional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site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he database is a set of dom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s at most 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upl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…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…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ach composite valu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…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B57-0CBE-4780-8163-57F80BC09A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EC2C3-98E1-4242-813C-10B2519B02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y domai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edicate) on element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uples)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ection op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operator that maps any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y) rel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y relation of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uples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satisf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.e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752-C4C0-4BDB-A609-9C54D4D2AF1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A8EE6-82F8-4334-B03C-1F04DB943E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Operat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have a domain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 StudentNam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Standing × SocSec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we define a certain condi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pperLeve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ndin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s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:≡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nding =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unior)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ndin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senior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UpperLev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election operator that takes any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atabase of students) and produces a relation consisting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upper-level classes (juniors and senio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992-0FF4-4500-B699-EA0EF68C45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E3B0E-6C9E-4DCD-A034-27E01221F1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…×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ry domain, and le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…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 sequence of indices all falling in the range 1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at is, whe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≤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≤ 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for al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≤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≤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hen the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rojection operator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on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tupl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s defined b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581280" y="4419720"/>
                <a:ext cx="38102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sub>
                    </m:sSub>
                    <m:r>
                      <m:t xml:space="preserve">:</m:t>
                    </m:r>
                    <m:r>
                      <m:t xml:space="preserve">A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…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581280" y="5257800"/>
                <a:ext cx="4638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0AE-D960-43CD-8D89-7A64621F79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A9C50-124E-4451-8506-693ADD649D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have a ternary (3-ary) domai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ar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de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a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l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index sequenc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= 1,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proje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y maps each tupl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de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a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lo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ts imag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perator can be usefully applied to a whole relatio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atabase of cars) to obtain a list of the model/color combination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45680" y="3429000"/>
            <a:ext cx="6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354400" y="4159080"/>
                <a:ext cx="464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olo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4BC-AA20-47FF-8B1F-8680804959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365D9-0191-4138-8B81-393D404F43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21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ch.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5 slides (in progress),  ~2 l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17A-8546-4EEB-ACF5-8E573332BA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79E3E-F7CD-4327-8E73-5F89055046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s two relations together to form a sort of combined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tupl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ear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 tupl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ear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 tupl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ears in the joi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here can also be sequences of elements (across multiple fields), not just single element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5A7-72BB-42DC-80DF-FD8863626FB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9F0F1-1D6C-4103-96C7-4735877F20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eaching assignment table, relat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rofess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our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oom assignment table relat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our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oo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ike your class schedule, list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rofesso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ours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oo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im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D1E-3907-432E-A2B7-87F1A07061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7CB9E-5618-4069-8BE7-F9C7FB6951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7.3: Representing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ways to repres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y rel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th an explicit list or table of its tuple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th a function from the domain 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r with an algorithm for computing this function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pecial ways to represent binary rel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th a zero-one matrix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th a directed graph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8AB-69F6-4642-898F-331D600BA9C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EDDEB-40BE-4D3F-8D56-95A5157DEB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Zero-One Matr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present a binary relatio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-1 matrix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Suppose Joe likes Susan and Mary, Fred likes Mary, and Mark likes S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0-1 matrix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relation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kes:Boy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Gir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267080" y="3733920"/>
                <a:ext cx="4038840" cy="19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usan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ry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lly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oe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d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rk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862-5E99-4392-B0EE-C59B051F95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24D1C-B34F-4F37-ADE0-940E3F9521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ro-One Reflexive, Symmetr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eflex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n-reflexive, irreflex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mmetric, asymmetric, and antisymmet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se relation characteristics are very easy to recognize by inspection of the zero-one matrix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838080" y="4038480"/>
                <a:ext cx="739152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/>
                          </m:mr>
                          <m:mr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724280" y="4191120"/>
            <a:ext cx="1447920" cy="1447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4267080"/>
            <a:ext cx="1447920" cy="1447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4266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334120" y="48002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81680" y="43430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182000" y="478116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219800" y="4828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1560" y="5867280"/>
            <a:ext cx="1881360" cy="6426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flex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1’s on diag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80200" y="5867280"/>
            <a:ext cx="1881360" cy="6426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rreflex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0’s on diag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0120" y="5867280"/>
            <a:ext cx="1599480" cy="9169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ymmetr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dentic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ross diag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81080" y="5867280"/>
            <a:ext cx="1715400" cy="9169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tisymmetr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1’s are acro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0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9640" y="5121360"/>
            <a:ext cx="55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y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4520" y="4130640"/>
            <a:ext cx="55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y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26640" y="5197320"/>
            <a:ext cx="55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y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93320" y="4114800"/>
            <a:ext cx="55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y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750400">
            <a:off x="5058000" y="468252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750400">
            <a:off x="6832800" y="459360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857-1A2C-487C-8110-1933D1136E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37825-3755-4FDC-9F5F-6CCF1B15A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Directed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ected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ertices (node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 se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ges (arcs,link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Visually represented using dots for nodes, and arrows for edges.  Notice that a rela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resented as a grap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4606920"/>
                <a:ext cx="33526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usan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ry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lly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oe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d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rk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65000" y="4143240"/>
            <a:ext cx="337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trix representation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6960" y="4114800"/>
            <a:ext cx="11365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Graph 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rep.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59480" y="475308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59480" y="521028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59480" y="566748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97560" y="475308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97560" y="521028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97560" y="566748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35600" y="45244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98800" y="4981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16000" y="5438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4760" y="4524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4960" y="4981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74240" y="5438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45160" y="479124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35800" y="5248440"/>
            <a:ext cx="7617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35800" y="5695920"/>
            <a:ext cx="7617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35800" y="4829040"/>
            <a:ext cx="76176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12600" y="6064200"/>
            <a:ext cx="128268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s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lack do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6726240" y="5476680"/>
            <a:ext cx="380880" cy="1067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31960" y="3914640"/>
            <a:ext cx="140760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dge set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G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blue arro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 rot="5400000">
            <a:off x="6802200" y="4256280"/>
            <a:ext cx="228600" cy="609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56A-13B4-4A2B-A39C-D14912D102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C84CC-9F7A-45E4-B7B8-8D4C81C05E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raph Reflexive, Symmetr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extremely easy to recognize the reflexive/irreflexive/ symmetric/antisymmetric properties by graph insp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581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4114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419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124080"/>
            <a:ext cx="19047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2120" y="429588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 3"/>
                <a:ea typeface="Wingdings 3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1520" y="377208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 3"/>
                <a:ea typeface="Wingdings 3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000" y="346716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 3"/>
                <a:ea typeface="Wingdings 3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720" y="399420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 3"/>
                <a:ea typeface="Wingdings 3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6120" y="428940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 3"/>
                <a:ea typeface="Wingdings 3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657600"/>
            <a:ext cx="3808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066320" y="4419720"/>
            <a:ext cx="68580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440" y="325764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 3"/>
                <a:ea typeface="Wingdings 3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42840" y="3276720"/>
            <a:ext cx="733680" cy="304560"/>
          </a:xfrm>
          <a:custGeom>
            <a:avLst/>
            <a:gdLst/>
            <a:ahLst/>
            <a:rect l="l" t="t" r="r" b="b"/>
            <a:pathLst>
              <a:path w="432" h="216">
                <a:moveTo>
                  <a:pt x="0" y="216"/>
                </a:moveTo>
                <a:cubicBezTo>
                  <a:pt x="36" y="132"/>
                  <a:pt x="72" y="48"/>
                  <a:pt x="144" y="24"/>
                </a:cubicBezTo>
                <a:cubicBezTo>
                  <a:pt x="216" y="0"/>
                  <a:pt x="324" y="36"/>
                  <a:pt x="432" y="7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0440" y="4952880"/>
            <a:ext cx="19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xiv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a self-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0196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3548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7040" y="4114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828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1636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8440" y="3124080"/>
            <a:ext cx="19051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54240" y="3657600"/>
            <a:ext cx="38124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130200" y="4419720"/>
            <a:ext cx="68580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4004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06720" y="3276720"/>
            <a:ext cx="733320" cy="304560"/>
          </a:xfrm>
          <a:custGeom>
            <a:avLst/>
            <a:gdLst/>
            <a:ahLst/>
            <a:rect l="l" t="t" r="r" b="b"/>
            <a:pathLst>
              <a:path w="432" h="216">
                <a:moveTo>
                  <a:pt x="0" y="216"/>
                </a:moveTo>
                <a:cubicBezTo>
                  <a:pt x="36" y="132"/>
                  <a:pt x="72" y="48"/>
                  <a:pt x="144" y="24"/>
                </a:cubicBezTo>
                <a:cubicBezTo>
                  <a:pt x="216" y="0"/>
                  <a:pt x="324" y="36"/>
                  <a:pt x="432" y="7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6120" y="495288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flexiv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 to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749680" y="3962160"/>
            <a:ext cx="685800" cy="152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749320" y="4267080"/>
            <a:ext cx="22860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825280" y="4038480"/>
            <a:ext cx="68580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6428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7440" y="3886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9360" y="4114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40240" y="4419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868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30760" y="3124080"/>
            <a:ext cx="19051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6560" y="3657600"/>
            <a:ext cx="3808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492520" y="4419720"/>
            <a:ext cx="68580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0236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18960" y="4952880"/>
            <a:ext cx="174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metric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link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11640" y="3962160"/>
            <a:ext cx="685800" cy="152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111280" y="4190760"/>
            <a:ext cx="2286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187600" y="4038480"/>
            <a:ext cx="68580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35680" y="4267080"/>
            <a:ext cx="2286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568840" y="4495680"/>
            <a:ext cx="533520" cy="76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5416200" y="3733560"/>
            <a:ext cx="304920" cy="152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416200" y="3429000"/>
            <a:ext cx="685800" cy="152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492880" y="3504960"/>
            <a:ext cx="609480" cy="152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11280" y="3809880"/>
            <a:ext cx="2286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959360" y="3733920"/>
            <a:ext cx="304920" cy="304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60160" y="432432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 3"/>
                <a:ea typeface="Wingdings 3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07960" y="434340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 3"/>
                <a:ea typeface="Wingdings 3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114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9152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296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124080"/>
            <a:ext cx="19051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3657600"/>
            <a:ext cx="38124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543440" y="4419720"/>
            <a:ext cx="68580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532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93480" y="4952880"/>
            <a:ext cx="209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symmetric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nk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238520" y="4038480"/>
            <a:ext cx="68580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4267080"/>
            <a:ext cx="2286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467120" y="3429000"/>
            <a:ext cx="685800" cy="152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162560" y="3809880"/>
            <a:ext cx="2286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11440" y="432432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 3"/>
                <a:ea typeface="Wingdings 3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59240" y="434340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 3"/>
                <a:ea typeface="Wingdings 3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10280" y="3276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6200" y="317196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 3"/>
                <a:ea typeface="Wingdings 3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666880" y="3733920"/>
            <a:ext cx="304920" cy="304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5480" y="6167520"/>
            <a:ext cx="421920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asymmetric &amp; non-antisymme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30040" y="6167520"/>
            <a:ext cx="402732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non-reflexive &amp; non-irreflex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990720" y="3733560"/>
            <a:ext cx="304560" cy="152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B70-3E33-441E-AEC4-306B7D6947E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20681-3D12-471D-A986-C63092189D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7.4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s of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proper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osure” of a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fined as the “smallest” super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the given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lexive 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rel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obtained by add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mmetric 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btained by add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i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e 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vity rel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btained by repeatedly add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.e.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it i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514600" y="5295960"/>
                <a:ext cx="2133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/>
                    </m:sSup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n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6248520" y="31240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3809880"/>
            <a:ext cx="106668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EE0-44BA-4FE5-BD00-28B93A6524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F9D8B-5243-4B0C-92BD-B11FDA2B86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s in Digraphs/Binary Re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directed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the binary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sequenc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,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, …,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dered pai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 empty sequence of edges is considered a path of length 0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any path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xists, then we say tha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nected t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(“You can get there from here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”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th of length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tself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a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there exists a path of leng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nd only i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296-F338-4EF3-B60F-9897F40A2B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4CFF3-9382-4C0A-A0DE-270021D86B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Transitive Closure Al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cedure to compu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0-1 matr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Clo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ran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-1 ma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2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: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join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 B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Alg. takes </a:t>
            </a:r>
            <a:r>
              <a:rPr b="0" lang="el-G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time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2360" y="4800600"/>
            <a:ext cx="56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{not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epresent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represents       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086600" y="4724280"/>
                <a:ext cx="736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/>
                          <m:lim>
                            <m:r>
                              <m:t xml:space="preserve">i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994-04C4-42E5-AA76-14BE400AE28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51E33-2460-4515-82F1-80F034EE5D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ny sets. 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ritten (with signature)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(can be identified with) a subset of the se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.g.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let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↔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≡ {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ta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ns tha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.g.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mean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&lt;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may sa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lat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y rel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r just “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relates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under relatio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”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inary rel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s to a predicate func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{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ed over the 2 se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.g.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predicat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eats” :≡ {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| organism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ats fo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E38-683C-4937-BD0D-18B7E4FAC4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84184-4861-491F-B87D-58B247F3A1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aster Transitive Closure Al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Clo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ran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-1 ma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1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+I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represents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 A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Alg. takes only </a:t>
            </a:r>
            <a:r>
              <a:rPr b="0" lang="el-G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3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g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time!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781680" y="3378240"/>
                <a:ext cx="10400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/>
                          <m:li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4E6-2E05-4B84-B993-8A82F8D9FD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03116-2C4E-49CB-BD0E-2A851D7DD9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-Warshall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only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per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sh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rank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-1 matr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this represent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6440" y="5915160"/>
            <a:ext cx="8562600" cy="5101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means there is a path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ing only through nod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C19-C5F3-4239-B357-5B17460C41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42C27-89AD-4190-B93A-5BB6629623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7.5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ce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valence re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.r.) on a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imply any binary relation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s reflexive, symmetric, and tran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tself is an equivalence relation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 any functio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he relation “have the sam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value”,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{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|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s an equivalence relation,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, let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m=“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other of” then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= “have the same mother” is an e.r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189-1DFD-4E17-BB7B-0984D09A261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76531-566A-4DE4-800A-174A4F130E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ce Relation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same lengt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the same absolute valu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 numbe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the same fractional part.”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.e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the same residue modul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for a give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2E7-8953-425E-9446-B5A4932B0D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FACB5-EA78-4648-AD77-F8A3AAF08B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c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equiv. rel. on a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ivalence 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 {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|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optional sub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t is the set of all elements o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hat are “equivalent”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ccording to the eq.rel.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ach such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including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tself) is called a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presentativ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f 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]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y equivalence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defined using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≡ 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ave the sam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value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2E8-AE4E-44C3-A7D5-D5F5261DE01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2DA72-2C1A-4112-9813-AF119E2159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ce Class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lengt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] = the set of all strings of the same length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the same absolute valu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] = the set {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numb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the same fractional par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] = the set {…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2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1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1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2, …}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the same residue modul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  (for a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] = the set {…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…}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29B-F6D6-4EEC-A6FE-4CE2053EAFB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F4799-2724-4EE4-AE10-F68B5B7BAE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et of all the equivalence classes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} for some equivalence relation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’s are all disjoint and their union =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“partition” the set into pieces.  Within each piece, all members of that set are equivalent to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312-0721-4032-9532-4115EF46F3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F2FBB-0861-410C-A154-C6A492AB0B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7.6: Partial Orde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ial orde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ial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it is reflexive, antisymmetric, and tran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 often use a symbol looking something like 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(or analogous shapes) for such relation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xamples: ≤, ≥ on real numbers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on set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Another example: the divides relation | o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Z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Arial Unicode MS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Note it is not necessarily the case that either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a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≼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b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 or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b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≼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a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gether with a partial order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ially ordered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s denote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E94-3FCB-4F1D-A285-28B8BC55C4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B5A30-2187-4707-B570-3D80D01EFC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ets as Noncyclical Di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one-to-one correspondence between posets and the reflexive+transitive closures of noncyclical digrap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ncyclical: Containing no directed cycle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consider the poset ({0,…,10},|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ts minimal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graph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9092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2936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1972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6272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05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8164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8164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96040" y="483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11880" y="514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560" y="544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733560" y="4759200"/>
            <a:ext cx="685800" cy="3812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733920" y="5140440"/>
            <a:ext cx="761760" cy="759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809520" y="5292360"/>
            <a:ext cx="685800" cy="1522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733920" y="5369040"/>
            <a:ext cx="761760" cy="3808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571640" y="4759200"/>
            <a:ext cx="76212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638680" y="4759200"/>
            <a:ext cx="91440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648320" y="5064120"/>
            <a:ext cx="83808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4723920" y="4835160"/>
            <a:ext cx="762120" cy="2286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4723920" y="5140080"/>
            <a:ext cx="762120" cy="2286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4648320" y="4835520"/>
            <a:ext cx="761760" cy="8380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723920" y="5444640"/>
            <a:ext cx="685800" cy="2286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17000" y="498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705360" y="4835160"/>
            <a:ext cx="609480" cy="3049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638320" y="5063760"/>
            <a:ext cx="1676520" cy="1522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714640" y="5292720"/>
            <a:ext cx="1676520" cy="763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790960" y="5292720"/>
            <a:ext cx="1600200" cy="3808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24280" y="5359320"/>
            <a:ext cx="2733840" cy="538200"/>
          </a:xfrm>
          <a:custGeom>
            <a:avLst/>
            <a:gdLst/>
            <a:ahLst/>
            <a:rect l="l" t="t" r="r" b="b"/>
            <a:pathLst>
              <a:path w="1722" h="339">
                <a:moveTo>
                  <a:pt x="1722" y="0"/>
                </a:moveTo>
                <a:cubicBezTo>
                  <a:pt x="1696" y="28"/>
                  <a:pt x="1651" y="94"/>
                  <a:pt x="1604" y="113"/>
                </a:cubicBezTo>
                <a:cubicBezTo>
                  <a:pt x="1587" y="120"/>
                  <a:pt x="1569" y="123"/>
                  <a:pt x="1553" y="130"/>
                </a:cubicBezTo>
                <a:cubicBezTo>
                  <a:pt x="1538" y="137"/>
                  <a:pt x="1523" y="145"/>
                  <a:pt x="1508" y="153"/>
                </a:cubicBezTo>
                <a:cubicBezTo>
                  <a:pt x="1487" y="164"/>
                  <a:pt x="1440" y="175"/>
                  <a:pt x="1440" y="175"/>
                </a:cubicBezTo>
                <a:cubicBezTo>
                  <a:pt x="1362" y="230"/>
                  <a:pt x="1250" y="263"/>
                  <a:pt x="1158" y="271"/>
                </a:cubicBezTo>
                <a:cubicBezTo>
                  <a:pt x="1097" y="296"/>
                  <a:pt x="1153" y="276"/>
                  <a:pt x="1039" y="294"/>
                </a:cubicBezTo>
                <a:cubicBezTo>
                  <a:pt x="956" y="307"/>
                  <a:pt x="873" y="319"/>
                  <a:pt x="791" y="339"/>
                </a:cubicBezTo>
                <a:cubicBezTo>
                  <a:pt x="594" y="314"/>
                  <a:pt x="400" y="289"/>
                  <a:pt x="203" y="266"/>
                </a:cubicBezTo>
                <a:cubicBezTo>
                  <a:pt x="0" y="243"/>
                  <a:pt x="93" y="243"/>
                  <a:pt x="23" y="243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C19-5D27-4494-8161-7E257E65C6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1C13B-082A-4A01-BBA4-0EDC5398EA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to com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lides on partial orderings to be added in the futu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879-FC25-4F0E-8256-E24B07E8FA8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BF85F-116A-48A0-AF8C-000B188C1E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ary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ny binary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the binary relation defined by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≡ {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|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is is jus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universe of discourse i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thus the na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e complement o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1440" y="403848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609560" y="3524400"/>
            <a:ext cx="457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076480" y="2638440"/>
            <a:ext cx="457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05520" y="5409720"/>
            <a:ext cx="4572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7520" y="5943600"/>
            <a:ext cx="67104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{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|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} = {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|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¬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65160" y="6080040"/>
            <a:ext cx="7596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1ED-5211-4998-849F-4649417365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23144-6CC1-43DB-A698-E720CED3C5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e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binary relati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ti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fined b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≡ {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|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.g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{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|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} = {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|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} =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People→Foods is defined by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R 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at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then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eaten b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Passive voice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2E8-D11A-4254-BB28-4A52E2F5D0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3F8EE-2579-4B26-8657-B87B61E0AB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 on a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(binary) relation from a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itself is called a rel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“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relation from earlier was defined as a rel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e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natural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(binary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ty rel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e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{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5EE-B355-4EA4-A7E0-1D39B9FA80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14F8F-68EE-44D4-B296-B7FC6DF908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x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lex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the rel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≡ {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|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reflexiv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flex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f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flex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ample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irreflexive, because ≥ is reflexiv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te “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rreflexiv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” doe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mean “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flexiv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”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or example: the relation “likes” between people is not reflexive, but it is not irreflexive either.  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ce not everyone likes themselves, but not everyone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likes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hemselves either!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09320" y="3505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CB2-4ABE-43FD-BE9F-FF8FF0FD92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517FF-6909-4DD0-9978-C94CD28CDE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metry &amp; Anti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rel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s, i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↔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.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equality) is symmetric.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not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 married to” is symmetric, “likes” is not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rel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tisymmet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amples: &lt;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antisymmetric, “likes” is not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ercise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rove this definition of antisymmetric is equivalent to the statement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B67-638C-4A19-BF66-5459961587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BB242-0CAC-4CC7-96A8-8D35D4212B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(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lation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ns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f it is not tran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 an ancestor of” is transitiv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kes” between people is intransitiv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 located within 1 mile of” is… ?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ACD-D8D0-4B9C-AD5F-49FA6EC3A9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67450-C061-4F21-8D3D-E76E873050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3-23T21:55:57Z</dcterms:modified>
  <cp:revision>70</cp:revision>
  <dc:subject>Discrete Mathematics</dc:subject>
  <dc:title>Slides for Rosen, 5th edition</dc:title>
</cp:coreProperties>
</file>