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GLASS.WAV" ContentType="audio/x-wav"/>
  <Override PartName="/ppt/media/image3.wmf" ContentType="image/x-wmf"/>
  <Override PartName="/ppt/media/WHOOSH.WAV" ContentType="audio/x-wav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0480" cy="474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62520" y="-360"/>
            <a:ext cx="3030480" cy="474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B38110D-ABC3-4D55-B553-0CFB747E79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72880" y="71280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92640"/>
            <a:ext cx="3030480" cy="476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62520" y="8792640"/>
            <a:ext cx="3030480" cy="476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0341AC7-9919-451C-9984-09F4B4142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1173240" y="71280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about organization: Since different courses have different lengths of lecture periods, and different instructors go at different paces, rather than dividing the material up into fixed-length lectures, we will divide it up into “modules” which correspond to major topic areas and will generally take 1-3 lectures to cover.  Within modules, we have smaller “topics”.  Within topics are individual sl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7A21-F077-4166-A53F-5712BA87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0007-D0AF-4EBD-8E86-24204BC3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372D-C841-4387-B13F-E5CC9AB1D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278E-7D97-4833-B4B6-DC52CDE66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AC8A-20BC-4916-A06E-C9BA3BBD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4A4C-9D8D-4931-90A0-219403D5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8548-3125-4433-B479-8D1856E2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9432-754C-4306-AC23-D8FC991E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F629-2932-4F6F-9D4E-0295C88F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4F86-3A34-4BCB-84D4-71ED0D5E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686F-BC14-4EE6-B235-77BDA837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694E-8E2B-4FB0-820C-C14FB1AA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66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F130-4A29-44D2-B109-9A9D6F70A4A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AD8A-FC48-43D6-B6D2-492EA76C43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1280" y="76320"/>
            <a:ext cx="23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dule #22 -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6933960" cy="25146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Florid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t. of Computer &amp; Information Science &amp; Engineering</a:t>
            </a:r>
            <a:br>
              <a:rPr sz="2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T 3100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ications of Discrete Structures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Michael P. Fr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ides for a Course Based on the Text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screte Mathematics &amp; Its Applic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dition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Kenneth H. Ro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2E80-E669-4366-90B6-66CD3BEAE79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92D4CB-AF59-4BFD-BD94-728B7C6410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ed Multi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3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directed graphs, but there may be more than one arc from a node to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rected multigra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ists of a s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vertices, a s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edges, and a functio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web pages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hyperlinks.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WWW i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directed multigraph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4384800"/>
            <a:ext cx="836640" cy="390240"/>
          </a:xfrm>
          <a:custGeom>
            <a:avLst/>
            <a:gdLst/>
            <a:ahLst/>
            <a:rect l="l" t="t" r="r" b="b"/>
            <a:pathLst>
              <a:path w="576" h="246">
                <a:moveTo>
                  <a:pt x="0" y="246"/>
                </a:moveTo>
                <a:cubicBezTo>
                  <a:pt x="61" y="142"/>
                  <a:pt x="123" y="38"/>
                  <a:pt x="219" y="19"/>
                </a:cubicBezTo>
                <a:cubicBezTo>
                  <a:pt x="315" y="0"/>
                  <a:pt x="445" y="66"/>
                  <a:pt x="576" y="13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42360" y="4708440"/>
            <a:ext cx="517320" cy="851040"/>
          </a:xfrm>
          <a:custGeom>
            <a:avLst/>
            <a:gdLst/>
            <a:ahLst/>
            <a:rect l="l" t="t" r="r" b="b"/>
            <a:pathLst>
              <a:path w="285" h="673">
                <a:moveTo>
                  <a:pt x="0" y="0"/>
                </a:moveTo>
                <a:cubicBezTo>
                  <a:pt x="108" y="90"/>
                  <a:pt x="217" y="180"/>
                  <a:pt x="251" y="292"/>
                </a:cubicBezTo>
                <a:cubicBezTo>
                  <a:pt x="285" y="404"/>
                  <a:pt x="244" y="538"/>
                  <a:pt x="203" y="67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96080" y="5676840"/>
            <a:ext cx="1004760" cy="271440"/>
          </a:xfrm>
          <a:custGeom>
            <a:avLst/>
            <a:gdLst/>
            <a:ahLst/>
            <a:rect l="l" t="t" r="r" b="b"/>
            <a:pathLst>
              <a:path w="698" h="115">
                <a:moveTo>
                  <a:pt x="0" y="0"/>
                </a:moveTo>
                <a:cubicBezTo>
                  <a:pt x="100" y="56"/>
                  <a:pt x="201" y="113"/>
                  <a:pt x="317" y="114"/>
                </a:cubicBezTo>
                <a:cubicBezTo>
                  <a:pt x="433" y="115"/>
                  <a:pt x="565" y="61"/>
                  <a:pt x="698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580080" y="4813200"/>
            <a:ext cx="1246320" cy="733680"/>
          </a:xfrm>
          <a:custGeom>
            <a:avLst/>
            <a:gdLst/>
            <a:ahLst/>
            <a:rect l="l" t="t" r="r" b="b"/>
            <a:pathLst>
              <a:path w="818" h="503">
                <a:moveTo>
                  <a:pt x="7" y="0"/>
                </a:moveTo>
                <a:cubicBezTo>
                  <a:pt x="3" y="82"/>
                  <a:pt x="0" y="165"/>
                  <a:pt x="88" y="203"/>
                </a:cubicBezTo>
                <a:cubicBezTo>
                  <a:pt x="176" y="241"/>
                  <a:pt x="412" y="177"/>
                  <a:pt x="534" y="227"/>
                </a:cubicBezTo>
                <a:cubicBezTo>
                  <a:pt x="656" y="277"/>
                  <a:pt x="737" y="390"/>
                  <a:pt x="818" y="50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529320" y="4691160"/>
            <a:ext cx="228600" cy="2286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786800" y="5524560"/>
            <a:ext cx="228600" cy="2286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429680" y="4495680"/>
            <a:ext cx="228600" cy="2286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67560" y="5564160"/>
            <a:ext cx="228600" cy="2286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24720" y="4092480"/>
            <a:ext cx="538200" cy="488880"/>
          </a:xfrm>
          <a:custGeom>
            <a:avLst/>
            <a:gdLst/>
            <a:ahLst/>
            <a:rect l="l" t="t" r="r" b="b"/>
            <a:pathLst>
              <a:path w="339" h="308">
                <a:moveTo>
                  <a:pt x="69" y="308"/>
                </a:moveTo>
                <a:cubicBezTo>
                  <a:pt x="185" y="276"/>
                  <a:pt x="301" y="244"/>
                  <a:pt x="320" y="195"/>
                </a:cubicBezTo>
                <a:cubicBezTo>
                  <a:pt x="339" y="146"/>
                  <a:pt x="231" y="32"/>
                  <a:pt x="182" y="16"/>
                </a:cubicBezTo>
                <a:cubicBezTo>
                  <a:pt x="133" y="0"/>
                  <a:pt x="56" y="57"/>
                  <a:pt x="28" y="98"/>
                </a:cubicBezTo>
                <a:cubicBezTo>
                  <a:pt x="0" y="139"/>
                  <a:pt x="6" y="199"/>
                  <a:pt x="12" y="26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49920" y="5310360"/>
            <a:ext cx="430200" cy="379080"/>
          </a:xfrm>
          <a:custGeom>
            <a:avLst/>
            <a:gdLst/>
            <a:ahLst/>
            <a:rect l="l" t="t" r="r" b="b"/>
            <a:pathLst>
              <a:path w="271" h="239">
                <a:moveTo>
                  <a:pt x="149" y="239"/>
                </a:moveTo>
                <a:cubicBezTo>
                  <a:pt x="202" y="220"/>
                  <a:pt x="255" y="202"/>
                  <a:pt x="263" y="166"/>
                </a:cubicBezTo>
                <a:cubicBezTo>
                  <a:pt x="271" y="130"/>
                  <a:pt x="237" y="40"/>
                  <a:pt x="198" y="20"/>
                </a:cubicBezTo>
                <a:cubicBezTo>
                  <a:pt x="159" y="0"/>
                  <a:pt x="56" y="17"/>
                  <a:pt x="28" y="44"/>
                </a:cubicBezTo>
                <a:cubicBezTo>
                  <a:pt x="0" y="71"/>
                  <a:pt x="14" y="126"/>
                  <a:pt x="28" y="18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47120" y="4672080"/>
            <a:ext cx="642960" cy="1139760"/>
          </a:xfrm>
          <a:custGeom>
            <a:avLst/>
            <a:gdLst/>
            <a:ahLst/>
            <a:rect l="l" t="t" r="r" b="b"/>
            <a:pathLst>
              <a:path w="405" h="758">
                <a:moveTo>
                  <a:pt x="219" y="672"/>
                </a:moveTo>
                <a:cubicBezTo>
                  <a:pt x="269" y="715"/>
                  <a:pt x="320" y="758"/>
                  <a:pt x="348" y="697"/>
                </a:cubicBezTo>
                <a:cubicBezTo>
                  <a:pt x="376" y="636"/>
                  <a:pt x="405" y="413"/>
                  <a:pt x="389" y="308"/>
                </a:cubicBezTo>
                <a:cubicBezTo>
                  <a:pt x="373" y="203"/>
                  <a:pt x="316" y="115"/>
                  <a:pt x="251" y="64"/>
                </a:cubicBezTo>
                <a:cubicBezTo>
                  <a:pt x="186" y="13"/>
                  <a:pt x="93" y="6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32720" y="4684680"/>
            <a:ext cx="745920" cy="246240"/>
          </a:xfrm>
          <a:custGeom>
            <a:avLst/>
            <a:gdLst/>
            <a:ahLst/>
            <a:rect l="l" t="t" r="r" b="b"/>
            <a:pathLst>
              <a:path w="470" h="155">
                <a:moveTo>
                  <a:pt x="0" y="106"/>
                </a:moveTo>
                <a:cubicBezTo>
                  <a:pt x="47" y="130"/>
                  <a:pt x="95" y="155"/>
                  <a:pt x="162" y="154"/>
                </a:cubicBezTo>
                <a:cubicBezTo>
                  <a:pt x="229" y="153"/>
                  <a:pt x="354" y="123"/>
                  <a:pt x="405" y="97"/>
                </a:cubicBezTo>
                <a:cubicBezTo>
                  <a:pt x="456" y="71"/>
                  <a:pt x="463" y="35"/>
                  <a:pt x="47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73840" y="5573880"/>
            <a:ext cx="914400" cy="169560"/>
          </a:xfrm>
          <a:custGeom>
            <a:avLst/>
            <a:gdLst/>
            <a:ahLst/>
            <a:rect l="l" t="t" r="r" b="b"/>
            <a:pathLst>
              <a:path w="576" h="107">
                <a:moveTo>
                  <a:pt x="0" y="81"/>
                </a:moveTo>
                <a:cubicBezTo>
                  <a:pt x="55" y="94"/>
                  <a:pt x="111" y="107"/>
                  <a:pt x="154" y="97"/>
                </a:cubicBezTo>
                <a:cubicBezTo>
                  <a:pt x="197" y="87"/>
                  <a:pt x="213" y="40"/>
                  <a:pt x="260" y="24"/>
                </a:cubicBezTo>
                <a:cubicBezTo>
                  <a:pt x="307" y="8"/>
                  <a:pt x="385" y="0"/>
                  <a:pt x="438" y="0"/>
                </a:cubicBezTo>
                <a:cubicBezTo>
                  <a:pt x="491" y="0"/>
                  <a:pt x="533" y="12"/>
                  <a:pt x="576" y="2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00720" y="5676840"/>
            <a:ext cx="469800" cy="282600"/>
          </a:xfrm>
          <a:custGeom>
            <a:avLst/>
            <a:gdLst/>
            <a:ahLst/>
            <a:rect l="l" t="t" r="r" b="b"/>
            <a:pathLst>
              <a:path w="296" h="178">
                <a:moveTo>
                  <a:pt x="296" y="64"/>
                </a:moveTo>
                <a:cubicBezTo>
                  <a:pt x="293" y="100"/>
                  <a:pt x="291" y="137"/>
                  <a:pt x="256" y="153"/>
                </a:cubicBezTo>
                <a:cubicBezTo>
                  <a:pt x="221" y="169"/>
                  <a:pt x="127" y="178"/>
                  <a:pt x="85" y="162"/>
                </a:cubicBezTo>
                <a:cubicBezTo>
                  <a:pt x="43" y="146"/>
                  <a:pt x="0" y="82"/>
                  <a:pt x="4" y="56"/>
                </a:cubicBezTo>
                <a:cubicBezTo>
                  <a:pt x="8" y="30"/>
                  <a:pt x="71" y="16"/>
                  <a:pt x="110" y="8"/>
                </a:cubicBezTo>
                <a:cubicBezTo>
                  <a:pt x="149" y="0"/>
                  <a:pt x="194" y="4"/>
                  <a:pt x="240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7110-7E38-4B5A-8962-960C724BC94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10647-EA2D-466A-90E0-252D355B89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Graph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 of the book’s defini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in mind this terminology is not fully standardized across different author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2160" y="3630600"/>
          <a:ext cx="7612200" cy="2881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2160" y="3630600"/>
                    <a:ext cx="7612200" cy="28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BB5A-5A23-447D-AB34-24C9BA14760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BE4285-4551-4010-9045-5070EBE98C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§8.2: Graph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need to learn the following ter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djacent, connects, endpoints, degree, initial, terminal, in-degree, out-degree, complete, cycles, wheels, n-cubes, bipartite, subgraph, un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DB5E-14AD-4ACD-AD79-F83942CB26E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5C42DF-0C31-42A0-A7F2-7DA7C6E7E6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ac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n undirected graph with edge s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Let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(or map to) the pair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Then we s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are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djacen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/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eighbors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/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connected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dge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ncident with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vertices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dge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connects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Vertices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are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endpoints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of edge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DD18-F5B6-4C4B-8BD3-09E6BC284E7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673DD1-78ED-4A6E-86A9-F6BEBFDED1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gree of a Vert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n undirected graph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vert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g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g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s its number of incident edges. (Except that any self-loops are counted twice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ertex with degree 0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ola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ertex of degree 1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end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F3C9-8D1B-49C3-B2D2-EE26DECAA9C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D4598-CAFC-4C5B-8966-400C7FD513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shaking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n undirected (simple, multi-, or pseudo-) graph with vertex s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edge s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rollary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undirected graph has an even number of vertices of odd deg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2819520" y="3562200"/>
                <a:ext cx="343368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  <m:r>
                          <m:t xml:space="preserve">∈</m:t>
                        </m:r>
                        <m:r>
                          <m:t xml:space="preserve">V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E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15BE-1B9A-4191-AB08-2920C8038CD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1BB5C1-F3AC-410E-A636-20DEBC1A62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ed Adjac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directed (possibly multi-) graph, and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n edg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is (or maps to)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  Then we s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is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djacent to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is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djacent from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omes from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u, 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goes to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v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e connects u to v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e goes from u to v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nitial vertex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is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terminal vertex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is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AE0D-0F74-464E-AD25-C2DFD7ACAB7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AE702-F079-4C7D-B0EF-02B12EA853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ed Deg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directed graph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vertex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n-degre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g</a:t>
            </a:r>
            <a:r>
              <a:rPr b="0" lang="en-US" sz="2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is the number of edges going to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out-degre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g</a:t>
            </a:r>
            <a:r>
              <a:rPr b="0" lang="en-US" sz="2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is the number of edges coming from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degre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g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: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g</a:t>
            </a:r>
            <a:r>
              <a:rPr b="0" lang="en-US" sz="2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+deg</a:t>
            </a:r>
            <a:r>
              <a:rPr b="0" lang="en-US" sz="2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is the sum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’s in-degree and out-degree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BAC6-B890-443B-A60F-B68099A96D2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AD575-7904-4646-9E97-26742203B1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ed Handshaking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directed (possibly multi-) graph with vertex s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edge s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T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at the degree of a node is unchanged by whether we consider its edges to be directed or undir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876240" y="3089160"/>
                <a:ext cx="745668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  <m:r>
                          <m:t xml:space="preserve">∈</m:t>
                        </m:r>
                        <m:r>
                          <m:t xml:space="preserve">V</m:t>
                        </m:r>
                      </m:sub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g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  <m:r>
                          <m:t xml:space="preserve">∈</m:t>
                        </m:r>
                        <m:r>
                          <m:t xml:space="preserve">V</m:t>
                        </m:r>
                      </m:sub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g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  <m:r>
                          <m:t xml:space="preserve">∈</m:t>
                        </m:r>
                        <m:r>
                          <m:t xml:space="preserve">V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E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9FAF-C3EB-40A3-8257-1B42D6C4631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017E11-120F-4DA9-8E8E-D4F9065A22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al Graph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undirected graph structur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mplete graph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ycle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el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-Cube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ipartite grap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mplete bipartite graph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F857-655A-45CE-BCF1-B8DDE7AAB8E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01643-F735-48C4-BDB3-730369D4BC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ule #22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aph The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218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sen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, chs. 8-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44 slides (more later), ~3 le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21E6-5DFA-4F5E-82A2-0B28964F8BA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415F0E-6DA8-4907-A7A1-759FAD3220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te gra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ertices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s a simple graph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s in which every node is adjacent to every other node: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75040" y="4487760"/>
            <a:ext cx="282240" cy="69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806560" y="4492440"/>
            <a:ext cx="335160" cy="5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3098880" y="4493880"/>
            <a:ext cx="482400" cy="687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81360" y="5032440"/>
            <a:ext cx="79704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029120" y="4389480"/>
            <a:ext cx="61740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183200" y="5198760"/>
            <a:ext cx="528480" cy="5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16520" y="4556160"/>
            <a:ext cx="153720" cy="733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183200" y="4414680"/>
            <a:ext cx="463320" cy="849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54320" y="4568760"/>
            <a:ext cx="669960" cy="63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187960" y="4336920"/>
            <a:ext cx="438120" cy="38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175360" y="4581000"/>
            <a:ext cx="97776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62400" y="4710240"/>
            <a:ext cx="925560" cy="41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75360" y="4722840"/>
            <a:ext cx="450720" cy="619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11680" y="4336920"/>
            <a:ext cx="541440" cy="23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11680" y="4336920"/>
            <a:ext cx="463680" cy="78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26080" y="4336920"/>
            <a:ext cx="0" cy="10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6114600" y="4568760"/>
            <a:ext cx="63720" cy="54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626080" y="4543560"/>
            <a:ext cx="527040" cy="81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611320" y="5110200"/>
            <a:ext cx="490680" cy="23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926400" y="433692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26400" y="4349880"/>
            <a:ext cx="939600" cy="38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939000" y="4336920"/>
            <a:ext cx="745920" cy="78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39000" y="4336920"/>
            <a:ext cx="204840" cy="10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770160" y="4349880"/>
            <a:ext cx="155880" cy="528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88280" y="4324320"/>
            <a:ext cx="450720" cy="398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402680" y="4349880"/>
            <a:ext cx="282240" cy="760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157880" y="4336920"/>
            <a:ext cx="244800" cy="1030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783480" y="4336920"/>
            <a:ext cx="604800" cy="54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7684560" y="4722840"/>
            <a:ext cx="166680" cy="37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157520" y="4722840"/>
            <a:ext cx="693720" cy="60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6783120" y="4710240"/>
            <a:ext cx="1082520" cy="16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7143480" y="5110200"/>
            <a:ext cx="541080" cy="23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757920" y="4878360"/>
            <a:ext cx="952560" cy="23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770160" y="4890600"/>
            <a:ext cx="373320" cy="45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44880" y="51505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11600" y="525204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02320" y="522504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235760" y="51966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10520" y="537444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79040" y="5398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5791320"/>
            <a:ext cx="449568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Note tha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has                ed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2685960" y="5854680"/>
                <a:ext cx="10494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i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1359000" y="489276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4419720"/>
            <a:ext cx="15264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0" y="510552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8120" y="441972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743200" y="4952880"/>
            <a:ext cx="15228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05320" y="510552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62520" y="4495680"/>
            <a:ext cx="15228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14800" y="5181480"/>
            <a:ext cx="15228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62720" y="4267080"/>
            <a:ext cx="15228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05520" y="464832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19920" y="502920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5880" y="4495680"/>
            <a:ext cx="15264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562720" y="525780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0" y="4267080"/>
            <a:ext cx="15228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705720" y="480060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315200" y="4267080"/>
            <a:ext cx="15228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772400" y="464832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86600" y="525780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20120" y="502920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33920" y="4427640"/>
            <a:ext cx="103320" cy="75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48320" y="510552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0" y="434340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DEA8-CC70-4AF8-A6FA-2B96B12B796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563E79-BCC4-4DF0-A25A-1C6A33ADD1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yc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ertices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s a simple graph wher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{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… 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{{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},{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},…,{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},{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}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22200" y="3848040"/>
            <a:ext cx="528840" cy="23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1287360" y="4092480"/>
            <a:ext cx="463680" cy="347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49200" y="3822840"/>
            <a:ext cx="25560" cy="63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09920" y="3900600"/>
            <a:ext cx="56664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2870280" y="4118040"/>
            <a:ext cx="193680" cy="528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2278080" y="4427280"/>
            <a:ext cx="579600" cy="20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2278080" y="3886200"/>
            <a:ext cx="257040" cy="528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3552840" y="3797280"/>
            <a:ext cx="219240" cy="52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759120" y="3797280"/>
            <a:ext cx="463680" cy="8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222800" y="3886200"/>
            <a:ext cx="102960" cy="463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27280" y="4324320"/>
            <a:ext cx="335160" cy="347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3849840" y="4349880"/>
            <a:ext cx="449280" cy="32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788000" y="3809880"/>
            <a:ext cx="361800" cy="308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49800" y="3809880"/>
            <a:ext cx="320760" cy="295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83160" y="4105440"/>
            <a:ext cx="0" cy="41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5187600" y="4543560"/>
            <a:ext cx="282600" cy="23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75040" y="4105440"/>
            <a:ext cx="9072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53160" y="4543560"/>
            <a:ext cx="334800" cy="23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5934240" y="4157640"/>
            <a:ext cx="64800" cy="41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921280" y="3873600"/>
            <a:ext cx="309600" cy="296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03880" y="3835440"/>
            <a:ext cx="271440" cy="20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500880" y="4016520"/>
            <a:ext cx="38160" cy="385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6435720" y="4402080"/>
            <a:ext cx="11592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12000" y="4556160"/>
            <a:ext cx="166680" cy="297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6191280" y="4737240"/>
            <a:ext cx="244440" cy="14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54520" y="44949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16520" y="46044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43560" y="47170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16880" y="48060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996520" y="49330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6884640" y="4143240"/>
            <a:ext cx="65160" cy="41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6872400" y="3858840"/>
            <a:ext cx="309600" cy="297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55000" y="3821040"/>
            <a:ext cx="42516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542360" y="3900600"/>
            <a:ext cx="191880" cy="295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7732440" y="4154400"/>
            <a:ext cx="27000" cy="398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62760" y="4541760"/>
            <a:ext cx="166680" cy="297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489800" y="4606560"/>
            <a:ext cx="231840" cy="2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7113600" y="4836600"/>
            <a:ext cx="398520" cy="11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023600" y="48535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66760" y="3759120"/>
            <a:ext cx="15228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77960" y="401328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11400" y="437040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57360" y="3816360"/>
            <a:ext cx="15264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984400" y="4044960"/>
            <a:ext cx="15264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4352760"/>
            <a:ext cx="15264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86040" y="455616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699000" y="371808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476520" y="4243320"/>
            <a:ext cx="15264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82880" y="4589640"/>
            <a:ext cx="15264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245120" y="4278240"/>
            <a:ext cx="15228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152960" y="381168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795920" y="448164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18160" y="404172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76720" y="3733920"/>
            <a:ext cx="15264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410080" y="4027320"/>
            <a:ext cx="15264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07200" y="4449600"/>
            <a:ext cx="15228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110200" y="469260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853240" y="4084560"/>
            <a:ext cx="15228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46640" y="3773520"/>
            <a:ext cx="15264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16640" y="3952800"/>
            <a:ext cx="15228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464160" y="4324320"/>
            <a:ext cx="15264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361200" y="465624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946840" y="4487760"/>
            <a:ext cx="15228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11720" y="4794120"/>
            <a:ext cx="15264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04000" y="407052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097760" y="3759120"/>
            <a:ext cx="15228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470720" y="3836880"/>
            <a:ext cx="15228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74120" y="4116240"/>
            <a:ext cx="15228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440480" y="4782960"/>
            <a:ext cx="15264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97600" y="4473720"/>
            <a:ext cx="15264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062840" y="478008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670880" y="450072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931320" y="5404320"/>
            <a:ext cx="5725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edges are there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F56E-84CD-44AA-A0D8-918FF9ACEB6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1A282E-D14F-4EAA-88B5-E707BF2930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 flipH="1" flipV="1">
            <a:off x="2909880" y="4659120"/>
            <a:ext cx="19224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789200"/>
            <a:ext cx="7772400" cy="4487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e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s a simple graph obtained by taking the cycl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dding one extra vert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hu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tra edge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{{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hu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}, {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hu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},…,{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hu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}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465200" y="4246560"/>
            <a:ext cx="528840" cy="23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530360" y="4491000"/>
            <a:ext cx="463680" cy="347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492200" y="4221000"/>
            <a:ext cx="25560" cy="63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752560" y="4299120"/>
            <a:ext cx="56700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3112920" y="4516560"/>
            <a:ext cx="193680" cy="528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2520720" y="4825800"/>
            <a:ext cx="579240" cy="20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2521080" y="4284720"/>
            <a:ext cx="257040" cy="528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3795840" y="4195800"/>
            <a:ext cx="218880" cy="52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02120" y="4195800"/>
            <a:ext cx="463680" cy="8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465800" y="4284720"/>
            <a:ext cx="102960" cy="463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70280" y="4722840"/>
            <a:ext cx="335160" cy="347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4092480" y="4748040"/>
            <a:ext cx="449280" cy="32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030640" y="4208400"/>
            <a:ext cx="362160" cy="308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392800" y="4208400"/>
            <a:ext cx="320760" cy="295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26160" y="4503600"/>
            <a:ext cx="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5430600" y="4941720"/>
            <a:ext cx="282600" cy="23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18040" y="4503600"/>
            <a:ext cx="90360" cy="45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095800" y="4941720"/>
            <a:ext cx="335160" cy="23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 flipV="1">
            <a:off x="6176520" y="4556160"/>
            <a:ext cx="65160" cy="41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6164280" y="4272120"/>
            <a:ext cx="309600" cy="296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46880" y="4233960"/>
            <a:ext cx="271440" cy="20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743880" y="4414680"/>
            <a:ext cx="37800" cy="38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6678720" y="4800600"/>
            <a:ext cx="11592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254640" y="4954680"/>
            <a:ext cx="166680" cy="296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434280" y="5135040"/>
            <a:ext cx="244440" cy="14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355760" y="4893480"/>
            <a:ext cx="55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417760" y="5002920"/>
            <a:ext cx="55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44800" y="5115600"/>
            <a:ext cx="55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118120" y="5204520"/>
            <a:ext cx="55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197400" y="5331600"/>
            <a:ext cx="55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7128000" y="4541760"/>
            <a:ext cx="64800" cy="41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7115040" y="4257720"/>
            <a:ext cx="309600" cy="296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397640" y="4219560"/>
            <a:ext cx="42552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785000" y="4299120"/>
            <a:ext cx="192240" cy="295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7975080" y="4552920"/>
            <a:ext cx="27000" cy="398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205760" y="4940280"/>
            <a:ext cx="166680" cy="297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7732800" y="5005080"/>
            <a:ext cx="231840" cy="2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7356600" y="5235120"/>
            <a:ext cx="398160" cy="11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224840" y="5252040"/>
            <a:ext cx="55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093320" y="5621760"/>
            <a:ext cx="5838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edges are there in 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481040" y="4208400"/>
            <a:ext cx="192240" cy="309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1673280" y="4478040"/>
            <a:ext cx="309600" cy="5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1519200" y="4530600"/>
            <a:ext cx="154080" cy="32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754360" y="4260960"/>
            <a:ext cx="141120" cy="398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2522520" y="4646160"/>
            <a:ext cx="372960" cy="1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4081320" y="4581000"/>
            <a:ext cx="88920" cy="489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4003560" y="4183200"/>
            <a:ext cx="154080" cy="398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4157640" y="4273200"/>
            <a:ext cx="297000" cy="32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2895480" y="4517640"/>
            <a:ext cx="412920" cy="128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 flipV="1">
            <a:off x="5394240" y="4736880"/>
            <a:ext cx="12960" cy="42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5084640" y="4710240"/>
            <a:ext cx="233640" cy="258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033880" y="4505400"/>
            <a:ext cx="282600" cy="15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5381640" y="4182840"/>
            <a:ext cx="12600" cy="42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5407200" y="4505400"/>
            <a:ext cx="307800" cy="15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419800" y="4697280"/>
            <a:ext cx="307800" cy="219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6422760" y="4710240"/>
            <a:ext cx="90360" cy="59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6269040" y="4711680"/>
            <a:ext cx="193680" cy="25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53120" y="4568760"/>
            <a:ext cx="282600" cy="77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62720" y="4233960"/>
            <a:ext cx="25560" cy="37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6564240" y="4414680"/>
            <a:ext cx="168480" cy="206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576840" y="4684680"/>
            <a:ext cx="20664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6551640" y="4709880"/>
            <a:ext cx="130320" cy="42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7350120" y="4786200"/>
            <a:ext cx="18108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7209000" y="4761000"/>
            <a:ext cx="269640" cy="18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105680" y="4543560"/>
            <a:ext cx="41256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415280" y="4233960"/>
            <a:ext cx="102960" cy="43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7581960" y="4299120"/>
            <a:ext cx="193680" cy="385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7632360" y="4594320"/>
            <a:ext cx="361800" cy="10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7607160" y="4735440"/>
            <a:ext cx="400320" cy="23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7581600" y="4799160"/>
            <a:ext cx="181080" cy="45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409760" y="415764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920960" y="441180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454040" y="4768920"/>
            <a:ext cx="15264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596960" y="4460760"/>
            <a:ext cx="15264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700360" y="421488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227400" y="444348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452680" y="4751280"/>
            <a:ext cx="15228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41640" y="4116240"/>
            <a:ext cx="15264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25880" y="4987800"/>
            <a:ext cx="15228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395960" y="421020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3772080" y="4594320"/>
            <a:ext cx="38556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70240" y="4581360"/>
            <a:ext cx="40032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719520" y="464184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91040" y="452124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87760" y="4676760"/>
            <a:ext cx="15264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038560" y="4879800"/>
            <a:ext cx="15264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960800" y="4440240"/>
            <a:ext cx="15264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19720" y="413244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653080" y="4425840"/>
            <a:ext cx="15228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49840" y="4848120"/>
            <a:ext cx="15264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353200" y="509112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97400" y="4608360"/>
            <a:ext cx="15264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4483080"/>
            <a:ext cx="15264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389640" y="417204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659640" y="435132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707160" y="472284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603840" y="5054760"/>
            <a:ext cx="15264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189840" y="488628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54720" y="5192640"/>
            <a:ext cx="15228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429240" y="4594320"/>
            <a:ext cx="15264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047000" y="4468680"/>
            <a:ext cx="15228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340760" y="415764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713720" y="423540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916760" y="4514760"/>
            <a:ext cx="15264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683480" y="5181480"/>
            <a:ext cx="15228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140600" y="4871880"/>
            <a:ext cx="15228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305840" y="517860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913520" y="4898880"/>
            <a:ext cx="15264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470720" y="465768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932200" y="4657680"/>
            <a:ext cx="141120" cy="398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029040" y="495468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830680" y="458784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49EF-211F-4328-A09C-FBAA40670F5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5FB64-8E2B-4FAC-8330-842AE94D11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cubes (hypercub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hypercube 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imple graph consisting of two copies of 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nected together at corresponding nodes. 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1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320840" y="440208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716120" y="4221000"/>
            <a:ext cx="15228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27280" y="469440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01760" y="4229280"/>
            <a:ext cx="15264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98520" y="4703760"/>
            <a:ext cx="15264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647800" y="4237200"/>
            <a:ext cx="15264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658960" y="4684680"/>
            <a:ext cx="15264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184560" y="419580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206880" y="469440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656160" y="4216320"/>
            <a:ext cx="15228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56160" y="470376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459240" y="4379760"/>
            <a:ext cx="15228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946680" y="4363920"/>
            <a:ext cx="15228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494160" y="488952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929040" y="484992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341960" y="410364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363920" y="4602240"/>
            <a:ext cx="15264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813200" y="4124160"/>
            <a:ext cx="15264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813200" y="4611600"/>
            <a:ext cx="15264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616280" y="4287960"/>
            <a:ext cx="15264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03720" y="4272120"/>
            <a:ext cx="15264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651200" y="4797360"/>
            <a:ext cx="15264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086440" y="475776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307120" y="3871800"/>
            <a:ext cx="15228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29080" y="4370400"/>
            <a:ext cx="15264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78360" y="3892680"/>
            <a:ext cx="15264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78360" y="4379760"/>
            <a:ext cx="15264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581800" y="405612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68880" y="4040280"/>
            <a:ext cx="15264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616720" y="4565520"/>
            <a:ext cx="15228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51600" y="452592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801800" y="4299120"/>
            <a:ext cx="0" cy="47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278080" y="4299120"/>
            <a:ext cx="0" cy="47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265480" y="4299120"/>
            <a:ext cx="463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78080" y="4762440"/>
            <a:ext cx="463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728800" y="4299120"/>
            <a:ext cx="0" cy="463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257640" y="4273560"/>
            <a:ext cx="12600" cy="48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243240" y="4273560"/>
            <a:ext cx="5032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3733560" y="4286160"/>
            <a:ext cx="12600" cy="50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295800" y="4762440"/>
            <a:ext cx="43812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527280" y="4440240"/>
            <a:ext cx="50184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540240" y="4452840"/>
            <a:ext cx="25200" cy="50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3552840" y="4916160"/>
            <a:ext cx="450720" cy="5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4003560" y="4440240"/>
            <a:ext cx="12960" cy="48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270240" y="4762440"/>
            <a:ext cx="295200" cy="219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33920" y="4762440"/>
            <a:ext cx="28260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3240" y="4248000"/>
            <a:ext cx="284040" cy="20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733920" y="4286160"/>
            <a:ext cx="307800" cy="14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4414320" y="4182840"/>
            <a:ext cx="27000" cy="47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402080" y="4183200"/>
            <a:ext cx="50184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917960" y="4195800"/>
            <a:ext cx="270000" cy="15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5162400" y="4349880"/>
            <a:ext cx="12960" cy="47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27640" y="4672080"/>
            <a:ext cx="309600" cy="21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4711680" y="4838760"/>
            <a:ext cx="450720" cy="39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686480" y="4349880"/>
            <a:ext cx="25200" cy="51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 flipV="1">
            <a:off x="4414680" y="4169880"/>
            <a:ext cx="284400" cy="1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27640" y="4672080"/>
            <a:ext cx="4762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78360" y="4183200"/>
            <a:ext cx="12600" cy="48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878360" y="4684680"/>
            <a:ext cx="297000" cy="15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4673520" y="4336920"/>
            <a:ext cx="51444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5381280" y="3938400"/>
            <a:ext cx="25560" cy="50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367240" y="3938760"/>
            <a:ext cx="4906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381640" y="3938760"/>
            <a:ext cx="270000" cy="193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857920" y="3938760"/>
            <a:ext cx="28260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5651640" y="4132080"/>
            <a:ext cx="46332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43520" y="3938760"/>
            <a:ext cx="14400" cy="51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94240" y="4440240"/>
            <a:ext cx="4492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6127920" y="4117680"/>
            <a:ext cx="12600" cy="47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5843520" y="4439880"/>
            <a:ext cx="284400" cy="16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5381640" y="4439880"/>
            <a:ext cx="295200" cy="20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689440" y="4608360"/>
            <a:ext cx="438480" cy="38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651640" y="4132440"/>
            <a:ext cx="37800" cy="51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4389480" y="3912840"/>
            <a:ext cx="992160" cy="2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4890960" y="3951000"/>
            <a:ext cx="979560" cy="2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4686480" y="4118040"/>
            <a:ext cx="990360" cy="23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5162400" y="4118040"/>
            <a:ext cx="978120" cy="23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4427640" y="4440240"/>
            <a:ext cx="966600" cy="23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890960" y="4452480"/>
            <a:ext cx="966960" cy="219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4699080" y="4633560"/>
            <a:ext cx="977760" cy="2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5162400" y="4608360"/>
            <a:ext cx="978120" cy="230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134000" y="44679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569240" y="476172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262960" y="4785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394800" y="49503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205960" y="47822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75880" y="5470920"/>
            <a:ext cx="72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Number of vertices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.  Number of edges:Exercise to try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4B7D-E1EA-422D-A9B0-5DD99166726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6B555-EC3D-4ED0-A8A4-E4F381C6D2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cubes (hypercub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hypercube 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be defined recursively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{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},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(one node and no edges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or any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if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…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and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…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the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+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´,…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´}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´,…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´}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{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´},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´},…,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´}}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wher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´,…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´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re new vertices, and where if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then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´=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´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´}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5309-EB75-455E-B4A8-CBE06BCA582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EE78BE-2A07-4F2E-996D-3A7AC72ABF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’n.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graph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ipart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two-part) iff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∩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r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{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English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graph ca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divided into two par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uch a way that all edg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 between the two pa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238880" y="3581280"/>
            <a:ext cx="609840" cy="190512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324480" y="3581280"/>
            <a:ext cx="609840" cy="19051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partite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53080" y="3809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553080" y="4114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553080" y="44197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553080" y="47242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5530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467480" y="3809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467480" y="4114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467480" y="44197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467480" y="47242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4674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705720" y="3886200"/>
            <a:ext cx="7617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705720" y="419112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705720" y="4495680"/>
            <a:ext cx="76176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705720" y="4495680"/>
            <a:ext cx="76176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705720" y="3886200"/>
            <a:ext cx="76176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705720" y="4800600"/>
            <a:ext cx="7617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17000" y="540216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361640" y="539424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036440" y="5715000"/>
            <a:ext cx="4588200" cy="6426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definition can easily be adapted for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 of multigraphs and directed graphs as we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146640" y="5940360"/>
            <a:ext cx="1911960" cy="6426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represent wit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ero-one matri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0C6E-361F-4426-943C-AE85527FA61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6561A3-A9A1-4131-9B34-14360E0661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Bipartite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te bipartite gra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bipartite graph wher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|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|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= {{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}|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at is, there ar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nodes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 the left part,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nodes in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right part, and every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ode in the left part is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nnected to every node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 the right part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400800" y="3733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400800" y="40384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400800" y="43434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400800" y="46483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315200" y="40384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315200" y="43434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315200" y="46483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553080" y="4114800"/>
            <a:ext cx="7621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553080" y="3809880"/>
            <a:ext cx="7621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6553080" y="4114440"/>
            <a:ext cx="76212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553080" y="4114800"/>
            <a:ext cx="76212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553080" y="3809880"/>
            <a:ext cx="76212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553080" y="4419720"/>
            <a:ext cx="76212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553080" y="3809880"/>
            <a:ext cx="76212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553080" y="4114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6553080" y="4114440"/>
            <a:ext cx="7621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553080" y="4419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553080" y="47242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6553080" y="4419720"/>
            <a:ext cx="76212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00400" y="3505320"/>
            <a:ext cx="62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449680" y="5029200"/>
            <a:ext cx="2770560" cy="8758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s _____ no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_____ ed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4D65-4FC5-4EC9-BC93-9CCEA10D907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97C439-251B-4BC2-83B5-35E3F49A1F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ubgraph of a graph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graph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189080" y="3430440"/>
            <a:ext cx="239760" cy="25740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189080" y="4460760"/>
            <a:ext cx="239760" cy="25740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270160" y="4460760"/>
            <a:ext cx="241200" cy="25740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631960" y="3559320"/>
            <a:ext cx="239760" cy="2570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471840" y="4332240"/>
            <a:ext cx="241200" cy="25740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592440" y="3301920"/>
            <a:ext cx="241200" cy="25740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790640" y="3816360"/>
            <a:ext cx="239760" cy="2588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992320" y="3944880"/>
            <a:ext cx="239760" cy="2588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871720" y="4460760"/>
            <a:ext cx="239760" cy="25740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33640" y="3816360"/>
            <a:ext cx="239760" cy="2588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1428840" y="3430440"/>
            <a:ext cx="2163600" cy="12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1428840" y="3944520"/>
            <a:ext cx="361800" cy="64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2030400" y="3687840"/>
            <a:ext cx="60156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28840" y="3687840"/>
            <a:ext cx="36180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428840" y="4589640"/>
            <a:ext cx="84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309680" y="3687480"/>
            <a:ext cx="0" cy="77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030400" y="3944880"/>
            <a:ext cx="961920" cy="13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3111480" y="3944520"/>
            <a:ext cx="722160" cy="64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2511360" y="3790440"/>
            <a:ext cx="182520" cy="79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871720" y="3687840"/>
            <a:ext cx="96192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2871720" y="3430080"/>
            <a:ext cx="720720" cy="25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986120" y="4075200"/>
            <a:ext cx="360360" cy="38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511360" y="458964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3111480" y="4460760"/>
            <a:ext cx="360360" cy="12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2992320" y="4203720"/>
            <a:ext cx="11916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3232080" y="3558960"/>
            <a:ext cx="48096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3713040" y="4074840"/>
            <a:ext cx="239760" cy="38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 flipV="1">
            <a:off x="3713040" y="3559320"/>
            <a:ext cx="23976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1428840" y="3687480"/>
            <a:ext cx="122544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84920" y="3492360"/>
            <a:ext cx="239400" cy="25740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984920" y="4522680"/>
            <a:ext cx="239400" cy="25740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66000" y="4522680"/>
            <a:ext cx="241200" cy="25740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427800" y="3621240"/>
            <a:ext cx="239760" cy="2570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388280" y="3363840"/>
            <a:ext cx="241200" cy="25740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586480" y="3878280"/>
            <a:ext cx="239760" cy="2588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667560" y="4522680"/>
            <a:ext cx="239760" cy="25740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629480" y="3878280"/>
            <a:ext cx="239760" cy="2588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5224320" y="3492360"/>
            <a:ext cx="2163960" cy="12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5224320" y="4006800"/>
            <a:ext cx="362160" cy="64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5826240" y="3749760"/>
            <a:ext cx="60156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224320" y="4651200"/>
            <a:ext cx="84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5105520" y="3749400"/>
            <a:ext cx="0" cy="77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6907320" y="4006800"/>
            <a:ext cx="722160" cy="64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6307200" y="3877920"/>
            <a:ext cx="182520" cy="77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667560" y="3749760"/>
            <a:ext cx="96192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6667560" y="3492000"/>
            <a:ext cx="720720" cy="25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781600" y="4137120"/>
            <a:ext cx="360360" cy="38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307200" y="465120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 flipV="1">
            <a:off x="7508880" y="3621240"/>
            <a:ext cx="23976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079880" y="3938760"/>
            <a:ext cx="954000" cy="514080"/>
          </a:xfrm>
          <a:custGeom>
            <a:avLst/>
            <a:gdLst>
              <a:gd name="textAreaLeft" fmla="*/ 149040 w 954000"/>
              <a:gd name="textAreaRight" fmla="*/ 834840 w 954000"/>
              <a:gd name="textAreaTop" fmla="*/ 128520 h 514080"/>
              <a:gd name="textAreaBottom" fmla="*/ 385560 h 514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260440" y="4742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107040" y="4752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35A5-BA44-4102-BD4B-BF8682AE368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F83A64-907D-4261-A8E7-9D529C16E5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 Un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wo simple graphs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simple graph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1858320" y="3851280"/>
            <a:ext cx="1351440" cy="1485360"/>
            <a:chOff x="1858320" y="3851280"/>
            <a:chExt cx="1351440" cy="1485360"/>
          </a:xfrm>
        </p:grpSpPr>
        <p:sp>
          <p:nvSpPr>
            <p:cNvPr id="692" name=""/>
            <p:cNvSpPr/>
            <p:nvPr/>
          </p:nvSpPr>
          <p:spPr>
            <a:xfrm>
              <a:off x="1933560" y="4267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466720" y="42670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000240" y="4267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933560" y="4800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466720" y="48006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858320" y="3851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378160" y="388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893320" y="38862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859040" y="4876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385360" y="4816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085840" y="43434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009520" y="4419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85840" y="4876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543040" y="4419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619360" y="43434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261936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5352840" y="3828960"/>
            <a:ext cx="1351440" cy="1526760"/>
            <a:chOff x="5352840" y="3828960"/>
            <a:chExt cx="1351440" cy="1526760"/>
          </a:xfrm>
        </p:grpSpPr>
        <p:sp>
          <p:nvSpPr>
            <p:cNvPr id="709" name=""/>
            <p:cNvSpPr/>
            <p:nvPr/>
          </p:nvSpPr>
          <p:spPr>
            <a:xfrm>
              <a:off x="5427720" y="4245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961240" y="4245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494400" y="42451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427720" y="47782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477120" y="48196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352840" y="38289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72320" y="3863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387840" y="38638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353200" y="4854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387840" y="48960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580000" y="4321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5580000" y="4362120"/>
              <a:ext cx="36360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13520" y="4321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095880" y="4362480"/>
              <a:ext cx="3812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3798360" y="3794040"/>
            <a:ext cx="988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11E2-5D56-4746-88A7-F06A3188855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2C3C24-6AD5-4AC3-AD6C-D3280D9C39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4.07407E-006 L 0.19063 4.07407E-006 E">
                                      <p:cBhvr>
                                        <p:cTn id="14" dur="2000" fill="hold"/>
                                        <p:tgtEl>
                                          <p:spTgt spid="6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3.33333E-006 L -0.19253 3.33333E-006 E">
                                      <p:cBhvr>
                                        <p:cTn id="16" dur="2000" fill="hold"/>
                                        <p:tgtEl>
                                          <p:spTgt spid="7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§8.3: Graph Representations &amp; Isomorph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 represent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djacency lists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djacency matrices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cidence matrices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 isomorphis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wo graphs are isomorphic iff they are identical except for their node names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D6C4-E7F2-4C9D-A89B-0D9D2C48A32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D64AA3-DD81-47CA-8C0B-A007D45D70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Graph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meaning in everyday math: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plot or chart of numerical data using a coordinat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cal meaning in discrete mathematics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particular class of discrete structures (to be defined) that is useful for representing relations and has a convenient webby-looking graphical re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219320" y="2057400"/>
            <a:ext cx="7924680" cy="1523880"/>
            <a:chOff x="1219320" y="2057400"/>
            <a:chExt cx="7924680" cy="1523880"/>
          </a:xfrm>
        </p:grpSpPr>
        <p:sp>
          <p:nvSpPr>
            <p:cNvPr id="56" name=""/>
            <p:cNvSpPr/>
            <p:nvPr/>
          </p:nvSpPr>
          <p:spPr>
            <a:xfrm>
              <a:off x="1219320" y="2057400"/>
              <a:ext cx="6019560" cy="1523880"/>
            </a:xfrm>
            <a:prstGeom prst="noSmoking">
              <a:avLst>
                <a:gd name="adj" fmla="val 12500"/>
              </a:avLst>
            </a:prstGeom>
            <a:solidFill>
              <a:srgbClr val="ff0000">
                <a:alpha val="50000"/>
              </a:srgbClr>
            </a:solidFill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7515360" y="2133720"/>
              <a:ext cx="1628640" cy="13716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Not Our</a:t>
              </a:r>
              <a:endPara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Meaning</a:t>
              </a:r>
              <a:endPara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7238880" y="914400"/>
            <a:ext cx="1676520" cy="1143000"/>
          </a:xfrm>
          <a:prstGeom prst="rect">
            <a:avLst/>
          </a:prstGeom>
          <a:solidFill>
            <a:srgbClr val="ffffff"/>
          </a:solidFill>
          <a:ln w="63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16640" y="9133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990720"/>
            <a:ext cx="1523880" cy="990360"/>
          </a:xfrm>
          <a:custGeom>
            <a:avLst/>
            <a:gdLst/>
            <a:ahLst/>
            <a:rect l="l" t="t" r="r" b="b"/>
            <a:pathLst>
              <a:path w="960" h="624">
                <a:moveTo>
                  <a:pt x="0" y="624"/>
                </a:moveTo>
                <a:lnTo>
                  <a:pt x="192" y="432"/>
                </a:lnTo>
                <a:lnTo>
                  <a:pt x="288" y="480"/>
                </a:lnTo>
                <a:lnTo>
                  <a:pt x="480" y="192"/>
                </a:lnTo>
                <a:lnTo>
                  <a:pt x="576" y="336"/>
                </a:lnTo>
                <a:lnTo>
                  <a:pt x="672" y="528"/>
                </a:lnTo>
                <a:lnTo>
                  <a:pt x="768" y="192"/>
                </a:lnTo>
                <a:lnTo>
                  <a:pt x="960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5562720"/>
            <a:ext cx="2210040" cy="1143000"/>
          </a:xfrm>
          <a:prstGeom prst="rect">
            <a:avLst/>
          </a:prstGeom>
          <a:solidFill>
            <a:srgbClr val="ffffff"/>
          </a:solidFill>
          <a:ln w="63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579132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10280" y="6400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96080" y="6400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924680" y="58672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458200" y="63244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534520" y="5715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91520" y="601992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153280" y="60958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77320" y="64008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686800" y="601992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7162920" y="5790960"/>
            <a:ext cx="13716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7162920" y="6095520"/>
            <a:ext cx="2286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7543800" y="5943240"/>
            <a:ext cx="3808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162920" y="594360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62920" y="6477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086600" y="5943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43800" y="6095880"/>
            <a:ext cx="6094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8229600" y="6095520"/>
            <a:ext cx="4572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7848720" y="5867280"/>
            <a:ext cx="903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077320" y="5943600"/>
            <a:ext cx="6094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8077320" y="5790960"/>
            <a:ext cx="4572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5360" y="6172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64771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229600" y="6400800"/>
            <a:ext cx="2286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8153280" y="62481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8305920" y="586692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8610480" y="6171840"/>
            <a:ext cx="1526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8610480" y="58672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162920" y="5943600"/>
            <a:ext cx="7761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F0DB-89FD-444F-A399-463C5C2AEF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9DF261-C54A-49D6-956D-C3CA67F5FE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acency L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able with 1 row per vertex, listing its adjacent vert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447920" y="340848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981080" y="3484440"/>
            <a:ext cx="15264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295280" y="3941640"/>
            <a:ext cx="15264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828800" y="3941640"/>
            <a:ext cx="15228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4398840"/>
            <a:ext cx="152640" cy="15264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405080" y="4052880"/>
            <a:ext cx="79668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1390680" y="3525480"/>
            <a:ext cx="103320" cy="398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596960" y="3473280"/>
            <a:ext cx="385920" cy="6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085840" y="3629160"/>
            <a:ext cx="155880" cy="78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1417680" y="3628800"/>
            <a:ext cx="579240" cy="34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25800" y="3576600"/>
            <a:ext cx="66816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727360" y="3990960"/>
            <a:ext cx="152280" cy="15228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121040" y="3219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095560" y="3165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528920" y="3744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020240" y="3805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55480" y="4240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817360" y="3904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6" name=""/>
          <p:cNvGraphicFramePr/>
          <p:nvPr/>
        </p:nvGraphicFramePr>
        <p:xfrm>
          <a:off x="4299120" y="2768760"/>
          <a:ext cx="3630600" cy="3182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99120" y="2768760"/>
                    <a:ext cx="3630600" cy="31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D905-963F-4075-AF9B-0BCF55755E4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D4B2A8-6736-439D-BB85-2F372BC883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ed Adjacency L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row per node, listing the terminal nodes of each edge incident from that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7C5B-51AE-412C-A2EE-DC3257E0756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0A0324-5AD8-40B7-B955-5894D9CC4B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acency Matr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ay to represent simple grap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ssibly with self-loops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rix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1 i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 edg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is 0 otherwi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extend to pseudographs by letting each matrix elements be the number of links (possibly &gt;1) between the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F76A-7778-4976-A167-D32BBB68031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5E556A-D1F0-4A2F-BC22-1816275923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 Isomorph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97960" cy="4270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l 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imple graph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ar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somorphic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iff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a bijection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such that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are adjacent in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iff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are adjacent in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is the “renaming” function between the two node sets that makes the two graphs identical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is definition can easily be extended to other types of graphs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050E-8C7A-4704-99B5-C74C051056B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9F9D4A-07D6-4776-9828-36CA5A4850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ph Invariants under Isomorph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ecessa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ut no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ffici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ditions for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be isomorphic to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e must have that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|=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|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an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|=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|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number of vertices with degre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is the same in both graphs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or every proper subgraph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of one graph, there is a proper subgraph of the other graph that is isomorphic to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D39C-A450-49EC-B151-FA5F3249A5E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322FB9-EE1A-4323-85A6-E5625D31DC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morphism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739800" y="20224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somorphic, label the 2nd graph to show the isomorphism, else identify differ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552680" y="3902040"/>
            <a:ext cx="207720" cy="190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217600" y="3606840"/>
            <a:ext cx="209520" cy="190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443320" y="4194000"/>
            <a:ext cx="209520" cy="19080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087720" y="3981600"/>
            <a:ext cx="209520" cy="190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901880" y="4640400"/>
            <a:ext cx="209520" cy="190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814480" y="4968720"/>
            <a:ext cx="209880" cy="19080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66800" y="4010040"/>
            <a:ext cx="917640" cy="295200"/>
          </a:xfrm>
          <a:custGeom>
            <a:avLst/>
            <a:gdLst/>
            <a:ahLst/>
            <a:rect l="l" t="t" r="r" b="b"/>
            <a:pathLst>
              <a:path w="390" h="138">
                <a:moveTo>
                  <a:pt x="0" y="0"/>
                </a:moveTo>
                <a:cubicBezTo>
                  <a:pt x="28" y="37"/>
                  <a:pt x="57" y="74"/>
                  <a:pt x="122" y="97"/>
                </a:cubicBezTo>
                <a:cubicBezTo>
                  <a:pt x="187" y="120"/>
                  <a:pt x="288" y="129"/>
                  <a:pt x="390" y="13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66800" y="3606840"/>
            <a:ext cx="649440" cy="385560"/>
          </a:xfrm>
          <a:custGeom>
            <a:avLst/>
            <a:gdLst/>
            <a:ahLst/>
            <a:rect l="l" t="t" r="r" b="b"/>
            <a:pathLst>
              <a:path w="276" h="180">
                <a:moveTo>
                  <a:pt x="0" y="180"/>
                </a:moveTo>
                <a:cubicBezTo>
                  <a:pt x="21" y="116"/>
                  <a:pt x="43" y="52"/>
                  <a:pt x="89" y="26"/>
                </a:cubicBezTo>
                <a:cubicBezTo>
                  <a:pt x="135" y="0"/>
                  <a:pt x="205" y="13"/>
                  <a:pt x="276" y="2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363760" y="3679920"/>
            <a:ext cx="181080" cy="625320"/>
          </a:xfrm>
          <a:custGeom>
            <a:avLst/>
            <a:gdLst/>
            <a:ahLst/>
            <a:rect l="l" t="t" r="r" b="b"/>
            <a:pathLst>
              <a:path w="77" h="292">
                <a:moveTo>
                  <a:pt x="77" y="292"/>
                </a:moveTo>
                <a:cubicBezTo>
                  <a:pt x="50" y="259"/>
                  <a:pt x="24" y="227"/>
                  <a:pt x="12" y="178"/>
                </a:cubicBezTo>
                <a:cubicBezTo>
                  <a:pt x="0" y="129"/>
                  <a:pt x="2" y="64"/>
                  <a:pt x="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949400" y="3713040"/>
            <a:ext cx="385920" cy="1025640"/>
          </a:xfrm>
          <a:custGeom>
            <a:avLst/>
            <a:gdLst/>
            <a:ahLst/>
            <a:rect l="l" t="t" r="r" b="b"/>
            <a:pathLst>
              <a:path w="164" h="478">
                <a:moveTo>
                  <a:pt x="164" y="0"/>
                </a:moveTo>
                <a:cubicBezTo>
                  <a:pt x="108" y="41"/>
                  <a:pt x="52" y="82"/>
                  <a:pt x="26" y="162"/>
                </a:cubicBezTo>
                <a:cubicBezTo>
                  <a:pt x="0" y="242"/>
                  <a:pt x="5" y="360"/>
                  <a:pt x="10" y="47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297160" y="3570120"/>
            <a:ext cx="896760" cy="490680"/>
          </a:xfrm>
          <a:custGeom>
            <a:avLst/>
            <a:gdLst/>
            <a:ahLst/>
            <a:rect l="l" t="t" r="r" b="b"/>
            <a:pathLst>
              <a:path w="381" h="229">
                <a:moveTo>
                  <a:pt x="0" y="75"/>
                </a:moveTo>
                <a:cubicBezTo>
                  <a:pt x="94" y="37"/>
                  <a:pt x="188" y="0"/>
                  <a:pt x="251" y="26"/>
                </a:cubicBezTo>
                <a:cubicBezTo>
                  <a:pt x="314" y="52"/>
                  <a:pt x="347" y="140"/>
                  <a:pt x="381" y="22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009880" y="4078440"/>
            <a:ext cx="1146240" cy="677880"/>
          </a:xfrm>
          <a:custGeom>
            <a:avLst/>
            <a:gdLst/>
            <a:ahLst/>
            <a:rect l="l" t="t" r="r" b="b"/>
            <a:pathLst>
              <a:path w="487" h="316">
                <a:moveTo>
                  <a:pt x="0" y="316"/>
                </a:moveTo>
                <a:cubicBezTo>
                  <a:pt x="30" y="267"/>
                  <a:pt x="61" y="219"/>
                  <a:pt x="114" y="211"/>
                </a:cubicBezTo>
                <a:cubicBezTo>
                  <a:pt x="167" y="203"/>
                  <a:pt x="255" y="303"/>
                  <a:pt x="317" y="268"/>
                </a:cubicBezTo>
                <a:cubicBezTo>
                  <a:pt x="379" y="233"/>
                  <a:pt x="433" y="116"/>
                  <a:pt x="487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384200" y="4010040"/>
            <a:ext cx="588960" cy="1022400"/>
          </a:xfrm>
          <a:custGeom>
            <a:avLst/>
            <a:gdLst/>
            <a:ahLst/>
            <a:rect l="l" t="t" r="r" b="b"/>
            <a:pathLst>
              <a:path w="250" h="477">
                <a:moveTo>
                  <a:pt x="112" y="0"/>
                </a:moveTo>
                <a:cubicBezTo>
                  <a:pt x="69" y="59"/>
                  <a:pt x="27" y="118"/>
                  <a:pt x="15" y="194"/>
                </a:cubicBezTo>
                <a:cubicBezTo>
                  <a:pt x="3" y="270"/>
                  <a:pt x="0" y="431"/>
                  <a:pt x="39" y="454"/>
                </a:cubicBezTo>
                <a:cubicBezTo>
                  <a:pt x="78" y="477"/>
                  <a:pt x="164" y="404"/>
                  <a:pt x="250" y="33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992240" y="4756320"/>
            <a:ext cx="954000" cy="403200"/>
          </a:xfrm>
          <a:custGeom>
            <a:avLst/>
            <a:gdLst/>
            <a:ahLst/>
            <a:rect l="l" t="t" r="r" b="b"/>
            <a:pathLst>
              <a:path w="406" h="188">
                <a:moveTo>
                  <a:pt x="0" y="0"/>
                </a:moveTo>
                <a:cubicBezTo>
                  <a:pt x="47" y="68"/>
                  <a:pt x="94" y="136"/>
                  <a:pt x="162" y="162"/>
                </a:cubicBezTo>
                <a:cubicBezTo>
                  <a:pt x="230" y="188"/>
                  <a:pt x="318" y="171"/>
                  <a:pt x="406" y="15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887560" y="4060800"/>
            <a:ext cx="547920" cy="990720"/>
          </a:xfrm>
          <a:custGeom>
            <a:avLst/>
            <a:gdLst/>
            <a:ahLst/>
            <a:rect l="l" t="t" r="r" b="b"/>
            <a:pathLst>
              <a:path w="233" h="462">
                <a:moveTo>
                  <a:pt x="0" y="462"/>
                </a:moveTo>
                <a:cubicBezTo>
                  <a:pt x="94" y="423"/>
                  <a:pt x="189" y="385"/>
                  <a:pt x="211" y="308"/>
                </a:cubicBezTo>
                <a:cubicBezTo>
                  <a:pt x="233" y="231"/>
                  <a:pt x="181" y="115"/>
                  <a:pt x="13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175040" y="3674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341800" y="3221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61960" y="3918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570400" y="389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739520" y="4854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906280" y="51854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4911840" y="3321000"/>
            <a:ext cx="2031120" cy="2462040"/>
            <a:chOff x="4911840" y="3321000"/>
            <a:chExt cx="2031120" cy="2462040"/>
          </a:xfrm>
        </p:grpSpPr>
        <p:sp>
          <p:nvSpPr>
            <p:cNvPr id="780" name=""/>
            <p:cNvSpPr/>
            <p:nvPr/>
          </p:nvSpPr>
          <p:spPr>
            <a:xfrm>
              <a:off x="6215040" y="3321000"/>
              <a:ext cx="225720" cy="1832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469480" y="3935520"/>
              <a:ext cx="225360" cy="1836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476760" y="3966120"/>
              <a:ext cx="225360" cy="1836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618240" y="4716720"/>
              <a:ext cx="225720" cy="1836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195880" y="4898160"/>
              <a:ext cx="225360" cy="1836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971680" y="5261760"/>
              <a:ext cx="225360" cy="1832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576040" y="3420000"/>
              <a:ext cx="743040" cy="618480"/>
            </a:xfrm>
            <a:custGeom>
              <a:avLst/>
              <a:gdLst/>
              <a:ahLst/>
              <a:rect l="l" t="t" r="r" b="b"/>
              <a:pathLst>
                <a:path w="293" h="300">
                  <a:moveTo>
                    <a:pt x="1" y="300"/>
                  </a:moveTo>
                  <a:cubicBezTo>
                    <a:pt x="0" y="219"/>
                    <a:pt x="0" y="139"/>
                    <a:pt x="49" y="89"/>
                  </a:cubicBezTo>
                  <a:cubicBezTo>
                    <a:pt x="98" y="39"/>
                    <a:pt x="195" y="19"/>
                    <a:pt x="293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339240" y="3420000"/>
              <a:ext cx="431280" cy="684360"/>
            </a:xfrm>
            <a:custGeom>
              <a:avLst/>
              <a:gdLst/>
              <a:ahLst/>
              <a:rect l="l" t="t" r="r" b="b"/>
              <a:pathLst>
                <a:path w="170" h="332">
                  <a:moveTo>
                    <a:pt x="0" y="0"/>
                  </a:moveTo>
                  <a:cubicBezTo>
                    <a:pt x="69" y="13"/>
                    <a:pt x="138" y="26"/>
                    <a:pt x="154" y="81"/>
                  </a:cubicBezTo>
                  <a:cubicBezTo>
                    <a:pt x="170" y="136"/>
                    <a:pt x="133" y="234"/>
                    <a:pt x="97" y="33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558040" y="3937680"/>
              <a:ext cx="1027080" cy="117360"/>
            </a:xfrm>
            <a:custGeom>
              <a:avLst/>
              <a:gdLst/>
              <a:ahLst/>
              <a:rect l="l" t="t" r="r" b="b"/>
              <a:pathLst>
                <a:path w="405" h="57">
                  <a:moveTo>
                    <a:pt x="0" y="57"/>
                  </a:moveTo>
                  <a:cubicBezTo>
                    <a:pt x="67" y="28"/>
                    <a:pt x="135" y="0"/>
                    <a:pt x="202" y="0"/>
                  </a:cubicBezTo>
                  <a:cubicBezTo>
                    <a:pt x="269" y="0"/>
                    <a:pt x="373" y="48"/>
                    <a:pt x="405" y="5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578920" y="4055040"/>
              <a:ext cx="1171440" cy="801720"/>
            </a:xfrm>
            <a:custGeom>
              <a:avLst/>
              <a:gdLst/>
              <a:ahLst/>
              <a:rect l="l" t="t" r="r" b="b"/>
              <a:pathLst>
                <a:path w="462" h="389">
                  <a:moveTo>
                    <a:pt x="0" y="0"/>
                  </a:moveTo>
                  <a:cubicBezTo>
                    <a:pt x="42" y="73"/>
                    <a:pt x="85" y="146"/>
                    <a:pt x="162" y="211"/>
                  </a:cubicBezTo>
                  <a:cubicBezTo>
                    <a:pt x="239" y="276"/>
                    <a:pt x="412" y="358"/>
                    <a:pt x="462" y="38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585480" y="4087800"/>
              <a:ext cx="329400" cy="752760"/>
            </a:xfrm>
            <a:custGeom>
              <a:avLst/>
              <a:gdLst/>
              <a:ahLst/>
              <a:rect l="l" t="t" r="r" b="b"/>
              <a:pathLst>
                <a:path w="130" h="365">
                  <a:moveTo>
                    <a:pt x="0" y="0"/>
                  </a:moveTo>
                  <a:cubicBezTo>
                    <a:pt x="57" y="55"/>
                    <a:pt x="114" y="110"/>
                    <a:pt x="122" y="171"/>
                  </a:cubicBezTo>
                  <a:cubicBezTo>
                    <a:pt x="130" y="232"/>
                    <a:pt x="89" y="298"/>
                    <a:pt x="49" y="36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911840" y="4021920"/>
              <a:ext cx="667080" cy="985680"/>
            </a:xfrm>
            <a:custGeom>
              <a:avLst/>
              <a:gdLst/>
              <a:ahLst/>
              <a:rect l="l" t="t" r="r" b="b"/>
              <a:pathLst>
                <a:path w="263" h="478">
                  <a:moveTo>
                    <a:pt x="263" y="0"/>
                  </a:moveTo>
                  <a:cubicBezTo>
                    <a:pt x="150" y="65"/>
                    <a:pt x="38" y="131"/>
                    <a:pt x="19" y="211"/>
                  </a:cubicBezTo>
                  <a:cubicBezTo>
                    <a:pt x="0" y="291"/>
                    <a:pt x="74" y="384"/>
                    <a:pt x="149" y="47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48800" y="4958280"/>
              <a:ext cx="801720" cy="418680"/>
            </a:xfrm>
            <a:custGeom>
              <a:avLst/>
              <a:gdLst/>
              <a:ahLst/>
              <a:rect l="l" t="t" r="r" b="b"/>
              <a:pathLst>
                <a:path w="316" h="203">
                  <a:moveTo>
                    <a:pt x="0" y="0"/>
                  </a:moveTo>
                  <a:cubicBezTo>
                    <a:pt x="58" y="64"/>
                    <a:pt x="117" y="128"/>
                    <a:pt x="170" y="162"/>
                  </a:cubicBezTo>
                  <a:cubicBezTo>
                    <a:pt x="223" y="196"/>
                    <a:pt x="269" y="199"/>
                    <a:pt x="316" y="20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50520" y="4807440"/>
              <a:ext cx="679680" cy="534240"/>
            </a:xfrm>
            <a:custGeom>
              <a:avLst/>
              <a:gdLst/>
              <a:ahLst/>
              <a:rect l="l" t="t" r="r" b="b"/>
              <a:pathLst>
                <a:path w="268" h="259">
                  <a:moveTo>
                    <a:pt x="0" y="259"/>
                  </a:moveTo>
                  <a:cubicBezTo>
                    <a:pt x="75" y="240"/>
                    <a:pt x="150" y="221"/>
                    <a:pt x="195" y="178"/>
                  </a:cubicBezTo>
                  <a:cubicBezTo>
                    <a:pt x="240" y="135"/>
                    <a:pt x="254" y="67"/>
                    <a:pt x="268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269320" y="4840920"/>
              <a:ext cx="1673640" cy="942120"/>
            </a:xfrm>
            <a:custGeom>
              <a:avLst/>
              <a:gdLst/>
              <a:ahLst/>
              <a:rect l="l" t="t" r="r" b="b"/>
              <a:pathLst>
                <a:path w="660" h="457">
                  <a:moveTo>
                    <a:pt x="0" y="73"/>
                  </a:moveTo>
                  <a:cubicBezTo>
                    <a:pt x="1" y="155"/>
                    <a:pt x="3" y="238"/>
                    <a:pt x="49" y="300"/>
                  </a:cubicBezTo>
                  <a:cubicBezTo>
                    <a:pt x="95" y="362"/>
                    <a:pt x="195" y="435"/>
                    <a:pt x="276" y="446"/>
                  </a:cubicBezTo>
                  <a:cubicBezTo>
                    <a:pt x="357" y="457"/>
                    <a:pt x="473" y="405"/>
                    <a:pt x="535" y="365"/>
                  </a:cubicBezTo>
                  <a:cubicBezTo>
                    <a:pt x="597" y="325"/>
                    <a:pt x="638" y="264"/>
                    <a:pt x="649" y="203"/>
                  </a:cubicBezTo>
                  <a:cubicBezTo>
                    <a:pt x="660" y="142"/>
                    <a:pt x="630" y="71"/>
                    <a:pt x="60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5229360" y="364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397920" y="307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653520" y="3729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813000" y="4513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965560" y="48200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941360" y="4870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1C37-D9A9-484D-9A50-C99D1F856C6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ED766-50A2-4DFF-B2C3-8AFC458D90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se Isomorphi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somorphic, label the 2nd graph to show the isomorphism, else identify differ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774800" y="3581280"/>
            <a:ext cx="141480" cy="1414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457360" y="4456080"/>
            <a:ext cx="141480" cy="1414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895480" y="3763800"/>
            <a:ext cx="141480" cy="1414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129120" y="5086440"/>
            <a:ext cx="141120" cy="1411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716120" y="5211720"/>
            <a:ext cx="141120" cy="1414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395960" y="3921120"/>
            <a:ext cx="141120" cy="1411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173560" y="3624120"/>
            <a:ext cx="141480" cy="1414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522680" y="5140440"/>
            <a:ext cx="141480" cy="1411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367240" y="4637160"/>
            <a:ext cx="141480" cy="1411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903920" y="4378320"/>
            <a:ext cx="141120" cy="1411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863720" y="3616200"/>
            <a:ext cx="1130400" cy="208080"/>
          </a:xfrm>
          <a:custGeom>
            <a:avLst/>
            <a:gdLst/>
            <a:ahLst/>
            <a:rect l="l" t="t" r="r" b="b"/>
            <a:pathLst>
              <a:path w="712" h="131">
                <a:moveTo>
                  <a:pt x="0" y="19"/>
                </a:moveTo>
                <a:cubicBezTo>
                  <a:pt x="86" y="9"/>
                  <a:pt x="173" y="0"/>
                  <a:pt x="292" y="19"/>
                </a:cubicBezTo>
                <a:cubicBezTo>
                  <a:pt x="411" y="38"/>
                  <a:pt x="644" y="112"/>
                  <a:pt x="712" y="13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460520" y="3646440"/>
            <a:ext cx="376200" cy="1646280"/>
          </a:xfrm>
          <a:custGeom>
            <a:avLst/>
            <a:gdLst/>
            <a:ahLst/>
            <a:rect l="l" t="t" r="r" b="b"/>
            <a:pathLst>
              <a:path w="237" h="1037">
                <a:moveTo>
                  <a:pt x="237" y="0"/>
                </a:moveTo>
                <a:cubicBezTo>
                  <a:pt x="124" y="123"/>
                  <a:pt x="12" y="247"/>
                  <a:pt x="6" y="420"/>
                </a:cubicBezTo>
                <a:cubicBezTo>
                  <a:pt x="0" y="593"/>
                  <a:pt x="101" y="815"/>
                  <a:pt x="203" y="10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616040" y="3824280"/>
            <a:ext cx="1405080" cy="1455840"/>
          </a:xfrm>
          <a:custGeom>
            <a:avLst/>
            <a:gdLst/>
            <a:ahLst/>
            <a:rect l="l" t="t" r="r" b="b"/>
            <a:pathLst>
              <a:path w="885" h="917">
                <a:moveTo>
                  <a:pt x="96" y="917"/>
                </a:moveTo>
                <a:cubicBezTo>
                  <a:pt x="48" y="757"/>
                  <a:pt x="0" y="598"/>
                  <a:pt x="131" y="445"/>
                </a:cubicBezTo>
                <a:cubicBezTo>
                  <a:pt x="262" y="292"/>
                  <a:pt x="573" y="146"/>
                  <a:pt x="88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836720" y="3673440"/>
            <a:ext cx="708120" cy="871560"/>
          </a:xfrm>
          <a:custGeom>
            <a:avLst/>
            <a:gdLst/>
            <a:ahLst/>
            <a:rect l="l" t="t" r="r" b="b"/>
            <a:pathLst>
              <a:path w="446" h="549">
                <a:moveTo>
                  <a:pt x="0" y="0"/>
                </a:moveTo>
                <a:cubicBezTo>
                  <a:pt x="36" y="100"/>
                  <a:pt x="72" y="201"/>
                  <a:pt x="146" y="292"/>
                </a:cubicBezTo>
                <a:cubicBezTo>
                  <a:pt x="220" y="383"/>
                  <a:pt x="333" y="466"/>
                  <a:pt x="446" y="54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544840" y="4518000"/>
            <a:ext cx="625320" cy="639720"/>
          </a:xfrm>
          <a:custGeom>
            <a:avLst/>
            <a:gdLst/>
            <a:ahLst/>
            <a:rect l="l" t="t" r="r" b="b"/>
            <a:pathLst>
              <a:path w="394" h="403">
                <a:moveTo>
                  <a:pt x="0" y="0"/>
                </a:moveTo>
                <a:cubicBezTo>
                  <a:pt x="91" y="18"/>
                  <a:pt x="182" y="36"/>
                  <a:pt x="248" y="103"/>
                </a:cubicBezTo>
                <a:cubicBezTo>
                  <a:pt x="314" y="170"/>
                  <a:pt x="354" y="286"/>
                  <a:pt x="394" y="40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717560" y="5157720"/>
            <a:ext cx="1494000" cy="352440"/>
          </a:xfrm>
          <a:custGeom>
            <a:avLst/>
            <a:gdLst/>
            <a:ahLst/>
            <a:rect l="l" t="t" r="r" b="b"/>
            <a:pathLst>
              <a:path w="941" h="222">
                <a:moveTo>
                  <a:pt x="24" y="85"/>
                </a:moveTo>
                <a:cubicBezTo>
                  <a:pt x="12" y="83"/>
                  <a:pt x="0" y="82"/>
                  <a:pt x="84" y="102"/>
                </a:cubicBezTo>
                <a:cubicBezTo>
                  <a:pt x="168" y="122"/>
                  <a:pt x="386" y="222"/>
                  <a:pt x="529" y="205"/>
                </a:cubicBezTo>
                <a:cubicBezTo>
                  <a:pt x="672" y="188"/>
                  <a:pt x="874" y="34"/>
                  <a:pt x="941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952720" y="3851280"/>
            <a:ext cx="353880" cy="1306440"/>
          </a:xfrm>
          <a:custGeom>
            <a:avLst/>
            <a:gdLst/>
            <a:ahLst/>
            <a:rect l="l" t="t" r="r" b="b"/>
            <a:pathLst>
              <a:path w="223" h="823">
                <a:moveTo>
                  <a:pt x="0" y="0"/>
                </a:moveTo>
                <a:cubicBezTo>
                  <a:pt x="85" y="73"/>
                  <a:pt x="171" y="146"/>
                  <a:pt x="197" y="283"/>
                </a:cubicBezTo>
                <a:cubicBezTo>
                  <a:pt x="223" y="420"/>
                  <a:pt x="188" y="621"/>
                  <a:pt x="154" y="82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444920" y="3581280"/>
            <a:ext cx="789120" cy="405000"/>
          </a:xfrm>
          <a:custGeom>
            <a:avLst/>
            <a:gdLst/>
            <a:ahLst/>
            <a:rect l="l" t="t" r="r" b="b"/>
            <a:pathLst>
              <a:path w="497" h="255">
                <a:moveTo>
                  <a:pt x="0" y="255"/>
                </a:moveTo>
                <a:cubicBezTo>
                  <a:pt x="65" y="160"/>
                  <a:pt x="131" y="66"/>
                  <a:pt x="214" y="33"/>
                </a:cubicBezTo>
                <a:cubicBezTo>
                  <a:pt x="297" y="0"/>
                  <a:pt x="453" y="52"/>
                  <a:pt x="497" y="5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91120" y="3986280"/>
            <a:ext cx="388800" cy="1252440"/>
          </a:xfrm>
          <a:custGeom>
            <a:avLst/>
            <a:gdLst/>
            <a:ahLst/>
            <a:rect l="l" t="t" r="r" b="b"/>
            <a:pathLst>
              <a:path w="245" h="789">
                <a:moveTo>
                  <a:pt x="160" y="0"/>
                </a:moveTo>
                <a:cubicBezTo>
                  <a:pt x="80" y="54"/>
                  <a:pt x="0" y="109"/>
                  <a:pt x="14" y="240"/>
                </a:cubicBezTo>
                <a:cubicBezTo>
                  <a:pt x="28" y="371"/>
                  <a:pt x="136" y="580"/>
                  <a:pt x="245" y="78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559400" y="4449600"/>
            <a:ext cx="401400" cy="762120"/>
          </a:xfrm>
          <a:custGeom>
            <a:avLst/>
            <a:gdLst/>
            <a:ahLst/>
            <a:rect l="l" t="t" r="r" b="b"/>
            <a:pathLst>
              <a:path w="253" h="480">
                <a:moveTo>
                  <a:pt x="22" y="480"/>
                </a:moveTo>
                <a:cubicBezTo>
                  <a:pt x="11" y="374"/>
                  <a:pt x="0" y="268"/>
                  <a:pt x="39" y="188"/>
                </a:cubicBezTo>
                <a:cubicBezTo>
                  <a:pt x="78" y="108"/>
                  <a:pt x="165" y="54"/>
                  <a:pt x="253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960800" y="3687840"/>
            <a:ext cx="325440" cy="747720"/>
          </a:xfrm>
          <a:custGeom>
            <a:avLst/>
            <a:gdLst/>
            <a:ahLst/>
            <a:rect l="l" t="t" r="r" b="b"/>
            <a:pathLst>
              <a:path w="205" h="471">
                <a:moveTo>
                  <a:pt x="0" y="471"/>
                </a:moveTo>
                <a:cubicBezTo>
                  <a:pt x="69" y="420"/>
                  <a:pt x="139" y="369"/>
                  <a:pt x="172" y="291"/>
                </a:cubicBezTo>
                <a:cubicBezTo>
                  <a:pt x="205" y="213"/>
                  <a:pt x="201" y="106"/>
                  <a:pt x="19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234040" y="3673440"/>
            <a:ext cx="245880" cy="1035000"/>
          </a:xfrm>
          <a:custGeom>
            <a:avLst/>
            <a:gdLst/>
            <a:ahLst/>
            <a:rect l="l" t="t" r="r" b="b"/>
            <a:pathLst>
              <a:path w="155" h="652">
                <a:moveTo>
                  <a:pt x="0" y="0"/>
                </a:moveTo>
                <a:cubicBezTo>
                  <a:pt x="47" y="43"/>
                  <a:pt x="94" y="86"/>
                  <a:pt x="120" y="172"/>
                </a:cubicBezTo>
                <a:cubicBezTo>
                  <a:pt x="146" y="258"/>
                  <a:pt x="153" y="435"/>
                  <a:pt x="154" y="515"/>
                </a:cubicBezTo>
                <a:cubicBezTo>
                  <a:pt x="155" y="595"/>
                  <a:pt x="134" y="629"/>
                  <a:pt x="128" y="65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594320" y="4708440"/>
            <a:ext cx="830160" cy="503280"/>
          </a:xfrm>
          <a:custGeom>
            <a:avLst/>
            <a:gdLst/>
            <a:ahLst/>
            <a:rect l="l" t="t" r="r" b="b"/>
            <a:pathLst>
              <a:path w="523" h="317">
                <a:moveTo>
                  <a:pt x="0" y="317"/>
                </a:moveTo>
                <a:cubicBezTo>
                  <a:pt x="76" y="314"/>
                  <a:pt x="152" y="312"/>
                  <a:pt x="206" y="283"/>
                </a:cubicBezTo>
                <a:cubicBezTo>
                  <a:pt x="260" y="254"/>
                  <a:pt x="273" y="192"/>
                  <a:pt x="326" y="145"/>
                </a:cubicBezTo>
                <a:cubicBezTo>
                  <a:pt x="379" y="98"/>
                  <a:pt x="451" y="49"/>
                  <a:pt x="523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594320" y="3673440"/>
            <a:ext cx="1268280" cy="1739880"/>
          </a:xfrm>
          <a:custGeom>
            <a:avLst/>
            <a:gdLst/>
            <a:ahLst/>
            <a:rect l="l" t="t" r="r" b="b"/>
            <a:pathLst>
              <a:path w="799" h="1096">
                <a:moveTo>
                  <a:pt x="0" y="977"/>
                </a:moveTo>
                <a:cubicBezTo>
                  <a:pt x="41" y="1029"/>
                  <a:pt x="83" y="1082"/>
                  <a:pt x="171" y="1089"/>
                </a:cubicBezTo>
                <a:cubicBezTo>
                  <a:pt x="259" y="1096"/>
                  <a:pt x="432" y="1073"/>
                  <a:pt x="531" y="1020"/>
                </a:cubicBezTo>
                <a:cubicBezTo>
                  <a:pt x="630" y="967"/>
                  <a:pt x="727" y="876"/>
                  <a:pt x="763" y="772"/>
                </a:cubicBezTo>
                <a:cubicBezTo>
                  <a:pt x="799" y="668"/>
                  <a:pt x="766" y="506"/>
                  <a:pt x="746" y="395"/>
                </a:cubicBezTo>
                <a:cubicBezTo>
                  <a:pt x="726" y="284"/>
                  <a:pt x="694" y="169"/>
                  <a:pt x="643" y="103"/>
                </a:cubicBezTo>
                <a:cubicBezTo>
                  <a:pt x="592" y="37"/>
                  <a:pt x="514" y="18"/>
                  <a:pt x="437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533600" y="329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962440" y="359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407600" y="5280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241720" y="466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230280" y="51854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327400" y="4340160"/>
            <a:ext cx="407880" cy="368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249880" y="4492800"/>
            <a:ext cx="407880" cy="368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762440" y="4276800"/>
            <a:ext cx="407880" cy="368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249800" y="3803760"/>
            <a:ext cx="407880" cy="368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172200" y="29703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6040" indent="-17604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ame # of ver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172200" y="37324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6040" indent="-17604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ame # of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172200" y="441756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6040" indent="-17604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Different # of verts of degree 2!  </a:t>
            </a:r>
            <a:br>
              <a:rPr sz="2400"/>
            </a:b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(1 vs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B968-FD0B-4245-8846-6556794FCF8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8ABE39-3523-454B-AED2-8E3110CBE2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§8.4: Conne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n undirected graph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th of length n from u to 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quence of adjacent edges going from vert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vert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th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ircu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u=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ver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vertices along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th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contains no edge more than o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D0E6-4F5A-4BAD-AB95-A0D9B3464EA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DB7E49-166A-4705-AE26-25132014AD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hs in Directed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in undirected graphs, but the path must go in the direction of the arro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3E04-1F74-40E3-8EE8-8A8CE549053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9FDD6-14C9-4E38-98CD-19D1C647C4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nected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undirected graph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nec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f there is a path between every pair of distinct vertices in the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re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th between any pair of vertices in a connected undirected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nected compon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connected sub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ut vert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ut ed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parates 1 connected component into 2 if remo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1599-CC50-4B8D-9A26-E1D0721C118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43CE61-217D-47C0-8F73-8D1B064DF9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 of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entially anything (graphs can represent  relations, relations can describe the extension of any predicat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s in networking, scheduling, flow optimization, circuit design, path plan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apps: Geneology analysis, computer game-playing, program compilation, object-oriented design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7806-7DC7-4B04-8781-FA2F053D969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77E0BC-4C8B-420D-9106-C21FB5CF2D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ed Connected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irected graph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rongly connec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f there is a directed path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ny two ver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eakly connec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f the underly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raph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.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ith edge directions removed) is conn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rong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eak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ut not vice-ver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0046-320E-42A6-A016-ADACE981F12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4FB637-414F-4FCE-A72A-59D2CB06DF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hs &amp; Isomorph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at connectedness, and the existence of a circuit or simple circuit of leng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graph invariants with respect to isomorph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D45E-087B-4DEF-B1E1-0E95E242E2F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17FEA4-99FA-4512-95F6-1B1CD499C5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unting Paths w Adjacency Matr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adjacency matrix of grap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paths of leng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equal t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i,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notatio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i,j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denote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i,j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where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i,j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2A82-C293-4C63-91EF-392F72B73FE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ACB43F-AEC2-46A0-8F60-880477BCE9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§8.5: Euler &amp; Hamilton Pa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332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ler circu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a grap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imple circuit containing eve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g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ler pa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imple path containing eve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g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amil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n circu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circuit that traverses each v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actly o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amil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n pa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th that traverses each v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actly o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24E4-5876-4FC2-A682-2F86D6E936A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301650-BE91-4658-8FEE-97E63B216D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dges of 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nigsberg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we walk through town, crossing each bridge exactly once, and return to star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5" name="" descr=""/>
          <p:cNvPicPr/>
          <p:nvPr/>
        </p:nvPicPr>
        <p:blipFill>
          <a:blip r:embed="rId2"/>
          <a:stretch/>
        </p:blipFill>
        <p:spPr>
          <a:xfrm>
            <a:off x="838080" y="3159000"/>
            <a:ext cx="4584960" cy="237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6" name="" descr=""/>
          <p:cNvPicPr/>
          <p:nvPr/>
        </p:nvPicPr>
        <p:blipFill>
          <a:blip r:embed="rId3"/>
          <a:stretch/>
        </p:blipFill>
        <p:spPr>
          <a:xfrm>
            <a:off x="5791320" y="3387600"/>
            <a:ext cx="2361960" cy="224640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3431160" y="315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364120" y="4073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491280" y="4911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863240" y="3962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657800" y="55627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rigina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562720" y="54100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multi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51E6-74DD-4FD7-BC43-ED171CAC35B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E9E7D-9ABC-4E6A-9010-B4CADCD661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ler Path Theor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647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connected multigraph has an Euler circuit iff each vertex has even deg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of: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"/>
              </a:rPr>
              <a:t>(→)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he circuit contributes 2 to degree of each node.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←) By construction using algorithm on p. 580-581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 connected multigraph has an Euler path (but not an Euler circuit) iff it has exactly 2 vertices of odd deg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ne is the start, the other is the end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E770-EEF1-4B88-8C06-8884E0C046F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4D6200-5222-4F5D-9E52-E708382394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ler Circuit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in with any arbitrary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 a simple path from it till you get back to sta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eat for each remaining subgraph, splicing results back into original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08CF-FCEA-4E64-9962-5F1C549DA83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ADFB65-58C0-4346-A19B-804DCDCA8C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nd-the-World Puzz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we traverse all the vertices of a dodecahedron, visiting each once?`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2"/>
          <a:stretch/>
        </p:blipFill>
        <p:spPr>
          <a:xfrm>
            <a:off x="6095880" y="3124080"/>
            <a:ext cx="1895760" cy="2362320"/>
          </a:xfrm>
          <a:prstGeom prst="rect">
            <a:avLst/>
          </a:prstGeom>
          <a:ln w="0">
            <a:noFill/>
          </a:ln>
        </p:spPr>
      </p:pic>
      <p:pic>
        <p:nvPicPr>
          <p:cNvPr id="870" name="" descr=""/>
          <p:cNvPicPr/>
          <p:nvPr/>
        </p:nvPicPr>
        <p:blipFill>
          <a:blip r:embed="rId3"/>
          <a:srcRect l="43057" t="25928" r="31946" b="57409"/>
          <a:stretch/>
        </p:blipFill>
        <p:spPr>
          <a:xfrm>
            <a:off x="990720" y="3276720"/>
            <a:ext cx="4572000" cy="2286000"/>
          </a:xfrm>
          <a:prstGeom prst="rect">
            <a:avLst/>
          </a:prstGeom>
          <a:ln w="0">
            <a:noFill/>
          </a:ln>
        </p:spPr>
      </p:pic>
      <p:sp>
        <p:nvSpPr>
          <p:cNvPr id="871" name=""/>
          <p:cNvSpPr/>
          <p:nvPr/>
        </p:nvSpPr>
        <p:spPr>
          <a:xfrm>
            <a:off x="837360" y="5451480"/>
            <a:ext cx="28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decahedron 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885480" y="5299200"/>
            <a:ext cx="150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867280" y="548640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gboard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B7CE-8A45-4265-99E0-969883671EC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3F9086-8676-4749-9F7D-9431464093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miltonian Path Theor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ac’s theor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If (b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ly if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nected, simple, has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ertices, and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deg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/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a Hamilton circu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re’s corollary: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I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is connected, simple, ha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3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nodes, an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+deg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for every pair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of non-adjacent nodes, then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has a Hamilton circuit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E7D4-28F1-4B15-B419-921BBC238DB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8ACD2B-C048-4E96-B587-3CB2F157EC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M-CIRCUIT is NP-compl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HAM-CIRCUIT be the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iven a simple graph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does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contain a Hamiltonian circuit?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roblem has been proven to be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P-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is means, if an algorithm for solving it in polynomial time were found, it could be used to solv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NP problems in polynomial time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9CAE-C8D8-4D61-8EC7-A4FF8068D9D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639C97-694D-4368-8F10-2D03640428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spond to symmetric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reflexive binary relation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mple gra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 set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vertice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or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node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corresponds to the universe of the relation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 set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edge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/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rc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/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link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 unordered pairs of </a:t>
            </a:r>
            <a:r>
              <a:rPr b="0" lang="en-US" sz="2800" spc="-1" strike="noStrike">
                <a:solidFill>
                  <a:srgbClr val="777777"/>
                </a:solidFill>
                <a:latin typeface="Times New Roman"/>
              </a:rPr>
              <a:t>[distinct]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element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such tha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uRv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19920" y="2209680"/>
            <a:ext cx="2209680" cy="1143000"/>
          </a:xfrm>
          <a:prstGeom prst="rect">
            <a:avLst/>
          </a:prstGeom>
          <a:solidFill>
            <a:srgbClr val="ffffff"/>
          </a:solidFill>
          <a:ln w="63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24382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304812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34320" y="304812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25146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2971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236232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29400" y="26668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91520" y="27432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304812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924680" y="26668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400800" y="2438280"/>
            <a:ext cx="13716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400800" y="274320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781680" y="259056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00800" y="25909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124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324480" y="2590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1680" y="2743200"/>
            <a:ext cx="6098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467480" y="27432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086600" y="2514240"/>
            <a:ext cx="903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2590920"/>
            <a:ext cx="6094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315200" y="2438280"/>
            <a:ext cx="4572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53240" y="2819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8660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7467480" y="3047760"/>
            <a:ext cx="2286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391520" y="2895480"/>
            <a:ext cx="7596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543800" y="251424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848720" y="281916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7848360" y="251424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400800" y="2590560"/>
            <a:ext cx="776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74600" y="3351240"/>
            <a:ext cx="288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Visual Representation</a:t>
            </a:r>
            <a:br>
              <a:rPr sz="2400"/>
            </a:b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of a Simple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6C30-4D3F-410D-81AA-5661FDE3B5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C0A307-D692-41AB-B9FE-20CE0D05A6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8.6: Shortest-Path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vering this seme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2498-149F-450C-806C-6BC1064DAC5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BEF63-1250-4DA8-B205-CD04F96A39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8.7: Planar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vering this seme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812D-1F03-4B33-8255-4C00C46E54F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C2279E-83E3-4C0F-9E4E-181FD56F2F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8.8: Graph Colo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vering this seme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29B0-F089-4048-AB4D-3BBD8AD662D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5CC9F-DF8D-4638-9558-983FC78DBD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9.1: Introduction to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nnected undirected graph that contains no circu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orem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re is a unique simple path between any two of its nodes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(not-necessarily-connected) undirected graph without simple circuits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You can think of it as a set of trees having disjoint sets of nodes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a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 in a tree or forest is any pendant or isolated vertex. 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ter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 is any non-leaf vertex (thus it has degre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___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7EA3-6ABA-4191-A299-6F5E747C50F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186434-D061-45E2-877E-E71257AB8C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 and Forest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ore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438280" y="3886200"/>
            <a:ext cx="152640" cy="1522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905120" y="3505320"/>
            <a:ext cx="152280" cy="1522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"/>
          <p:cNvCxnSpPr>
            <a:stCxn id="890" idx="6"/>
            <a:endCxn id="889" idx="0"/>
          </p:cNvCxnSpPr>
          <p:nvPr/>
        </p:nvCxnSpPr>
        <p:spPr>
          <a:xfrm>
            <a:off x="2057400" y="3580920"/>
            <a:ext cx="4579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2" name=""/>
          <p:cNvSpPr/>
          <p:nvPr/>
        </p:nvSpPr>
        <p:spPr>
          <a:xfrm>
            <a:off x="1981080" y="4572000"/>
            <a:ext cx="152640" cy="1522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752480" y="4114800"/>
            <a:ext cx="152640" cy="1522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581280" y="3962520"/>
            <a:ext cx="15264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743200" y="4191120"/>
            <a:ext cx="152280" cy="1522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514600" y="3124080"/>
            <a:ext cx="152280" cy="1526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514600" y="4724280"/>
            <a:ext cx="152280" cy="1526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124080" y="4876920"/>
            <a:ext cx="152640" cy="1522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048120" y="3505320"/>
            <a:ext cx="152280" cy="1522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295280" y="4724280"/>
            <a:ext cx="152640" cy="1526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1" name=""/>
          <p:cNvCxnSpPr>
            <a:stCxn id="889" idx="6"/>
            <a:endCxn id="899" idx="2"/>
          </p:cNvCxnSpPr>
          <p:nvPr/>
        </p:nvCxnSpPr>
        <p:spPr>
          <a:xfrm flipV="1">
            <a:off x="2590920" y="3580560"/>
            <a:ext cx="45792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2" name=""/>
          <p:cNvCxnSpPr>
            <a:stCxn id="899" idx="0"/>
            <a:endCxn id="896" idx="6"/>
          </p:cNvCxnSpPr>
          <p:nvPr/>
        </p:nvCxnSpPr>
        <p:spPr>
          <a:xfrm flipH="1" flipV="1">
            <a:off x="2666520" y="3199680"/>
            <a:ext cx="4579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3" name=""/>
          <p:cNvCxnSpPr>
            <a:stCxn id="899" idx="6"/>
            <a:endCxn id="894" idx="2"/>
          </p:cNvCxnSpPr>
          <p:nvPr/>
        </p:nvCxnSpPr>
        <p:spPr>
          <a:xfrm>
            <a:off x="3200400" y="3581280"/>
            <a:ext cx="381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4" name=""/>
          <p:cNvCxnSpPr>
            <a:stCxn id="889" idx="6"/>
            <a:endCxn id="895" idx="0"/>
          </p:cNvCxnSpPr>
          <p:nvPr/>
        </p:nvCxnSpPr>
        <p:spPr>
          <a:xfrm>
            <a:off x="2590560" y="3962160"/>
            <a:ext cx="2293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5" name=""/>
          <p:cNvCxnSpPr>
            <a:stCxn id="895" idx="4"/>
            <a:endCxn id="898" idx="0"/>
          </p:cNvCxnSpPr>
          <p:nvPr/>
        </p:nvCxnSpPr>
        <p:spPr>
          <a:xfrm>
            <a:off x="2819520" y="4343400"/>
            <a:ext cx="381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6" name=""/>
          <p:cNvCxnSpPr>
            <a:stCxn id="895" idx="2"/>
            <a:endCxn id="892" idx="6"/>
          </p:cNvCxnSpPr>
          <p:nvPr/>
        </p:nvCxnSpPr>
        <p:spPr>
          <a:xfrm flipH="1">
            <a:off x="2133000" y="4266720"/>
            <a:ext cx="61020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7" name=""/>
          <p:cNvCxnSpPr>
            <a:stCxn id="893" idx="7"/>
            <a:endCxn id="890" idx="4"/>
          </p:cNvCxnSpPr>
          <p:nvPr/>
        </p:nvCxnSpPr>
        <p:spPr>
          <a:xfrm flipV="1">
            <a:off x="1882440" y="3657240"/>
            <a:ext cx="9900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8" name=""/>
          <p:cNvCxnSpPr>
            <a:stCxn id="897" idx="6"/>
            <a:endCxn id="898" idx="2"/>
          </p:cNvCxnSpPr>
          <p:nvPr/>
        </p:nvCxnSpPr>
        <p:spPr>
          <a:xfrm>
            <a:off x="2666880" y="4800240"/>
            <a:ext cx="4579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9" name=""/>
          <p:cNvCxnSpPr>
            <a:stCxn id="900" idx="6"/>
            <a:endCxn id="892" idx="2"/>
          </p:cNvCxnSpPr>
          <p:nvPr/>
        </p:nvCxnSpPr>
        <p:spPr>
          <a:xfrm flipV="1">
            <a:off x="1447560" y="4647600"/>
            <a:ext cx="5338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10" name=""/>
          <p:cNvSpPr/>
          <p:nvPr/>
        </p:nvSpPr>
        <p:spPr>
          <a:xfrm>
            <a:off x="3124080" y="2971800"/>
            <a:ext cx="15264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429000" y="4419720"/>
            <a:ext cx="152280" cy="1522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962520" y="5029200"/>
            <a:ext cx="15228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981080" y="5029200"/>
            <a:ext cx="15264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143000" y="4114800"/>
            <a:ext cx="15228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143000" y="3429000"/>
            <a:ext cx="15228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981080" y="3048120"/>
            <a:ext cx="15264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819520" y="5181480"/>
            <a:ext cx="152280" cy="1526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8" name=""/>
          <p:cNvCxnSpPr>
            <a:stCxn id="911" idx="6"/>
            <a:endCxn id="912" idx="2"/>
          </p:cNvCxnSpPr>
          <p:nvPr/>
        </p:nvCxnSpPr>
        <p:spPr>
          <a:xfrm>
            <a:off x="3580920" y="4495680"/>
            <a:ext cx="38196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9" name=""/>
          <p:cNvCxnSpPr>
            <a:stCxn id="898" idx="4"/>
            <a:endCxn id="917" idx="7"/>
          </p:cNvCxnSpPr>
          <p:nvPr/>
        </p:nvCxnSpPr>
        <p:spPr>
          <a:xfrm flipH="1">
            <a:off x="2948760" y="5028840"/>
            <a:ext cx="25164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0" name=""/>
          <p:cNvCxnSpPr>
            <a:stCxn id="899" idx="7"/>
            <a:endCxn id="910" idx="4"/>
          </p:cNvCxnSpPr>
          <p:nvPr/>
        </p:nvCxnSpPr>
        <p:spPr>
          <a:xfrm flipV="1">
            <a:off x="3178080" y="3123720"/>
            <a:ext cx="2304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1" name=""/>
          <p:cNvCxnSpPr>
            <a:stCxn id="890" idx="0"/>
            <a:endCxn id="916" idx="4"/>
          </p:cNvCxnSpPr>
          <p:nvPr/>
        </p:nvCxnSpPr>
        <p:spPr>
          <a:xfrm flipV="1">
            <a:off x="1981080" y="3199680"/>
            <a:ext cx="766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2" name=""/>
          <p:cNvCxnSpPr>
            <a:stCxn id="890" idx="2"/>
            <a:endCxn id="915" idx="6"/>
          </p:cNvCxnSpPr>
          <p:nvPr/>
        </p:nvCxnSpPr>
        <p:spPr>
          <a:xfrm flipH="1" flipV="1">
            <a:off x="1294920" y="3504600"/>
            <a:ext cx="61056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3" name=""/>
          <p:cNvCxnSpPr>
            <a:stCxn id="914" idx="6"/>
            <a:endCxn id="893" idx="2"/>
          </p:cNvCxnSpPr>
          <p:nvPr/>
        </p:nvCxnSpPr>
        <p:spPr>
          <a:xfrm>
            <a:off x="1295280" y="419076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4" name=""/>
          <p:cNvCxnSpPr>
            <a:stCxn id="892" idx="4"/>
            <a:endCxn id="913" idx="7"/>
          </p:cNvCxnSpPr>
          <p:nvPr/>
        </p:nvCxnSpPr>
        <p:spPr>
          <a:xfrm>
            <a:off x="2057400" y="4723920"/>
            <a:ext cx="54720" cy="327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5" name=""/>
          <p:cNvCxnSpPr>
            <a:stCxn id="895" idx="6"/>
            <a:endCxn id="911" idx="2"/>
          </p:cNvCxnSpPr>
          <p:nvPr/>
        </p:nvCxnSpPr>
        <p:spPr>
          <a:xfrm>
            <a:off x="2895480" y="4266720"/>
            <a:ext cx="5342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26" name=""/>
          <p:cNvSpPr/>
          <p:nvPr/>
        </p:nvSpPr>
        <p:spPr>
          <a:xfrm>
            <a:off x="5410080" y="3124080"/>
            <a:ext cx="152640" cy="1526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172200" y="4648320"/>
            <a:ext cx="15228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010280" y="3962520"/>
            <a:ext cx="15264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334120" y="3733920"/>
            <a:ext cx="15228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791320" y="3505320"/>
            <a:ext cx="152280" cy="1522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943600" y="5105520"/>
            <a:ext cx="15228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400800" y="5029200"/>
            <a:ext cx="152280" cy="1522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257800" y="4724280"/>
            <a:ext cx="152280" cy="1526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257800" y="5029200"/>
            <a:ext cx="152280" cy="1522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181480" y="5410080"/>
            <a:ext cx="152640" cy="1526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620120" y="5562720"/>
            <a:ext cx="15228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772400" y="5105520"/>
            <a:ext cx="15228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391520" y="5105520"/>
            <a:ext cx="152280" cy="1522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315200" y="3581280"/>
            <a:ext cx="152280" cy="152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934320" y="3276720"/>
            <a:ext cx="15228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7696080" y="3809880"/>
            <a:ext cx="152640" cy="152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620120" y="3276720"/>
            <a:ext cx="15228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7543800" y="4191120"/>
            <a:ext cx="15228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952880"/>
            <a:ext cx="152640" cy="152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324480" y="5410080"/>
            <a:ext cx="152640" cy="1526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6" name=""/>
          <p:cNvCxnSpPr>
            <a:stCxn id="926" idx="6"/>
            <a:endCxn id="930" idx="1"/>
          </p:cNvCxnSpPr>
          <p:nvPr/>
        </p:nvCxnSpPr>
        <p:spPr>
          <a:xfrm>
            <a:off x="5562720" y="3200400"/>
            <a:ext cx="250920" cy="327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7" name=""/>
          <p:cNvCxnSpPr>
            <a:stCxn id="929" idx="6"/>
            <a:endCxn id="930" idx="3"/>
          </p:cNvCxnSpPr>
          <p:nvPr/>
        </p:nvCxnSpPr>
        <p:spPr>
          <a:xfrm flipV="1">
            <a:off x="5486400" y="3634560"/>
            <a:ext cx="32760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8" name=""/>
          <p:cNvCxnSpPr>
            <a:stCxn id="940" idx="5"/>
            <a:endCxn id="939" idx="2"/>
          </p:cNvCxnSpPr>
          <p:nvPr/>
        </p:nvCxnSpPr>
        <p:spPr>
          <a:xfrm>
            <a:off x="7063920" y="3406320"/>
            <a:ext cx="25164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9" name=""/>
          <p:cNvCxnSpPr>
            <a:stCxn id="942" idx="3"/>
            <a:endCxn id="941" idx="0"/>
          </p:cNvCxnSpPr>
          <p:nvPr/>
        </p:nvCxnSpPr>
        <p:spPr>
          <a:xfrm>
            <a:off x="7642080" y="3406680"/>
            <a:ext cx="13104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0" name=""/>
          <p:cNvCxnSpPr>
            <a:stCxn id="941" idx="1"/>
            <a:endCxn id="939" idx="5"/>
          </p:cNvCxnSpPr>
          <p:nvPr/>
        </p:nvCxnSpPr>
        <p:spPr>
          <a:xfrm flipH="1" flipV="1">
            <a:off x="7445520" y="3710880"/>
            <a:ext cx="273240" cy="121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1" name=""/>
          <p:cNvCxnSpPr>
            <a:stCxn id="943" idx="0"/>
            <a:endCxn id="939" idx="4"/>
          </p:cNvCxnSpPr>
          <p:nvPr/>
        </p:nvCxnSpPr>
        <p:spPr>
          <a:xfrm flipH="1" flipV="1">
            <a:off x="7390800" y="3733560"/>
            <a:ext cx="2293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2" name=""/>
          <p:cNvCxnSpPr>
            <a:stCxn id="928" idx="7"/>
            <a:endCxn id="939" idx="3"/>
          </p:cNvCxnSpPr>
          <p:nvPr/>
        </p:nvCxnSpPr>
        <p:spPr>
          <a:xfrm flipV="1">
            <a:off x="7140240" y="3711600"/>
            <a:ext cx="197640" cy="27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3" name=""/>
          <p:cNvCxnSpPr>
            <a:stCxn id="938" idx="6"/>
            <a:endCxn id="937" idx="2"/>
          </p:cNvCxnSpPr>
          <p:nvPr/>
        </p:nvCxnSpPr>
        <p:spPr>
          <a:xfrm>
            <a:off x="7543440" y="5181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4" name=""/>
          <p:cNvCxnSpPr>
            <a:stCxn id="938" idx="5"/>
            <a:endCxn id="936" idx="0"/>
          </p:cNvCxnSpPr>
          <p:nvPr/>
        </p:nvCxnSpPr>
        <p:spPr>
          <a:xfrm>
            <a:off x="7521120" y="5235120"/>
            <a:ext cx="175320" cy="327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5" name=""/>
          <p:cNvCxnSpPr>
            <a:stCxn id="932" idx="0"/>
            <a:endCxn id="927" idx="5"/>
          </p:cNvCxnSpPr>
          <p:nvPr/>
        </p:nvCxnSpPr>
        <p:spPr>
          <a:xfrm flipH="1" flipV="1">
            <a:off x="6301800" y="4777560"/>
            <a:ext cx="17532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6" name=""/>
          <p:cNvCxnSpPr>
            <a:stCxn id="931" idx="6"/>
            <a:endCxn id="932" idx="2"/>
          </p:cNvCxnSpPr>
          <p:nvPr/>
        </p:nvCxnSpPr>
        <p:spPr>
          <a:xfrm flipV="1">
            <a:off x="6095520" y="5104800"/>
            <a:ext cx="30564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7" name=""/>
          <p:cNvCxnSpPr>
            <a:stCxn id="945" idx="0"/>
            <a:endCxn id="932" idx="4"/>
          </p:cNvCxnSpPr>
          <p:nvPr/>
        </p:nvCxnSpPr>
        <p:spPr>
          <a:xfrm flipV="1">
            <a:off x="6400800" y="5180760"/>
            <a:ext cx="766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8" name=""/>
          <p:cNvCxnSpPr>
            <a:stCxn id="944" idx="6"/>
            <a:endCxn id="934" idx="2"/>
          </p:cNvCxnSpPr>
          <p:nvPr/>
        </p:nvCxnSpPr>
        <p:spPr>
          <a:xfrm>
            <a:off x="5105160" y="5029200"/>
            <a:ext cx="1530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9" name=""/>
          <p:cNvCxnSpPr>
            <a:stCxn id="933" idx="4"/>
            <a:endCxn id="934" idx="0"/>
          </p:cNvCxnSpPr>
          <p:nvPr/>
        </p:nvCxnSpPr>
        <p:spPr>
          <a:xfrm>
            <a:off x="5333760" y="4876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0" name=""/>
          <p:cNvCxnSpPr>
            <a:stCxn id="944" idx="4"/>
            <a:endCxn id="935" idx="1"/>
          </p:cNvCxnSpPr>
          <p:nvPr/>
        </p:nvCxnSpPr>
        <p:spPr>
          <a:xfrm>
            <a:off x="5028840" y="5105520"/>
            <a:ext cx="175320" cy="327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61" name=""/>
          <p:cNvSpPr/>
          <p:nvPr/>
        </p:nvSpPr>
        <p:spPr>
          <a:xfrm>
            <a:off x="6400800" y="3886200"/>
            <a:ext cx="15228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715000" y="4038480"/>
            <a:ext cx="152280" cy="1526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019920" y="3124080"/>
            <a:ext cx="152280" cy="152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715000" y="2819520"/>
            <a:ext cx="15228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324480" y="2971800"/>
            <a:ext cx="15264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6" name=""/>
          <p:cNvCxnSpPr>
            <a:stCxn id="963" idx="6"/>
            <a:endCxn id="965" idx="3"/>
          </p:cNvCxnSpPr>
          <p:nvPr/>
        </p:nvCxnSpPr>
        <p:spPr>
          <a:xfrm flipV="1">
            <a:off x="6171840" y="3101400"/>
            <a:ext cx="175320" cy="99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7" name=""/>
          <p:cNvCxnSpPr>
            <a:stCxn id="963" idx="1"/>
            <a:endCxn id="964" idx="4"/>
          </p:cNvCxnSpPr>
          <p:nvPr/>
        </p:nvCxnSpPr>
        <p:spPr>
          <a:xfrm flipH="1" flipV="1">
            <a:off x="5791320" y="2971080"/>
            <a:ext cx="25092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8" name=""/>
          <p:cNvCxnSpPr>
            <a:stCxn id="963" idx="3"/>
            <a:endCxn id="930" idx="0"/>
          </p:cNvCxnSpPr>
          <p:nvPr/>
        </p:nvCxnSpPr>
        <p:spPr>
          <a:xfrm flipH="1">
            <a:off x="5866560" y="3254040"/>
            <a:ext cx="17532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9" name=""/>
          <p:cNvCxnSpPr>
            <a:stCxn id="930" idx="4"/>
            <a:endCxn id="962" idx="0"/>
          </p:cNvCxnSpPr>
          <p:nvPr/>
        </p:nvCxnSpPr>
        <p:spPr>
          <a:xfrm flipH="1">
            <a:off x="5790600" y="3657600"/>
            <a:ext cx="766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70" name=""/>
          <p:cNvSpPr/>
          <p:nvPr/>
        </p:nvSpPr>
        <p:spPr>
          <a:xfrm>
            <a:off x="1914840" y="1565280"/>
            <a:ext cx="523296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ves in green, internal nodes in br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0089-973D-480B-9948-B00C91EF4383}" type="slidenum">
              <a:t>5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E884E2-6676-40C9-B9E7-331FB69365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oted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ooted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tree in which one node has been designated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o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very edge is (implicitly or explicitly) directed away from the root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should know the following terms about rooted tre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arent, child, siblings, ancestors, descendents, leaf, internal node, subtree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FEF1-DC56-4350-A709-238160AA110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5A83D-1C62-4117-9E2B-42EEC95338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oted Tree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at a given unrooted tree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s yield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fferent rooted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362320" y="4267080"/>
            <a:ext cx="228600" cy="228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828800" y="3962520"/>
            <a:ext cx="152280" cy="1522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7" name=""/>
          <p:cNvCxnSpPr>
            <a:stCxn id="976" idx="6"/>
            <a:endCxn id="975" idx="1"/>
          </p:cNvCxnSpPr>
          <p:nvPr/>
        </p:nvCxnSpPr>
        <p:spPr>
          <a:xfrm>
            <a:off x="1980720" y="4038120"/>
            <a:ext cx="415080" cy="234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78" name=""/>
          <p:cNvSpPr/>
          <p:nvPr/>
        </p:nvSpPr>
        <p:spPr>
          <a:xfrm>
            <a:off x="1905120" y="5029200"/>
            <a:ext cx="152280" cy="1522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676520" y="4572000"/>
            <a:ext cx="152280" cy="1522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505320" y="4419720"/>
            <a:ext cx="15228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666880" y="4648320"/>
            <a:ext cx="152640" cy="1522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438280" y="3581280"/>
            <a:ext cx="152640" cy="1526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438280" y="5181480"/>
            <a:ext cx="152640" cy="1526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048120" y="5334120"/>
            <a:ext cx="152280" cy="1522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971800" y="3962520"/>
            <a:ext cx="152280" cy="1522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219320" y="5181480"/>
            <a:ext cx="152280" cy="1526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7" name=""/>
          <p:cNvCxnSpPr>
            <a:stCxn id="975" idx="6"/>
            <a:endCxn id="985" idx="2"/>
          </p:cNvCxnSpPr>
          <p:nvPr/>
        </p:nvCxnSpPr>
        <p:spPr>
          <a:xfrm flipV="1">
            <a:off x="2619000" y="4037760"/>
            <a:ext cx="35316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8" name=""/>
          <p:cNvCxnSpPr>
            <a:stCxn id="985" idx="0"/>
            <a:endCxn id="982" idx="6"/>
          </p:cNvCxnSpPr>
          <p:nvPr/>
        </p:nvCxnSpPr>
        <p:spPr>
          <a:xfrm flipH="1" flipV="1">
            <a:off x="2590560" y="3656880"/>
            <a:ext cx="4579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9" name=""/>
          <p:cNvCxnSpPr>
            <a:stCxn id="985" idx="6"/>
            <a:endCxn id="980" idx="2"/>
          </p:cNvCxnSpPr>
          <p:nvPr/>
        </p:nvCxnSpPr>
        <p:spPr>
          <a:xfrm>
            <a:off x="3123720" y="4038480"/>
            <a:ext cx="3819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0" name=""/>
          <p:cNvCxnSpPr>
            <a:stCxn id="975" idx="5"/>
            <a:endCxn id="981" idx="0"/>
          </p:cNvCxnSpPr>
          <p:nvPr/>
        </p:nvCxnSpPr>
        <p:spPr>
          <a:xfrm>
            <a:off x="2557440" y="4490640"/>
            <a:ext cx="186480" cy="158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1" name=""/>
          <p:cNvCxnSpPr>
            <a:stCxn id="981" idx="4"/>
            <a:endCxn id="984" idx="0"/>
          </p:cNvCxnSpPr>
          <p:nvPr/>
        </p:nvCxnSpPr>
        <p:spPr>
          <a:xfrm>
            <a:off x="2743200" y="4800600"/>
            <a:ext cx="381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2" name=""/>
          <p:cNvCxnSpPr>
            <a:stCxn id="981" idx="2"/>
            <a:endCxn id="978" idx="6"/>
          </p:cNvCxnSpPr>
          <p:nvPr/>
        </p:nvCxnSpPr>
        <p:spPr>
          <a:xfrm flipH="1">
            <a:off x="2056680" y="4723920"/>
            <a:ext cx="61020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3" name=""/>
          <p:cNvCxnSpPr>
            <a:stCxn id="979" idx="7"/>
            <a:endCxn id="976" idx="4"/>
          </p:cNvCxnSpPr>
          <p:nvPr/>
        </p:nvCxnSpPr>
        <p:spPr>
          <a:xfrm flipV="1">
            <a:off x="1806480" y="4114440"/>
            <a:ext cx="9936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4" name=""/>
          <p:cNvCxnSpPr>
            <a:stCxn id="983" idx="6"/>
            <a:endCxn id="984" idx="2"/>
          </p:cNvCxnSpPr>
          <p:nvPr/>
        </p:nvCxnSpPr>
        <p:spPr>
          <a:xfrm>
            <a:off x="2590920" y="5257440"/>
            <a:ext cx="4579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5" name=""/>
          <p:cNvCxnSpPr>
            <a:stCxn id="986" idx="6"/>
            <a:endCxn id="978" idx="2"/>
          </p:cNvCxnSpPr>
          <p:nvPr/>
        </p:nvCxnSpPr>
        <p:spPr>
          <a:xfrm flipV="1">
            <a:off x="1371600" y="5104800"/>
            <a:ext cx="5342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96" name=""/>
          <p:cNvSpPr/>
          <p:nvPr/>
        </p:nvSpPr>
        <p:spPr>
          <a:xfrm>
            <a:off x="3048120" y="3429000"/>
            <a:ext cx="15228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352680" y="4876920"/>
            <a:ext cx="152640" cy="1522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886200" y="5486400"/>
            <a:ext cx="15228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905120" y="5486400"/>
            <a:ext cx="15228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066680" y="4572000"/>
            <a:ext cx="15264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066680" y="3886200"/>
            <a:ext cx="15264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905120" y="3505320"/>
            <a:ext cx="15228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743200" y="5638680"/>
            <a:ext cx="152280" cy="1526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4" name=""/>
          <p:cNvCxnSpPr>
            <a:stCxn id="997" idx="6"/>
            <a:endCxn id="998" idx="2"/>
          </p:cNvCxnSpPr>
          <p:nvPr/>
        </p:nvCxnSpPr>
        <p:spPr>
          <a:xfrm>
            <a:off x="3505320" y="4952880"/>
            <a:ext cx="38160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5" name=""/>
          <p:cNvCxnSpPr>
            <a:stCxn id="984" idx="4"/>
            <a:endCxn id="1003" idx="7"/>
          </p:cNvCxnSpPr>
          <p:nvPr/>
        </p:nvCxnSpPr>
        <p:spPr>
          <a:xfrm flipH="1">
            <a:off x="2873520" y="5486040"/>
            <a:ext cx="25092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6" name=""/>
          <p:cNvCxnSpPr>
            <a:stCxn id="985" idx="7"/>
            <a:endCxn id="996" idx="4"/>
          </p:cNvCxnSpPr>
          <p:nvPr/>
        </p:nvCxnSpPr>
        <p:spPr>
          <a:xfrm flipV="1">
            <a:off x="3101760" y="3580920"/>
            <a:ext cx="2268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7" name=""/>
          <p:cNvCxnSpPr>
            <a:stCxn id="976" idx="0"/>
            <a:endCxn id="1002" idx="4"/>
          </p:cNvCxnSpPr>
          <p:nvPr/>
        </p:nvCxnSpPr>
        <p:spPr>
          <a:xfrm flipV="1">
            <a:off x="1904760" y="3656880"/>
            <a:ext cx="766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8" name=""/>
          <p:cNvCxnSpPr>
            <a:stCxn id="976" idx="2"/>
            <a:endCxn id="1001" idx="6"/>
          </p:cNvCxnSpPr>
          <p:nvPr/>
        </p:nvCxnSpPr>
        <p:spPr>
          <a:xfrm flipH="1" flipV="1">
            <a:off x="1218600" y="3961800"/>
            <a:ext cx="6102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9" name=""/>
          <p:cNvCxnSpPr>
            <a:stCxn id="1000" idx="6"/>
            <a:endCxn id="979" idx="2"/>
          </p:cNvCxnSpPr>
          <p:nvPr/>
        </p:nvCxnSpPr>
        <p:spPr>
          <a:xfrm>
            <a:off x="1219320" y="464796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0" name=""/>
          <p:cNvCxnSpPr>
            <a:stCxn id="978" idx="4"/>
            <a:endCxn id="999" idx="7"/>
          </p:cNvCxnSpPr>
          <p:nvPr/>
        </p:nvCxnSpPr>
        <p:spPr>
          <a:xfrm>
            <a:off x="1981080" y="5181120"/>
            <a:ext cx="54720" cy="327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1" name=""/>
          <p:cNvCxnSpPr>
            <a:stCxn id="981" idx="6"/>
            <a:endCxn id="997" idx="2"/>
          </p:cNvCxnSpPr>
          <p:nvPr/>
        </p:nvCxnSpPr>
        <p:spPr>
          <a:xfrm>
            <a:off x="2819160" y="4723920"/>
            <a:ext cx="5338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12" name=""/>
          <p:cNvSpPr/>
          <p:nvPr/>
        </p:nvSpPr>
        <p:spPr>
          <a:xfrm>
            <a:off x="6477120" y="4267080"/>
            <a:ext cx="152280" cy="15264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867280" y="3962520"/>
            <a:ext cx="152640" cy="1522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4" name=""/>
          <p:cNvCxnSpPr>
            <a:stCxn id="1013" idx="6"/>
            <a:endCxn id="1012" idx="1"/>
          </p:cNvCxnSpPr>
          <p:nvPr/>
        </p:nvCxnSpPr>
        <p:spPr>
          <a:xfrm>
            <a:off x="6019560" y="4038120"/>
            <a:ext cx="47988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15" name=""/>
          <p:cNvSpPr/>
          <p:nvPr/>
        </p:nvSpPr>
        <p:spPr>
          <a:xfrm>
            <a:off x="5943600" y="5029200"/>
            <a:ext cx="152280" cy="1522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715000" y="4572000"/>
            <a:ext cx="152280" cy="1522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543800" y="4419720"/>
            <a:ext cx="15228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705720" y="4648320"/>
            <a:ext cx="152280" cy="1522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477120" y="3581280"/>
            <a:ext cx="152280" cy="1526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477120" y="5181480"/>
            <a:ext cx="152280" cy="1526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086600" y="5334120"/>
            <a:ext cx="152280" cy="1522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010280" y="3962520"/>
            <a:ext cx="152640" cy="1522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257800" y="5181480"/>
            <a:ext cx="152280" cy="1526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4" name=""/>
          <p:cNvCxnSpPr>
            <a:stCxn id="1012" idx="6"/>
            <a:endCxn id="1022" idx="2"/>
          </p:cNvCxnSpPr>
          <p:nvPr/>
        </p:nvCxnSpPr>
        <p:spPr>
          <a:xfrm flipV="1">
            <a:off x="6629400" y="4037760"/>
            <a:ext cx="38160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5" name=""/>
          <p:cNvCxnSpPr>
            <a:stCxn id="1022" idx="0"/>
            <a:endCxn id="1019" idx="6"/>
          </p:cNvCxnSpPr>
          <p:nvPr/>
        </p:nvCxnSpPr>
        <p:spPr>
          <a:xfrm flipH="1" flipV="1">
            <a:off x="6629040" y="3656880"/>
            <a:ext cx="4579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6" name=""/>
          <p:cNvCxnSpPr>
            <a:stCxn id="1022" idx="6"/>
            <a:endCxn id="1017" idx="2"/>
          </p:cNvCxnSpPr>
          <p:nvPr/>
        </p:nvCxnSpPr>
        <p:spPr>
          <a:xfrm>
            <a:off x="7162920" y="4038480"/>
            <a:ext cx="381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7" name=""/>
          <p:cNvCxnSpPr>
            <a:stCxn id="1012" idx="5"/>
            <a:endCxn id="1018" idx="0"/>
          </p:cNvCxnSpPr>
          <p:nvPr/>
        </p:nvCxnSpPr>
        <p:spPr>
          <a:xfrm>
            <a:off x="6606720" y="4397040"/>
            <a:ext cx="17532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8" name=""/>
          <p:cNvCxnSpPr>
            <a:stCxn id="1018" idx="4"/>
            <a:endCxn id="1021" idx="0"/>
          </p:cNvCxnSpPr>
          <p:nvPr/>
        </p:nvCxnSpPr>
        <p:spPr>
          <a:xfrm>
            <a:off x="6781320" y="4800600"/>
            <a:ext cx="381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9" name=""/>
          <p:cNvCxnSpPr>
            <a:stCxn id="1018" idx="2"/>
            <a:endCxn id="1015" idx="6"/>
          </p:cNvCxnSpPr>
          <p:nvPr/>
        </p:nvCxnSpPr>
        <p:spPr>
          <a:xfrm flipH="1">
            <a:off x="6095520" y="4723920"/>
            <a:ext cx="61056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0" name=""/>
          <p:cNvCxnSpPr>
            <a:stCxn id="1016" idx="7"/>
            <a:endCxn id="1013" idx="4"/>
          </p:cNvCxnSpPr>
          <p:nvPr/>
        </p:nvCxnSpPr>
        <p:spPr>
          <a:xfrm flipV="1">
            <a:off x="5844960" y="4114440"/>
            <a:ext cx="9900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1" name=""/>
          <p:cNvCxnSpPr>
            <a:stCxn id="1020" idx="6"/>
            <a:endCxn id="1021" idx="2"/>
          </p:cNvCxnSpPr>
          <p:nvPr/>
        </p:nvCxnSpPr>
        <p:spPr>
          <a:xfrm>
            <a:off x="6629400" y="5257440"/>
            <a:ext cx="4579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2" name=""/>
          <p:cNvCxnSpPr>
            <a:stCxn id="1023" idx="6"/>
            <a:endCxn id="1015" idx="2"/>
          </p:cNvCxnSpPr>
          <p:nvPr/>
        </p:nvCxnSpPr>
        <p:spPr>
          <a:xfrm flipV="1">
            <a:off x="5410080" y="5104800"/>
            <a:ext cx="5342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33" name=""/>
          <p:cNvSpPr/>
          <p:nvPr/>
        </p:nvSpPr>
        <p:spPr>
          <a:xfrm>
            <a:off x="7086600" y="3429000"/>
            <a:ext cx="15228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391520" y="4876920"/>
            <a:ext cx="228600" cy="228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924680" y="5486400"/>
            <a:ext cx="15264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943600" y="5486400"/>
            <a:ext cx="15228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105520" y="4572000"/>
            <a:ext cx="15228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3886200"/>
            <a:ext cx="15228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943600" y="3505320"/>
            <a:ext cx="15228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781680" y="5638680"/>
            <a:ext cx="152640" cy="1526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1" name=""/>
          <p:cNvCxnSpPr>
            <a:stCxn id="1034" idx="6"/>
            <a:endCxn id="1035" idx="2"/>
          </p:cNvCxnSpPr>
          <p:nvPr/>
        </p:nvCxnSpPr>
        <p:spPr>
          <a:xfrm>
            <a:off x="7648200" y="4991040"/>
            <a:ext cx="27684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42" name=""/>
          <p:cNvCxnSpPr>
            <a:stCxn id="1021" idx="4"/>
            <a:endCxn id="1040" idx="7"/>
          </p:cNvCxnSpPr>
          <p:nvPr/>
        </p:nvCxnSpPr>
        <p:spPr>
          <a:xfrm flipH="1">
            <a:off x="6911280" y="5486040"/>
            <a:ext cx="25164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43" name=""/>
          <p:cNvCxnSpPr>
            <a:stCxn id="1022" idx="7"/>
            <a:endCxn id="1033" idx="4"/>
          </p:cNvCxnSpPr>
          <p:nvPr/>
        </p:nvCxnSpPr>
        <p:spPr>
          <a:xfrm flipV="1">
            <a:off x="7140600" y="3580920"/>
            <a:ext cx="2304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44" name=""/>
          <p:cNvCxnSpPr>
            <a:stCxn id="1013" idx="0"/>
            <a:endCxn id="1039" idx="4"/>
          </p:cNvCxnSpPr>
          <p:nvPr/>
        </p:nvCxnSpPr>
        <p:spPr>
          <a:xfrm flipV="1">
            <a:off x="5943600" y="3656880"/>
            <a:ext cx="766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45" name=""/>
          <p:cNvCxnSpPr>
            <a:stCxn id="1013" idx="2"/>
            <a:endCxn id="1038" idx="6"/>
          </p:cNvCxnSpPr>
          <p:nvPr/>
        </p:nvCxnSpPr>
        <p:spPr>
          <a:xfrm flipH="1" flipV="1">
            <a:off x="5257080" y="3961800"/>
            <a:ext cx="6102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46" name=""/>
          <p:cNvCxnSpPr>
            <a:stCxn id="1037" idx="6"/>
            <a:endCxn id="1016" idx="2"/>
          </p:cNvCxnSpPr>
          <p:nvPr/>
        </p:nvCxnSpPr>
        <p:spPr>
          <a:xfrm>
            <a:off x="5257800" y="464796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47" name=""/>
          <p:cNvCxnSpPr>
            <a:stCxn id="1015" idx="4"/>
            <a:endCxn id="1036" idx="7"/>
          </p:cNvCxnSpPr>
          <p:nvPr/>
        </p:nvCxnSpPr>
        <p:spPr>
          <a:xfrm>
            <a:off x="6019920" y="5181120"/>
            <a:ext cx="54720" cy="327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48" name=""/>
          <p:cNvCxnSpPr>
            <a:stCxn id="1018" idx="6"/>
            <a:endCxn id="1034" idx="2"/>
          </p:cNvCxnSpPr>
          <p:nvPr/>
        </p:nvCxnSpPr>
        <p:spPr>
          <a:xfrm>
            <a:off x="6858000" y="4723920"/>
            <a:ext cx="50544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49" name=""/>
          <p:cNvSpPr/>
          <p:nvPr/>
        </p:nvSpPr>
        <p:spPr>
          <a:xfrm>
            <a:off x="2210400" y="38098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620840" y="464832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886200" y="4724280"/>
            <a:ext cx="1066680" cy="533520"/>
          </a:xfrm>
          <a:prstGeom prst="leftRightArrow">
            <a:avLst>
              <a:gd name="adj1" fmla="val 50000"/>
              <a:gd name="adj2" fmla="val 3980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704400" y="3200400"/>
            <a:ext cx="146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ame tree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cep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choice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f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537F-792C-41F7-A393-DD9A4DDFCD8B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73D97-8760-4C35-A6A4-3F477E42CC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oted-Tree Terminology Exerc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paren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ren, sibling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ors, &amp;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endan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node 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410080" y="3962520"/>
            <a:ext cx="304920" cy="304560"/>
          </a:xfrm>
          <a:prstGeom prst="ellipse">
            <a:avLst/>
          </a:prstGeom>
          <a:solidFill>
            <a:srgbClr val="ffcc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191120" y="342900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324480" y="411480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181480" y="3048120"/>
            <a:ext cx="3049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505320" y="42670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400800" y="502920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696080" y="4191120"/>
            <a:ext cx="3049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562720" y="228600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371600" y="4648320"/>
            <a:ext cx="3049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429000" y="5486400"/>
            <a:ext cx="304920" cy="3049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724280" y="548640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696080" y="5410080"/>
            <a:ext cx="304920" cy="3049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696080" y="3276720"/>
            <a:ext cx="3049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705720" y="2209680"/>
            <a:ext cx="304560" cy="3049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419720" y="2133720"/>
            <a:ext cx="304560" cy="3045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219320" y="5486400"/>
            <a:ext cx="304560" cy="3049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495680" y="4572000"/>
            <a:ext cx="304920" cy="3049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696080" y="2286000"/>
            <a:ext cx="304920" cy="3049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3" name=""/>
          <p:cNvCxnSpPr>
            <a:stCxn id="1055" idx="1"/>
            <a:endCxn id="1056" idx="6"/>
          </p:cNvCxnSpPr>
          <p:nvPr/>
        </p:nvCxnSpPr>
        <p:spPr>
          <a:xfrm flipH="1" flipV="1">
            <a:off x="4495320" y="3580560"/>
            <a:ext cx="959760" cy="397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4" name=""/>
          <p:cNvCxnSpPr>
            <a:stCxn id="1055" idx="6"/>
            <a:endCxn id="1057" idx="2"/>
          </p:cNvCxnSpPr>
          <p:nvPr/>
        </p:nvCxnSpPr>
        <p:spPr>
          <a:xfrm>
            <a:off x="5743440" y="4114440"/>
            <a:ext cx="5814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5" name=""/>
          <p:cNvCxnSpPr>
            <a:stCxn id="1055" idx="0"/>
            <a:endCxn id="1058" idx="4"/>
          </p:cNvCxnSpPr>
          <p:nvPr/>
        </p:nvCxnSpPr>
        <p:spPr>
          <a:xfrm flipH="1" flipV="1">
            <a:off x="5333400" y="3352680"/>
            <a:ext cx="229320" cy="58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6" name=""/>
          <p:cNvCxnSpPr>
            <a:stCxn id="1056" idx="3"/>
            <a:endCxn id="1059" idx="7"/>
          </p:cNvCxnSpPr>
          <p:nvPr/>
        </p:nvCxnSpPr>
        <p:spPr>
          <a:xfrm flipH="1">
            <a:off x="3764880" y="3688920"/>
            <a:ext cx="470520" cy="623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7" name=""/>
          <p:cNvCxnSpPr>
            <a:stCxn id="1057" idx="4"/>
            <a:endCxn id="1060" idx="0"/>
          </p:cNvCxnSpPr>
          <p:nvPr/>
        </p:nvCxnSpPr>
        <p:spPr>
          <a:xfrm>
            <a:off x="6476760" y="4419360"/>
            <a:ext cx="76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8" name=""/>
          <p:cNvCxnSpPr>
            <a:stCxn id="1057" idx="6"/>
            <a:endCxn id="1061" idx="2"/>
          </p:cNvCxnSpPr>
          <p:nvPr/>
        </p:nvCxnSpPr>
        <p:spPr>
          <a:xfrm>
            <a:off x="6629040" y="4267080"/>
            <a:ext cx="10674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9" name=""/>
          <p:cNvCxnSpPr>
            <a:stCxn id="1058" idx="7"/>
            <a:endCxn id="1062" idx="3"/>
          </p:cNvCxnSpPr>
          <p:nvPr/>
        </p:nvCxnSpPr>
        <p:spPr>
          <a:xfrm flipV="1">
            <a:off x="5442120" y="2545920"/>
            <a:ext cx="16560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0" name=""/>
          <p:cNvCxnSpPr>
            <a:stCxn id="1059" idx="3"/>
            <a:endCxn id="1063" idx="7"/>
          </p:cNvCxnSpPr>
          <p:nvPr/>
        </p:nvCxnSpPr>
        <p:spPr>
          <a:xfrm flipH="1">
            <a:off x="1631160" y="4527720"/>
            <a:ext cx="1918440" cy="165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1" name=""/>
          <p:cNvCxnSpPr>
            <a:stCxn id="1059" idx="4"/>
            <a:endCxn id="1064" idx="0"/>
          </p:cNvCxnSpPr>
          <p:nvPr/>
        </p:nvCxnSpPr>
        <p:spPr>
          <a:xfrm flipH="1">
            <a:off x="3581280" y="4572000"/>
            <a:ext cx="766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2" name=""/>
          <p:cNvCxnSpPr>
            <a:stCxn id="1060" idx="3"/>
            <a:endCxn id="1065" idx="6"/>
          </p:cNvCxnSpPr>
          <p:nvPr/>
        </p:nvCxnSpPr>
        <p:spPr>
          <a:xfrm flipH="1">
            <a:off x="5028480" y="5289480"/>
            <a:ext cx="141660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3" name=""/>
          <p:cNvCxnSpPr>
            <a:stCxn id="1060" idx="5"/>
            <a:endCxn id="1066" idx="1"/>
          </p:cNvCxnSpPr>
          <p:nvPr/>
        </p:nvCxnSpPr>
        <p:spPr>
          <a:xfrm>
            <a:off x="6660720" y="5289120"/>
            <a:ext cx="1080360" cy="16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4" name=""/>
          <p:cNvCxnSpPr>
            <a:stCxn id="1065" idx="1"/>
            <a:endCxn id="1071" idx="4"/>
          </p:cNvCxnSpPr>
          <p:nvPr/>
        </p:nvCxnSpPr>
        <p:spPr>
          <a:xfrm flipH="1" flipV="1">
            <a:off x="4647600" y="4876560"/>
            <a:ext cx="121320" cy="654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5" name=""/>
          <p:cNvCxnSpPr>
            <a:stCxn id="1061" idx="0"/>
            <a:endCxn id="1067" idx="4"/>
          </p:cNvCxnSpPr>
          <p:nvPr/>
        </p:nvCxnSpPr>
        <p:spPr>
          <a:xfrm flipV="1">
            <a:off x="7848360" y="3580920"/>
            <a:ext cx="108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6" name=""/>
          <p:cNvCxnSpPr>
            <a:stCxn id="1062" idx="6"/>
            <a:endCxn id="1068" idx="2"/>
          </p:cNvCxnSpPr>
          <p:nvPr/>
        </p:nvCxnSpPr>
        <p:spPr>
          <a:xfrm flipV="1">
            <a:off x="5866920" y="2361600"/>
            <a:ext cx="83916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7" name=""/>
          <p:cNvCxnSpPr>
            <a:stCxn id="1062" idx="2"/>
            <a:endCxn id="1069" idx="6"/>
          </p:cNvCxnSpPr>
          <p:nvPr/>
        </p:nvCxnSpPr>
        <p:spPr>
          <a:xfrm flipH="1" flipV="1">
            <a:off x="4723560" y="2285280"/>
            <a:ext cx="83916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8" name=""/>
          <p:cNvCxnSpPr>
            <a:stCxn id="1067" idx="0"/>
            <a:endCxn id="1072" idx="4"/>
          </p:cNvCxnSpPr>
          <p:nvPr/>
        </p:nvCxnSpPr>
        <p:spPr>
          <a:xfrm flipV="1">
            <a:off x="7848360" y="259020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9" name=""/>
          <p:cNvCxnSpPr>
            <a:stCxn id="1063" idx="4"/>
            <a:endCxn id="1070" idx="0"/>
          </p:cNvCxnSpPr>
          <p:nvPr/>
        </p:nvCxnSpPr>
        <p:spPr>
          <a:xfrm flipH="1">
            <a:off x="1370880" y="4952880"/>
            <a:ext cx="1530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90" name=""/>
          <p:cNvSpPr/>
          <p:nvPr/>
        </p:nvSpPr>
        <p:spPr>
          <a:xfrm>
            <a:off x="5574600" y="3581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DF0E-008F-4907-8305-8105BAB4126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94345B-6B2A-4B7E-8CF1-2F8253C5DE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ary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ooted tree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ry if every vertex has no more th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ild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t is called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ull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if every internal (non-leaf) vertex has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exactly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children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2-ary tree is called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inary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se are handy for describing sequences of yes-no decisions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omparisons in binary search algorithm.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9405-A5F6-4E84-AB6D-A1B17285E45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F3E4BF-7012-4137-9C88-BE2D046A36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Tree is Bina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given rooted tree is a binary tree iff every node other than the root has degre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___, and the root has degree ≤ 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438280" y="4419720"/>
            <a:ext cx="228600" cy="228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905120" y="41148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7" name=""/>
          <p:cNvCxnSpPr>
            <a:stCxn id="1096" idx="6"/>
            <a:endCxn id="1095" idx="1"/>
          </p:cNvCxnSpPr>
          <p:nvPr/>
        </p:nvCxnSpPr>
        <p:spPr>
          <a:xfrm>
            <a:off x="2057040" y="4191120"/>
            <a:ext cx="415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98" name=""/>
          <p:cNvSpPr/>
          <p:nvPr/>
        </p:nvSpPr>
        <p:spPr>
          <a:xfrm>
            <a:off x="1981080" y="5181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581280" y="4572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743200" y="48006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514600" y="3733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514600" y="5334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124080" y="54864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048120" y="41148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295280" y="53341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7" name=""/>
          <p:cNvCxnSpPr>
            <a:stCxn id="1095" idx="6"/>
            <a:endCxn id="1105" idx="2"/>
          </p:cNvCxnSpPr>
          <p:nvPr/>
        </p:nvCxnSpPr>
        <p:spPr>
          <a:xfrm flipV="1">
            <a:off x="2695320" y="4190760"/>
            <a:ext cx="353160" cy="343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8" name=""/>
          <p:cNvCxnSpPr>
            <a:stCxn id="1105" idx="0"/>
            <a:endCxn id="1102" idx="6"/>
          </p:cNvCxnSpPr>
          <p:nvPr/>
        </p:nvCxnSpPr>
        <p:spPr>
          <a:xfrm flipH="1" flipV="1">
            <a:off x="2666520" y="3809160"/>
            <a:ext cx="4579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9" name=""/>
          <p:cNvCxnSpPr>
            <a:stCxn id="1105" idx="6"/>
            <a:endCxn id="1100" idx="2"/>
          </p:cNvCxnSpPr>
          <p:nvPr/>
        </p:nvCxnSpPr>
        <p:spPr>
          <a:xfrm>
            <a:off x="3200400" y="4191120"/>
            <a:ext cx="381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0" name=""/>
          <p:cNvCxnSpPr>
            <a:stCxn id="1095" idx="5"/>
            <a:endCxn id="1101" idx="0"/>
          </p:cNvCxnSpPr>
          <p:nvPr/>
        </p:nvCxnSpPr>
        <p:spPr>
          <a:xfrm>
            <a:off x="2633760" y="4642920"/>
            <a:ext cx="186480" cy="158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1" name=""/>
          <p:cNvCxnSpPr>
            <a:stCxn id="1101" idx="4"/>
            <a:endCxn id="1104" idx="0"/>
          </p:cNvCxnSpPr>
          <p:nvPr/>
        </p:nvCxnSpPr>
        <p:spPr>
          <a:xfrm>
            <a:off x="2819520" y="4952880"/>
            <a:ext cx="381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2" name=""/>
          <p:cNvCxnSpPr>
            <a:stCxn id="1101" idx="2"/>
            <a:endCxn id="1098" idx="6"/>
          </p:cNvCxnSpPr>
          <p:nvPr/>
        </p:nvCxnSpPr>
        <p:spPr>
          <a:xfrm flipH="1">
            <a:off x="2133000" y="4876920"/>
            <a:ext cx="6102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3" name=""/>
          <p:cNvCxnSpPr>
            <a:stCxn id="1099" idx="7"/>
            <a:endCxn id="1096" idx="4"/>
          </p:cNvCxnSpPr>
          <p:nvPr/>
        </p:nvCxnSpPr>
        <p:spPr>
          <a:xfrm flipV="1">
            <a:off x="1882440" y="4266720"/>
            <a:ext cx="9900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4" name=""/>
          <p:cNvCxnSpPr>
            <a:stCxn id="1103" idx="6"/>
            <a:endCxn id="1104" idx="2"/>
          </p:cNvCxnSpPr>
          <p:nvPr/>
        </p:nvCxnSpPr>
        <p:spPr>
          <a:xfrm>
            <a:off x="2666880" y="5410080"/>
            <a:ext cx="4579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5" name=""/>
          <p:cNvCxnSpPr>
            <a:stCxn id="1106" idx="6"/>
            <a:endCxn id="1098" idx="2"/>
          </p:cNvCxnSpPr>
          <p:nvPr/>
        </p:nvCxnSpPr>
        <p:spPr>
          <a:xfrm flipV="1">
            <a:off x="1447560" y="5257080"/>
            <a:ext cx="5338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6" name=""/>
          <p:cNvSpPr/>
          <p:nvPr/>
        </p:nvSpPr>
        <p:spPr>
          <a:xfrm>
            <a:off x="3124080" y="35812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429000" y="5029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962520" y="56386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981080" y="56386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143000" y="47242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143000" y="40384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981080" y="36576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819520" y="57913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4" name=""/>
          <p:cNvCxnSpPr>
            <a:stCxn id="1117" idx="6"/>
            <a:endCxn id="1118" idx="2"/>
          </p:cNvCxnSpPr>
          <p:nvPr/>
        </p:nvCxnSpPr>
        <p:spPr>
          <a:xfrm>
            <a:off x="3580920" y="5105160"/>
            <a:ext cx="38196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5" name=""/>
          <p:cNvCxnSpPr>
            <a:stCxn id="1104" idx="4"/>
            <a:endCxn id="1123" idx="7"/>
          </p:cNvCxnSpPr>
          <p:nvPr/>
        </p:nvCxnSpPr>
        <p:spPr>
          <a:xfrm flipH="1">
            <a:off x="2948760" y="5638320"/>
            <a:ext cx="25164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6" name=""/>
          <p:cNvCxnSpPr>
            <a:stCxn id="1105" idx="7"/>
            <a:endCxn id="1116" idx="4"/>
          </p:cNvCxnSpPr>
          <p:nvPr/>
        </p:nvCxnSpPr>
        <p:spPr>
          <a:xfrm flipV="1">
            <a:off x="3178080" y="3733560"/>
            <a:ext cx="2304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7" name=""/>
          <p:cNvCxnSpPr>
            <a:stCxn id="1096" idx="0"/>
            <a:endCxn id="1122" idx="4"/>
          </p:cNvCxnSpPr>
          <p:nvPr/>
        </p:nvCxnSpPr>
        <p:spPr>
          <a:xfrm flipV="1">
            <a:off x="1981080" y="3809160"/>
            <a:ext cx="766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8" name=""/>
          <p:cNvCxnSpPr>
            <a:stCxn id="1096" idx="2"/>
            <a:endCxn id="1121" idx="6"/>
          </p:cNvCxnSpPr>
          <p:nvPr/>
        </p:nvCxnSpPr>
        <p:spPr>
          <a:xfrm flipH="1" flipV="1">
            <a:off x="1294920" y="4114800"/>
            <a:ext cx="61056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9" name=""/>
          <p:cNvCxnSpPr>
            <a:stCxn id="1120" idx="6"/>
            <a:endCxn id="1099" idx="2"/>
          </p:cNvCxnSpPr>
          <p:nvPr/>
        </p:nvCxnSpPr>
        <p:spPr>
          <a:xfrm>
            <a:off x="1295280" y="48002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0" name=""/>
          <p:cNvCxnSpPr>
            <a:stCxn id="1098" idx="4"/>
            <a:endCxn id="1119" idx="7"/>
          </p:cNvCxnSpPr>
          <p:nvPr/>
        </p:nvCxnSpPr>
        <p:spPr>
          <a:xfrm>
            <a:off x="2057400" y="5334120"/>
            <a:ext cx="54720" cy="327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1" name=""/>
          <p:cNvCxnSpPr>
            <a:stCxn id="1101" idx="6"/>
            <a:endCxn id="1117" idx="2"/>
          </p:cNvCxnSpPr>
          <p:nvPr/>
        </p:nvCxnSpPr>
        <p:spPr>
          <a:xfrm>
            <a:off x="2895480" y="4876560"/>
            <a:ext cx="5342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32" name=""/>
          <p:cNvSpPr/>
          <p:nvPr/>
        </p:nvSpPr>
        <p:spPr>
          <a:xfrm>
            <a:off x="6324480" y="4343400"/>
            <a:ext cx="228600" cy="228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791320" y="40384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4" name=""/>
          <p:cNvCxnSpPr>
            <a:stCxn id="1133" idx="6"/>
            <a:endCxn id="1135" idx="7"/>
          </p:cNvCxnSpPr>
          <p:nvPr/>
        </p:nvCxnSpPr>
        <p:spPr>
          <a:xfrm flipH="1">
            <a:off x="5768280" y="4114440"/>
            <a:ext cx="175320" cy="556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36" name=""/>
          <p:cNvSpPr/>
          <p:nvPr/>
        </p:nvSpPr>
        <p:spPr>
          <a:xfrm>
            <a:off x="5867280" y="51055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638680" y="46483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467480" y="44956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629400" y="47242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400800" y="36576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400800" y="52578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010280" y="5410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934320" y="40384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181480" y="5257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4" name=""/>
          <p:cNvCxnSpPr>
            <a:stCxn id="1137" idx="0"/>
            <a:endCxn id="1142" idx="5"/>
          </p:cNvCxnSpPr>
          <p:nvPr/>
        </p:nvCxnSpPr>
        <p:spPr>
          <a:xfrm flipH="1" flipV="1">
            <a:off x="7063920" y="4168440"/>
            <a:ext cx="480240" cy="327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5" name=""/>
          <p:cNvCxnSpPr>
            <a:stCxn id="1132" idx="0"/>
            <a:endCxn id="1139" idx="6"/>
          </p:cNvCxnSpPr>
          <p:nvPr/>
        </p:nvCxnSpPr>
        <p:spPr>
          <a:xfrm flipV="1">
            <a:off x="6438600" y="3733920"/>
            <a:ext cx="114840" cy="58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6" name=""/>
          <p:cNvCxnSpPr>
            <a:stCxn id="1147" idx="7"/>
            <a:endCxn id="1137" idx="4"/>
          </p:cNvCxnSpPr>
          <p:nvPr/>
        </p:nvCxnSpPr>
        <p:spPr>
          <a:xfrm flipV="1">
            <a:off x="7445160" y="4647960"/>
            <a:ext cx="99000" cy="327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8" name=""/>
          <p:cNvCxnSpPr>
            <a:stCxn id="1132" idx="6"/>
            <a:endCxn id="1137" idx="1"/>
          </p:cNvCxnSpPr>
          <p:nvPr/>
        </p:nvCxnSpPr>
        <p:spPr>
          <a:xfrm>
            <a:off x="6581880" y="4457520"/>
            <a:ext cx="908640" cy="6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9" name=""/>
          <p:cNvCxnSpPr>
            <a:stCxn id="1138" idx="4"/>
            <a:endCxn id="1141" idx="0"/>
          </p:cNvCxnSpPr>
          <p:nvPr/>
        </p:nvCxnSpPr>
        <p:spPr>
          <a:xfrm>
            <a:off x="6705720" y="4876560"/>
            <a:ext cx="38160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0" name=""/>
          <p:cNvCxnSpPr>
            <a:stCxn id="1138" idx="2"/>
            <a:endCxn id="1136" idx="6"/>
          </p:cNvCxnSpPr>
          <p:nvPr/>
        </p:nvCxnSpPr>
        <p:spPr>
          <a:xfrm flipH="1">
            <a:off x="6019200" y="4800600"/>
            <a:ext cx="6102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1" name=""/>
          <p:cNvCxnSpPr>
            <a:stCxn id="1135" idx="3"/>
            <a:endCxn id="1143" idx="7"/>
          </p:cNvCxnSpPr>
          <p:nvPr/>
        </p:nvCxnSpPr>
        <p:spPr>
          <a:xfrm flipH="1">
            <a:off x="5311440" y="4778280"/>
            <a:ext cx="349920" cy="502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2" name=""/>
          <p:cNvCxnSpPr>
            <a:stCxn id="1140" idx="6"/>
            <a:endCxn id="1141" idx="2"/>
          </p:cNvCxnSpPr>
          <p:nvPr/>
        </p:nvCxnSpPr>
        <p:spPr>
          <a:xfrm>
            <a:off x="6553080" y="5333760"/>
            <a:ext cx="4579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3" name=""/>
          <p:cNvCxnSpPr>
            <a:stCxn id="1143" idx="6"/>
            <a:endCxn id="1136" idx="2"/>
          </p:cNvCxnSpPr>
          <p:nvPr/>
        </p:nvCxnSpPr>
        <p:spPr>
          <a:xfrm flipV="1">
            <a:off x="5333760" y="5181120"/>
            <a:ext cx="5338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54" name=""/>
          <p:cNvSpPr/>
          <p:nvPr/>
        </p:nvSpPr>
        <p:spPr>
          <a:xfrm>
            <a:off x="7010280" y="35053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315200" y="49528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848720" y="5562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867280" y="55627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029200" y="46483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029200" y="3962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867280" y="35812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705720" y="57150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1" name=""/>
          <p:cNvCxnSpPr>
            <a:stCxn id="1147" idx="6"/>
            <a:endCxn id="1155" idx="2"/>
          </p:cNvCxnSpPr>
          <p:nvPr/>
        </p:nvCxnSpPr>
        <p:spPr>
          <a:xfrm>
            <a:off x="7467120" y="5028840"/>
            <a:ext cx="38196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2" name=""/>
          <p:cNvCxnSpPr>
            <a:stCxn id="1141" idx="4"/>
            <a:endCxn id="1160" idx="7"/>
          </p:cNvCxnSpPr>
          <p:nvPr/>
        </p:nvCxnSpPr>
        <p:spPr>
          <a:xfrm flipH="1">
            <a:off x="6834960" y="5562360"/>
            <a:ext cx="25164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3" name=""/>
          <p:cNvCxnSpPr>
            <a:stCxn id="1142" idx="7"/>
            <a:endCxn id="1154" idx="4"/>
          </p:cNvCxnSpPr>
          <p:nvPr/>
        </p:nvCxnSpPr>
        <p:spPr>
          <a:xfrm flipV="1">
            <a:off x="7064280" y="3657240"/>
            <a:ext cx="2304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4" name=""/>
          <p:cNvCxnSpPr>
            <a:stCxn id="1133" idx="0"/>
            <a:endCxn id="1159" idx="4"/>
          </p:cNvCxnSpPr>
          <p:nvPr/>
        </p:nvCxnSpPr>
        <p:spPr>
          <a:xfrm flipV="1">
            <a:off x="5867280" y="3733560"/>
            <a:ext cx="766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5" name=""/>
          <p:cNvCxnSpPr>
            <a:stCxn id="1133" idx="2"/>
            <a:endCxn id="1158" idx="6"/>
          </p:cNvCxnSpPr>
          <p:nvPr/>
        </p:nvCxnSpPr>
        <p:spPr>
          <a:xfrm flipH="1" flipV="1">
            <a:off x="5181120" y="4038480"/>
            <a:ext cx="61056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6" name=""/>
          <p:cNvCxnSpPr>
            <a:stCxn id="1157" idx="6"/>
            <a:endCxn id="1135" idx="2"/>
          </p:cNvCxnSpPr>
          <p:nvPr/>
        </p:nvCxnSpPr>
        <p:spPr>
          <a:xfrm>
            <a:off x="5181480" y="472392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7" name=""/>
          <p:cNvCxnSpPr>
            <a:stCxn id="1136" idx="4"/>
            <a:endCxn id="1156" idx="7"/>
          </p:cNvCxnSpPr>
          <p:nvPr/>
        </p:nvCxnSpPr>
        <p:spPr>
          <a:xfrm>
            <a:off x="5943600" y="5257800"/>
            <a:ext cx="54720" cy="327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8" name=""/>
          <p:cNvCxnSpPr>
            <a:stCxn id="1138" idx="6"/>
            <a:endCxn id="1147" idx="2"/>
          </p:cNvCxnSpPr>
          <p:nvPr/>
        </p:nvCxnSpPr>
        <p:spPr>
          <a:xfrm>
            <a:off x="6781680" y="4800240"/>
            <a:ext cx="5342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49F6-100D-4104-BF04-35282F7B510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3F279D-042C-4FB7-B00F-60DB58DD08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set of states in the far-southeastern U.S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09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.e.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{FL, GA, AL, MS, LA, SC, TN, NC}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{{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}|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djoins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{{FL,GA},{FL,AL},{FL,MS},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{FL,LA},{GA,AL},{AL,MS},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{MS,LA},{GA,SC},{GA,TN},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{SC,NC},{NC,TN},{MS,TN},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{MS,AL}}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13440" y="4002120"/>
            <a:ext cx="2962440" cy="215100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a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impl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69040" y="5572080"/>
            <a:ext cx="2176560" cy="38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215040" y="5130720"/>
            <a:ext cx="554040" cy="425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792840" y="5103360"/>
            <a:ext cx="733320" cy="39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4800" y="5167440"/>
            <a:ext cx="70488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8372520" y="4920840"/>
            <a:ext cx="374760" cy="43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18520" y="5369040"/>
            <a:ext cx="104760" cy="57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18240" y="5097600"/>
            <a:ext cx="878040" cy="87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5146560"/>
            <a:ext cx="1676520" cy="835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02480" y="4500720"/>
            <a:ext cx="698400" cy="87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805440" y="4446720"/>
            <a:ext cx="835200" cy="655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7551720" y="4511520"/>
            <a:ext cx="100080" cy="59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7650000" y="4443480"/>
            <a:ext cx="876600" cy="77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8550000" y="4454280"/>
            <a:ext cx="114120" cy="42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290080" y="5832360"/>
            <a:ext cx="228600" cy="2286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01160" y="5248440"/>
            <a:ext cx="228600" cy="2286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594640" y="4778280"/>
            <a:ext cx="228600" cy="2286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39040" y="5019840"/>
            <a:ext cx="228600" cy="2286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64320" y="5006880"/>
            <a:ext cx="228600" cy="2286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43760" y="5477040"/>
            <a:ext cx="228600" cy="2286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24720" y="4416480"/>
            <a:ext cx="228600" cy="2286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410680" y="4336920"/>
            <a:ext cx="228600" cy="2286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96560" y="4031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3720" y="47106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70480" y="46836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74200" y="56217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120520" y="46663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00160" y="52567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438040" y="57441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227080" y="39643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0314-6D0B-43B1-A8C5-AE513F5933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7DC81-D8F1-4371-B1D7-056D920B8B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ed Rooted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just a rooted tree in which the children of each internal node are orde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rdered binary trees, we can defi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eft child, right child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eft subtree, right subtre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ry trees with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&gt;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an use terms like “leftmost”, “rightmost,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tc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B7EC-F657-4022-BB2E-42DA84DF2CC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BD5C4B-DDF8-4B31-9B32-CF329BA41B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s as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trees to model the foll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aturated hydrocarbon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rganizational structur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mputer file system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ach case, would you use a rooted or a non-rooted t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9131-ADDE-4DD6-9345-AAB6649130E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D636B1-6ECF-4CF8-AC8E-5272348ABB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ree Theor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tree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s ha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of: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Consider removing leaves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u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ry tree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nal nodes ha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des, and </a:t>
            </a:r>
            <a:r>
              <a:rPr b="0" lang="en-US" sz="2800" spc="-1" strike="noStrike">
                <a:solidFill>
                  <a:srgbClr val="ff0000"/>
                </a:solidFill>
                <a:latin typeface="MT Extra"/>
                <a:ea typeface="MT Extra"/>
              </a:rPr>
              <a:t>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1)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e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of: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There ar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children of internal nodes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lus the root. And, </a:t>
            </a:r>
            <a:r>
              <a:rPr b="0" lang="en-US" sz="2400" spc="-1" strike="noStrike">
                <a:solidFill>
                  <a:srgbClr val="ff0000"/>
                </a:solidFill>
                <a:latin typeface="MT Extra"/>
                <a:ea typeface="MT Extra"/>
              </a:rPr>
              <a:t>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1)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 □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, w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known and the tree is full, we can compute all four of the valu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given any one of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BEFF-B6A5-4C48-9FBD-788211F804D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33DC2-FEC0-41EA-A93E-D7E3E978F2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More Tree Theor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v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node is the length of the simple path from the root to the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heigh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of a tree is maximum node level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rooted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ary tree with height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s called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balance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f all leaves are at levels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re are at mos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aves in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ry tree of heigh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rollary: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ary tree with </a:t>
            </a:r>
            <a:r>
              <a:rPr b="0" lang="en-US" sz="2400" spc="-1" strike="noStrike">
                <a:solidFill>
                  <a:srgbClr val="3333cc"/>
                </a:solidFill>
                <a:latin typeface="MT Extra"/>
                <a:ea typeface="MT Extra"/>
              </a:rPr>
              <a:t>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leaves has height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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MT Extra"/>
                <a:ea typeface="MT Extra"/>
              </a:rPr>
              <a:t>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.  If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s full and balanced the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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MT Extra"/>
                <a:ea typeface="MT Extra"/>
              </a:rPr>
              <a:t>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2FBB-B8DB-4EA0-B8F7-1BE8B91ECB7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BAB303-4D77-49E9-8E5A-60F713A021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9.2: Applications of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search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 simple data structure for sorted list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inimum comparisons in sorting algorithm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ix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ffman coding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e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C41B-CC94-40C0-9AFB-40C2B86B715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47C5A7-95EE-454A-A085-A4C0AC8604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Search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presentation for sorted sets of i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upports the following operations in </a:t>
            </a:r>
            <a:r>
              <a:rPr b="0" lang="el-GR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log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 average-case time: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earching for an existing item.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Inserting a new item, if not already present.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upports printing out all items in </a:t>
            </a:r>
            <a:r>
              <a:rPr b="0" lang="el-GR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 time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at inserting into a plain sequen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ould instead take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worst-cas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06E0-EED8-4BD1-AD4B-249DA7DDD68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505CC-0617-4B65-A4B2-7D489182D0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"/>
          <p:cNvSpPr/>
          <p:nvPr/>
        </p:nvSpPr>
        <p:spPr>
          <a:xfrm>
            <a:off x="4648320" y="1981080"/>
            <a:ext cx="396216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Search Tre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ms are stored at individual tree n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rrange for the tree to always obey this invaria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every ite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Every node in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’s left subtree is less than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Every node in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’s right subtree is greater than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248520" y="2209680"/>
            <a:ext cx="533160" cy="533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638680" y="3124080"/>
            <a:ext cx="533520" cy="533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934320" y="3124080"/>
            <a:ext cx="533160" cy="533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181480" y="4191120"/>
            <a:ext cx="53352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19920" y="4191120"/>
            <a:ext cx="53316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858000" y="4191120"/>
            <a:ext cx="53352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696080" y="4191120"/>
            <a:ext cx="53352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952880" y="5257800"/>
            <a:ext cx="533520" cy="533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638680" y="5257800"/>
            <a:ext cx="533520" cy="533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553080" y="5257800"/>
            <a:ext cx="533520" cy="533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7238880" y="5257800"/>
            <a:ext cx="533520" cy="533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5" name=""/>
          <p:cNvCxnSpPr>
            <a:stCxn id="1184" idx="3"/>
            <a:endCxn id="1185" idx="7"/>
          </p:cNvCxnSpPr>
          <p:nvPr/>
        </p:nvCxnSpPr>
        <p:spPr>
          <a:xfrm flipH="1">
            <a:off x="6094080" y="2665440"/>
            <a:ext cx="232560" cy="5367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196" name=""/>
          <p:cNvCxnSpPr>
            <a:stCxn id="1184" idx="5"/>
            <a:endCxn id="1186" idx="1"/>
          </p:cNvCxnSpPr>
          <p:nvPr/>
        </p:nvCxnSpPr>
        <p:spPr>
          <a:xfrm>
            <a:off x="6703920" y="2665440"/>
            <a:ext cx="308880" cy="5367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197" name=""/>
          <p:cNvCxnSpPr>
            <a:stCxn id="1186" idx="4"/>
            <a:endCxn id="1189" idx="0"/>
          </p:cNvCxnSpPr>
          <p:nvPr/>
        </p:nvCxnSpPr>
        <p:spPr>
          <a:xfrm flipH="1">
            <a:off x="7124760" y="3657600"/>
            <a:ext cx="7668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198" name=""/>
          <p:cNvCxnSpPr>
            <a:stCxn id="1186" idx="5"/>
            <a:endCxn id="1190" idx="1"/>
          </p:cNvCxnSpPr>
          <p:nvPr/>
        </p:nvCxnSpPr>
        <p:spPr>
          <a:xfrm>
            <a:off x="7389360" y="3579840"/>
            <a:ext cx="384840" cy="6897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199" name=""/>
          <p:cNvCxnSpPr>
            <a:stCxn id="1189" idx="5"/>
            <a:endCxn id="1194" idx="0"/>
          </p:cNvCxnSpPr>
          <p:nvPr/>
        </p:nvCxnSpPr>
        <p:spPr>
          <a:xfrm>
            <a:off x="7313400" y="4646520"/>
            <a:ext cx="192600" cy="6120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00" name=""/>
          <p:cNvCxnSpPr>
            <a:stCxn id="1189" idx="3"/>
            <a:endCxn id="1193" idx="0"/>
          </p:cNvCxnSpPr>
          <p:nvPr/>
        </p:nvCxnSpPr>
        <p:spPr>
          <a:xfrm flipH="1">
            <a:off x="6819480" y="4646520"/>
            <a:ext cx="116640" cy="6120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01" name=""/>
          <p:cNvCxnSpPr>
            <a:stCxn id="1185" idx="5"/>
            <a:endCxn id="1188" idx="0"/>
          </p:cNvCxnSpPr>
          <p:nvPr/>
        </p:nvCxnSpPr>
        <p:spPr>
          <a:xfrm>
            <a:off x="6094440" y="3579840"/>
            <a:ext cx="192960" cy="6120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02" name=""/>
          <p:cNvCxnSpPr>
            <a:stCxn id="1185" idx="3"/>
            <a:endCxn id="1187" idx="0"/>
          </p:cNvCxnSpPr>
          <p:nvPr/>
        </p:nvCxnSpPr>
        <p:spPr>
          <a:xfrm flipH="1">
            <a:off x="5447520" y="3579840"/>
            <a:ext cx="268920" cy="6120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03" name=""/>
          <p:cNvCxnSpPr>
            <a:stCxn id="1187" idx="3"/>
            <a:endCxn id="1191" idx="0"/>
          </p:cNvCxnSpPr>
          <p:nvPr/>
        </p:nvCxnSpPr>
        <p:spPr>
          <a:xfrm flipH="1">
            <a:off x="5219280" y="4646520"/>
            <a:ext cx="40320" cy="6120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04" name=""/>
          <p:cNvCxnSpPr>
            <a:stCxn id="1187" idx="5"/>
            <a:endCxn id="1192" idx="0"/>
          </p:cNvCxnSpPr>
          <p:nvPr/>
        </p:nvCxnSpPr>
        <p:spPr>
          <a:xfrm>
            <a:off x="5636880" y="4646520"/>
            <a:ext cx="268920" cy="6120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205" name=""/>
          <p:cNvSpPr/>
          <p:nvPr/>
        </p:nvSpPr>
        <p:spPr>
          <a:xfrm>
            <a:off x="4745880" y="20574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C0E9-C3EC-4707-88A5-A7DA1DABE3F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E5301-077A-4F60-9E55-4494E2E13F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Binary Tree Inse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dur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binary tre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tem)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root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nul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begi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Done”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se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Already present”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se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&lt; 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(leftSubtree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{must be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&gt;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sert(rightSubtree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15D0-06EC-40BC-B3AF-2810894BC2B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0FDEF-9BC1-4634-B2A6-13087DBFF7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sion Trees (pp. 646-64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cision tree represent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cision-making proc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possible “decision point” or situation is represented by a node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possible choice that could be made at that decision point is represented by an edge to a child node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extended decision trees us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cision analy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e also include nodes that represent random events and their outco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8D77-4165-4E32-A604-3E399CA81C9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A52DC-B462-4431-B47E-B9A6E4364C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in-Weighing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ine you have 8 coins, o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which is a lighter counterfei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a free-beam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o scale of weight markings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s req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ired for this problem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weighings a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ed to guarantee that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erfeit coin will be foun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2" name="" descr=""/>
          <p:cNvPicPr/>
          <p:nvPr/>
        </p:nvPicPr>
        <p:blipFill>
          <a:blip r:embed="rId2"/>
          <a:stretch/>
        </p:blipFill>
        <p:spPr>
          <a:xfrm rot="21449400">
            <a:off x="6324120" y="2057040"/>
            <a:ext cx="1905120" cy="1666800"/>
          </a:xfrm>
          <a:prstGeom prst="rect">
            <a:avLst/>
          </a:prstGeom>
          <a:ln w="0">
            <a:noFill/>
          </a:ln>
        </p:spPr>
      </p:pic>
      <p:pic>
        <p:nvPicPr>
          <p:cNvPr id="1213" name="" descr=""/>
          <p:cNvPicPr/>
          <p:nvPr/>
        </p:nvPicPr>
        <p:blipFill>
          <a:blip r:embed="rId3"/>
          <a:stretch/>
        </p:blipFill>
        <p:spPr>
          <a:xfrm>
            <a:off x="7620120" y="3809880"/>
            <a:ext cx="685800" cy="684360"/>
          </a:xfrm>
          <a:prstGeom prst="rect">
            <a:avLst/>
          </a:prstGeom>
          <a:ln w="0">
            <a:noFill/>
          </a:ln>
        </p:spPr>
      </p:pic>
      <p:pic>
        <p:nvPicPr>
          <p:cNvPr id="1214" name="" descr=""/>
          <p:cNvPicPr/>
          <p:nvPr/>
        </p:nvPicPr>
        <p:blipFill>
          <a:blip r:embed="rId4"/>
          <a:stretch/>
        </p:blipFill>
        <p:spPr>
          <a:xfrm>
            <a:off x="7696080" y="4572000"/>
            <a:ext cx="685800" cy="684360"/>
          </a:xfrm>
          <a:prstGeom prst="rect">
            <a:avLst/>
          </a:prstGeom>
          <a:ln w="0">
            <a:noFill/>
          </a:ln>
        </p:spPr>
      </p:pic>
      <p:pic>
        <p:nvPicPr>
          <p:cNvPr id="1215" name="" descr=""/>
          <p:cNvPicPr/>
          <p:nvPr/>
        </p:nvPicPr>
        <p:blipFill>
          <a:blip r:embed="rId5"/>
          <a:stretch/>
        </p:blipFill>
        <p:spPr>
          <a:xfrm>
            <a:off x="6858000" y="3962520"/>
            <a:ext cx="685800" cy="684000"/>
          </a:xfrm>
          <a:prstGeom prst="rect">
            <a:avLst/>
          </a:prstGeom>
          <a:ln w="0">
            <a:noFill/>
          </a:ln>
        </p:spPr>
      </p:pic>
      <p:pic>
        <p:nvPicPr>
          <p:cNvPr id="1216" name="" descr=""/>
          <p:cNvPicPr/>
          <p:nvPr/>
        </p:nvPicPr>
        <p:blipFill>
          <a:blip r:embed="rId6"/>
          <a:stretch/>
        </p:blipFill>
        <p:spPr>
          <a:xfrm>
            <a:off x="6781680" y="5257800"/>
            <a:ext cx="685800" cy="684360"/>
          </a:xfrm>
          <a:prstGeom prst="rect">
            <a:avLst/>
          </a:prstGeom>
          <a:ln w="0">
            <a:noFill/>
          </a:ln>
        </p:spPr>
      </p:pic>
      <p:pic>
        <p:nvPicPr>
          <p:cNvPr id="1217" name="" descr=""/>
          <p:cNvPicPr/>
          <p:nvPr/>
        </p:nvPicPr>
        <p:blipFill>
          <a:blip r:embed="rId7"/>
          <a:stretch/>
        </p:blipFill>
        <p:spPr>
          <a:xfrm>
            <a:off x="6019920" y="5334120"/>
            <a:ext cx="685800" cy="684000"/>
          </a:xfrm>
          <a:prstGeom prst="rect">
            <a:avLst/>
          </a:prstGeom>
          <a:ln w="0">
            <a:noFill/>
          </a:ln>
        </p:spPr>
      </p:pic>
      <p:pic>
        <p:nvPicPr>
          <p:cNvPr id="1218" name="" descr=""/>
          <p:cNvPicPr/>
          <p:nvPr/>
        </p:nvPicPr>
        <p:blipFill>
          <a:blip r:embed="rId8"/>
          <a:stretch/>
        </p:blipFill>
        <p:spPr>
          <a:xfrm>
            <a:off x="6324480" y="4572000"/>
            <a:ext cx="685800" cy="684360"/>
          </a:xfrm>
          <a:prstGeom prst="rect">
            <a:avLst/>
          </a:prstGeom>
          <a:ln w="0">
            <a:noFill/>
          </a:ln>
        </p:spPr>
      </p:pic>
      <p:pic>
        <p:nvPicPr>
          <p:cNvPr id="1219" name="" descr=""/>
          <p:cNvPicPr/>
          <p:nvPr/>
        </p:nvPicPr>
        <p:blipFill>
          <a:blip r:embed="rId9"/>
          <a:stretch/>
        </p:blipFill>
        <p:spPr>
          <a:xfrm>
            <a:off x="7620120" y="5335560"/>
            <a:ext cx="685800" cy="684360"/>
          </a:xfrm>
          <a:prstGeom prst="rect">
            <a:avLst/>
          </a:prstGeom>
          <a:ln w="0">
            <a:noFill/>
          </a:ln>
        </p:spPr>
      </p:pic>
      <p:sp>
        <p:nvSpPr>
          <p:cNvPr id="1220" name=""/>
          <p:cNvSpPr/>
          <p:nvPr/>
        </p:nvSpPr>
        <p:spPr>
          <a:xfrm>
            <a:off x="7198920" y="4648320"/>
            <a:ext cx="3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1" name="" descr=""/>
          <p:cNvPicPr/>
          <p:nvPr/>
        </p:nvPicPr>
        <p:blipFill>
          <a:blip r:embed="rId10"/>
          <a:stretch/>
        </p:blipFill>
        <p:spPr>
          <a:xfrm>
            <a:off x="5943600" y="3886200"/>
            <a:ext cx="685800" cy="6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EDF8-18F8-4B0C-8699-5488E9B4C90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02478A-C372-43DD-A74F-12215038AC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18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simple graphs, but there may b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ore than 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dge connecting two given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ultigra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ists of a s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vertices, a s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edges (as primitive objects), and a function</a:t>
            </a:r>
            <a:br>
              <a:rPr sz="3200"/>
            </a:b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{{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}|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nodes are cities, edges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re segments of major highw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4384800"/>
            <a:ext cx="914400" cy="390240"/>
          </a:xfrm>
          <a:custGeom>
            <a:avLst/>
            <a:gdLst/>
            <a:ahLst/>
            <a:rect l="l" t="t" r="r" b="b"/>
            <a:pathLst>
              <a:path w="576" h="246">
                <a:moveTo>
                  <a:pt x="0" y="246"/>
                </a:moveTo>
                <a:cubicBezTo>
                  <a:pt x="61" y="142"/>
                  <a:pt x="123" y="38"/>
                  <a:pt x="219" y="19"/>
                </a:cubicBezTo>
                <a:cubicBezTo>
                  <a:pt x="315" y="0"/>
                  <a:pt x="445" y="66"/>
                  <a:pt x="576" y="13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42000" y="4646520"/>
            <a:ext cx="914400" cy="306360"/>
          </a:xfrm>
          <a:custGeom>
            <a:avLst/>
            <a:gdLst/>
            <a:ahLst/>
            <a:rect l="l" t="t" r="r" b="b"/>
            <a:pathLst>
              <a:path w="576" h="193">
                <a:moveTo>
                  <a:pt x="0" y="89"/>
                </a:moveTo>
                <a:cubicBezTo>
                  <a:pt x="110" y="141"/>
                  <a:pt x="220" y="193"/>
                  <a:pt x="316" y="178"/>
                </a:cubicBezTo>
                <a:cubicBezTo>
                  <a:pt x="412" y="163"/>
                  <a:pt x="494" y="81"/>
                  <a:pt x="576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57920" y="5502240"/>
            <a:ext cx="1249560" cy="187200"/>
          </a:xfrm>
          <a:custGeom>
            <a:avLst/>
            <a:gdLst/>
            <a:ahLst/>
            <a:rect l="l" t="t" r="r" b="b"/>
            <a:pathLst>
              <a:path w="787" h="118">
                <a:moveTo>
                  <a:pt x="0" y="118"/>
                </a:moveTo>
                <a:cubicBezTo>
                  <a:pt x="88" y="63"/>
                  <a:pt x="177" y="8"/>
                  <a:pt x="308" y="4"/>
                </a:cubicBezTo>
                <a:cubicBezTo>
                  <a:pt x="439" y="0"/>
                  <a:pt x="613" y="46"/>
                  <a:pt x="787" y="9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851240" y="4162680"/>
            <a:ext cx="11818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llel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81960" y="4581360"/>
            <a:ext cx="452520" cy="1068480"/>
          </a:xfrm>
          <a:custGeom>
            <a:avLst/>
            <a:gdLst/>
            <a:ahLst/>
            <a:rect l="l" t="t" r="r" b="b"/>
            <a:pathLst>
              <a:path w="285" h="673">
                <a:moveTo>
                  <a:pt x="0" y="0"/>
                </a:moveTo>
                <a:cubicBezTo>
                  <a:pt x="108" y="90"/>
                  <a:pt x="217" y="180"/>
                  <a:pt x="251" y="292"/>
                </a:cubicBezTo>
                <a:cubicBezTo>
                  <a:pt x="285" y="404"/>
                  <a:pt x="244" y="538"/>
                  <a:pt x="203" y="67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96080" y="5662440"/>
            <a:ext cx="1108080" cy="182880"/>
          </a:xfrm>
          <a:custGeom>
            <a:avLst/>
            <a:gdLst/>
            <a:ahLst/>
            <a:rect l="l" t="t" r="r" b="b"/>
            <a:pathLst>
              <a:path w="698" h="115">
                <a:moveTo>
                  <a:pt x="0" y="0"/>
                </a:moveTo>
                <a:cubicBezTo>
                  <a:pt x="100" y="56"/>
                  <a:pt x="201" y="113"/>
                  <a:pt x="317" y="114"/>
                </a:cubicBezTo>
                <a:cubicBezTo>
                  <a:pt x="433" y="115"/>
                  <a:pt x="565" y="61"/>
                  <a:pt x="698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96080" y="5649840"/>
            <a:ext cx="1146240" cy="39600"/>
          </a:xfrm>
          <a:custGeom>
            <a:avLst/>
            <a:gdLst/>
            <a:ahLst/>
            <a:rect l="l" t="t" r="r" b="b"/>
            <a:pathLst>
              <a:path w="722" h="25">
                <a:moveTo>
                  <a:pt x="0" y="25"/>
                </a:moveTo>
                <a:cubicBezTo>
                  <a:pt x="110" y="12"/>
                  <a:pt x="221" y="0"/>
                  <a:pt x="341" y="0"/>
                </a:cubicBezTo>
                <a:cubicBezTo>
                  <a:pt x="461" y="0"/>
                  <a:pt x="591" y="12"/>
                  <a:pt x="722" y="2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6120" bIns="-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80080" y="4813200"/>
            <a:ext cx="1298520" cy="798480"/>
          </a:xfrm>
          <a:custGeom>
            <a:avLst/>
            <a:gdLst/>
            <a:ahLst/>
            <a:rect l="l" t="t" r="r" b="b"/>
            <a:pathLst>
              <a:path w="818" h="503">
                <a:moveTo>
                  <a:pt x="7" y="0"/>
                </a:moveTo>
                <a:cubicBezTo>
                  <a:pt x="3" y="82"/>
                  <a:pt x="0" y="165"/>
                  <a:pt x="88" y="203"/>
                </a:cubicBezTo>
                <a:cubicBezTo>
                  <a:pt x="176" y="241"/>
                  <a:pt x="412" y="177"/>
                  <a:pt x="534" y="227"/>
                </a:cubicBezTo>
                <a:cubicBezTo>
                  <a:pt x="656" y="277"/>
                  <a:pt x="737" y="390"/>
                  <a:pt x="818" y="50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29320" y="4691160"/>
            <a:ext cx="228600" cy="2286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29680" y="4495680"/>
            <a:ext cx="228600" cy="2286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86800" y="5524560"/>
            <a:ext cx="228600" cy="2286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67560" y="5564160"/>
            <a:ext cx="228600" cy="2286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86760" y="4124160"/>
            <a:ext cx="668160" cy="252720"/>
          </a:xfrm>
          <a:custGeom>
            <a:avLst/>
            <a:gdLst/>
            <a:ahLst/>
            <a:rect l="l" t="t" r="r" b="b"/>
            <a:pathLst>
              <a:path w="421" h="159">
                <a:moveTo>
                  <a:pt x="421" y="126"/>
                </a:moveTo>
                <a:cubicBezTo>
                  <a:pt x="346" y="63"/>
                  <a:pt x="272" y="0"/>
                  <a:pt x="202" y="5"/>
                </a:cubicBezTo>
                <a:cubicBezTo>
                  <a:pt x="132" y="10"/>
                  <a:pt x="66" y="84"/>
                  <a:pt x="0" y="159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37520" y="4556160"/>
            <a:ext cx="566640" cy="442800"/>
          </a:xfrm>
          <a:custGeom>
            <a:avLst/>
            <a:gdLst/>
            <a:ahLst/>
            <a:rect l="l" t="t" r="r" b="b"/>
            <a:pathLst>
              <a:path w="357" h="279">
                <a:moveTo>
                  <a:pt x="357" y="0"/>
                </a:moveTo>
                <a:cubicBezTo>
                  <a:pt x="313" y="103"/>
                  <a:pt x="270" y="207"/>
                  <a:pt x="211" y="243"/>
                </a:cubicBezTo>
                <a:cubicBezTo>
                  <a:pt x="152" y="279"/>
                  <a:pt x="76" y="249"/>
                  <a:pt x="0" y="219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9252-8073-402A-8F74-9BE8C231B3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0BCB18-EE3D-453C-B2B0-B4B5BD7003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a Decision-Tre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952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ach situation, we pick two disjoint and equal-size subsets of coins to put on the sca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743200" y="3048120"/>
            <a:ext cx="3352680" cy="12189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048120" y="3352680"/>
            <a:ext cx="457200" cy="152640"/>
          </a:xfrm>
          <a:prstGeom prst="can">
            <a:avLst>
              <a:gd name="adj" fmla="val 50000"/>
            </a:avLst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048120" y="3505320"/>
            <a:ext cx="2743200" cy="15228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152960" y="3657600"/>
            <a:ext cx="53352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505320" y="3352680"/>
            <a:ext cx="457200" cy="152640"/>
          </a:xfrm>
          <a:prstGeom prst="can">
            <a:avLst>
              <a:gd name="adj" fmla="val 50000"/>
            </a:avLst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276720" y="3276720"/>
            <a:ext cx="457200" cy="152280"/>
          </a:xfrm>
          <a:prstGeom prst="can">
            <a:avLst>
              <a:gd name="adj" fmla="val 50000"/>
            </a:avLst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876920" y="3352680"/>
            <a:ext cx="457200" cy="152640"/>
          </a:xfrm>
          <a:prstGeom prst="can">
            <a:avLst>
              <a:gd name="adj" fmla="val 50000"/>
            </a:avLst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334120" y="3352680"/>
            <a:ext cx="457200" cy="152640"/>
          </a:xfrm>
          <a:prstGeom prst="can">
            <a:avLst>
              <a:gd name="adj" fmla="val 50000"/>
            </a:avLst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5105520" y="3276720"/>
            <a:ext cx="457200" cy="152280"/>
          </a:xfrm>
          <a:prstGeom prst="can">
            <a:avLst>
              <a:gd name="adj" fmla="val 50000"/>
            </a:avLst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791320" y="4038480"/>
            <a:ext cx="2590560" cy="2057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>
            <a:off x="1142640" y="4038480"/>
            <a:ext cx="1981080" cy="2057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419720" y="4267080"/>
            <a:ext cx="533160" cy="2057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90720" y="2666880"/>
            <a:ext cx="2584080" cy="1557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decides” whe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ip left, tip righ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stay balan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342480" y="2590920"/>
            <a:ext cx="2826360" cy="1557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iven sequence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ghings thus yiel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ecision tre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ching factor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3726720" y="4775400"/>
            <a:ext cx="2059560" cy="863280"/>
            <a:chOff x="3726720" y="4775400"/>
            <a:chExt cx="2059560" cy="863280"/>
          </a:xfrm>
        </p:grpSpPr>
        <p:sp>
          <p:nvSpPr>
            <p:cNvPr id="1239" name=""/>
            <p:cNvSpPr/>
            <p:nvPr/>
          </p:nvSpPr>
          <p:spPr>
            <a:xfrm>
              <a:off x="4562640" y="5238360"/>
              <a:ext cx="399960" cy="4003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0" name=""/>
            <p:cNvGrpSpPr/>
            <p:nvPr/>
          </p:nvGrpSpPr>
          <p:grpSpPr>
            <a:xfrm>
              <a:off x="3726720" y="4775400"/>
              <a:ext cx="2059560" cy="676440"/>
              <a:chOff x="3726720" y="4775400"/>
              <a:chExt cx="2059560" cy="676440"/>
            </a:xfrm>
          </p:grpSpPr>
          <p:sp>
            <p:nvSpPr>
              <p:cNvPr id="1241" name=""/>
              <p:cNvSpPr/>
              <p:nvPr/>
            </p:nvSpPr>
            <p:spPr>
              <a:xfrm rot="730800">
                <a:off x="3759120" y="4829400"/>
                <a:ext cx="343080" cy="114120"/>
              </a:xfrm>
              <a:prstGeom prst="can">
                <a:avLst>
                  <a:gd name="adj" fmla="val 50000"/>
                </a:avLst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rot="730800">
                <a:off x="3715560" y="5122080"/>
                <a:ext cx="2057400" cy="113760"/>
              </a:xfrm>
              <a:prstGeom prst="rect">
                <a:avLst/>
              </a:prstGeom>
              <a:solidFill>
                <a:srgbClr val="00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rot="730800">
                <a:off x="4094280" y="4901760"/>
                <a:ext cx="342720" cy="114120"/>
              </a:xfrm>
              <a:prstGeom prst="can">
                <a:avLst>
                  <a:gd name="adj" fmla="val 50000"/>
                </a:avLst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rot="730800">
                <a:off x="3938400" y="4809960"/>
                <a:ext cx="343080" cy="114120"/>
              </a:xfrm>
              <a:prstGeom prst="can">
                <a:avLst>
                  <a:gd name="adj" fmla="val 50000"/>
                </a:avLst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rot="730800">
                <a:off x="5099760" y="5118480"/>
                <a:ext cx="343080" cy="114120"/>
              </a:xfrm>
              <a:prstGeom prst="can">
                <a:avLst>
                  <a:gd name="adj" fmla="val 50000"/>
                </a:avLst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rot="730800">
                <a:off x="5434920" y="5190840"/>
                <a:ext cx="342720" cy="114120"/>
              </a:xfrm>
              <a:prstGeom prst="can">
                <a:avLst>
                  <a:gd name="adj" fmla="val 50000"/>
                </a:avLst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rot="730800">
                <a:off x="5279040" y="5099040"/>
                <a:ext cx="343080" cy="114120"/>
              </a:xfrm>
              <a:prstGeom prst="can">
                <a:avLst>
                  <a:gd name="adj" fmla="val 50000"/>
                </a:avLst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8" name=""/>
          <p:cNvGrpSpPr/>
          <p:nvPr/>
        </p:nvGrpSpPr>
        <p:grpSpPr>
          <a:xfrm>
            <a:off x="6248520" y="4952880"/>
            <a:ext cx="2057400" cy="685440"/>
            <a:chOff x="6248520" y="4952880"/>
            <a:chExt cx="2057400" cy="685440"/>
          </a:xfrm>
        </p:grpSpPr>
        <p:sp>
          <p:nvSpPr>
            <p:cNvPr id="1249" name=""/>
            <p:cNvSpPr/>
            <p:nvPr/>
          </p:nvSpPr>
          <p:spPr>
            <a:xfrm>
              <a:off x="6248520" y="5009760"/>
              <a:ext cx="342720" cy="114480"/>
            </a:xfrm>
            <a:prstGeom prst="can">
              <a:avLst>
                <a:gd name="adj" fmla="val 50000"/>
              </a:avLst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248520" y="5124240"/>
              <a:ext cx="2057400" cy="1141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077240" y="5238360"/>
              <a:ext cx="399600" cy="3999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591240" y="5009760"/>
              <a:ext cx="342720" cy="114480"/>
            </a:xfrm>
            <a:prstGeom prst="can">
              <a:avLst>
                <a:gd name="adj" fmla="val 50000"/>
              </a:avLst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419880" y="4952880"/>
              <a:ext cx="342720" cy="114120"/>
            </a:xfrm>
            <a:prstGeom prst="can">
              <a:avLst>
                <a:gd name="adj" fmla="val 50000"/>
              </a:avLst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620120" y="5009760"/>
              <a:ext cx="342720" cy="114480"/>
            </a:xfrm>
            <a:prstGeom prst="can">
              <a:avLst>
                <a:gd name="adj" fmla="val 50000"/>
              </a:avLst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962840" y="5009760"/>
              <a:ext cx="342720" cy="114480"/>
            </a:xfrm>
            <a:prstGeom prst="can">
              <a:avLst>
                <a:gd name="adj" fmla="val 50000"/>
              </a:avLst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791480" y="4952880"/>
              <a:ext cx="342720" cy="114120"/>
            </a:xfrm>
            <a:prstGeom prst="can">
              <a:avLst>
                <a:gd name="adj" fmla="val 50000"/>
              </a:avLst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7" name=""/>
          <p:cNvGrpSpPr/>
          <p:nvPr/>
        </p:nvGrpSpPr>
        <p:grpSpPr>
          <a:xfrm>
            <a:off x="1068480" y="4644720"/>
            <a:ext cx="2064240" cy="841680"/>
            <a:chOff x="1068480" y="4644720"/>
            <a:chExt cx="2064240" cy="841680"/>
          </a:xfrm>
        </p:grpSpPr>
        <p:sp>
          <p:nvSpPr>
            <p:cNvPr id="1258" name=""/>
            <p:cNvSpPr/>
            <p:nvPr/>
          </p:nvSpPr>
          <p:spPr>
            <a:xfrm>
              <a:off x="1895400" y="5086080"/>
              <a:ext cx="399960" cy="4003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9" name=""/>
            <p:cNvGrpSpPr/>
            <p:nvPr/>
          </p:nvGrpSpPr>
          <p:grpSpPr>
            <a:xfrm>
              <a:off x="1068480" y="4644720"/>
              <a:ext cx="2064240" cy="628920"/>
              <a:chOff x="1068480" y="4644720"/>
              <a:chExt cx="2064240" cy="628920"/>
            </a:xfrm>
          </p:grpSpPr>
          <p:sp>
            <p:nvSpPr>
              <p:cNvPr id="1260" name=""/>
              <p:cNvSpPr/>
              <p:nvPr/>
            </p:nvSpPr>
            <p:spPr>
              <a:xfrm rot="20961000">
                <a:off x="1076040" y="5016240"/>
                <a:ext cx="343080" cy="114120"/>
              </a:xfrm>
              <a:prstGeom prst="can">
                <a:avLst>
                  <a:gd name="adj" fmla="val 50000"/>
                </a:avLst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rot="20961000">
                <a:off x="1082160" y="4970520"/>
                <a:ext cx="2057400" cy="113760"/>
              </a:xfrm>
              <a:prstGeom prst="rect">
                <a:avLst/>
              </a:prstGeom>
              <a:solidFill>
                <a:srgbClr val="00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rot="20961000">
                <a:off x="1413360" y="4952880"/>
                <a:ext cx="342720" cy="114120"/>
              </a:xfrm>
              <a:prstGeom prst="can">
                <a:avLst>
                  <a:gd name="adj" fmla="val 50000"/>
                </a:avLst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rot="20961000">
                <a:off x="1234440" y="4928760"/>
                <a:ext cx="342720" cy="114120"/>
              </a:xfrm>
              <a:prstGeom prst="can">
                <a:avLst>
                  <a:gd name="adj" fmla="val 50000"/>
                </a:avLst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rot="20961000">
                <a:off x="2424240" y="4762800"/>
                <a:ext cx="343080" cy="114120"/>
              </a:xfrm>
              <a:prstGeom prst="can">
                <a:avLst>
                  <a:gd name="adj" fmla="val 50000"/>
                </a:avLst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rot="20961000">
                <a:off x="2761200" y="4699440"/>
                <a:ext cx="342720" cy="114120"/>
              </a:xfrm>
              <a:prstGeom prst="can">
                <a:avLst>
                  <a:gd name="adj" fmla="val 50000"/>
                </a:avLst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rot="20961000">
                <a:off x="2582280" y="4675320"/>
                <a:ext cx="342720" cy="114120"/>
              </a:xfrm>
              <a:prstGeom prst="can">
                <a:avLst>
                  <a:gd name="adj" fmla="val 50000"/>
                </a:avLst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6AF7-E9E6-41C7-BE22-6153C63C95E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288599-AD2F-4A05-AE1E-733EBA6BF5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lying the Tree Height Theor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cision tree must have at least 8 leaf nodes, since there are 8 possible outco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 terms of which coin is the counterfeit one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the tree-height theorem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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MT Extra"/>
                <a:ea typeface="MT Extra"/>
              </a:rPr>
              <a:t>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us the decision tree must have height</a:t>
            </a:r>
            <a:br>
              <a:rPr sz="2800"/>
            </a:b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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g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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893…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’s see if we solve the problem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weighing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D563-B24D-478F-A98B-495033E9137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9653C1-0441-43ED-8470-586AD0DF26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5257800" cy="13716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neral Solution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8763120" cy="4267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lem is an example of searching for 1 unique particular item, from among a lis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therwise identical item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omewhat analogous to the adage of “searching for a needle in haystack.”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ed with our balance, we can attack the problem using a divide-and-conquer strategy, like what’s done in binary sear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e want to narrow down the set of possible locations where the desired item (coin) could be found down from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to just 1, in a logarithmic fashion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weighing has 3 possible outc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us, we should use it to partition the search space into 3 pieces that are as close to equal-sized as possibl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trategy will lead to the minimum possible worst-case number of weighings requi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1" name="" descr=""/>
          <p:cNvPicPr/>
          <p:nvPr/>
        </p:nvPicPr>
        <p:blipFill>
          <a:blip r:embed="rId2"/>
          <a:stretch/>
        </p:blipFill>
        <p:spPr>
          <a:xfrm>
            <a:off x="5867280" y="76320"/>
            <a:ext cx="2803680" cy="195552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5B1D-8A0E-4AD9-AC71-286C2F0E0FB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6A186-8C3E-41B5-B064-404363CEC4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Balance Strate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7308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each step, put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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/3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ins to be searched on each side of the sca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f the scale tips to the left, then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e lightweight fake is in the right set of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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/3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≈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3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coins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f the scale tips to the right, then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e lightweight fake is in the left set of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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/3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≈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3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coins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f the scale stays balanced, then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e fake is in the remaining set of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 2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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/3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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≈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3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coins that were not weighed!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pt if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mod 3 =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n we can do a little better by weighing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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3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coins on each 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36880" y="5905440"/>
            <a:ext cx="871956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prove that this strategy always leads to a balanced 3-ary 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1C0F-3AD0-465F-805A-64E6A5BB0D8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4DB568-4406-4F34-ACCF-7415B723F3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in Balancing Decis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’s what the tree looks like in our ca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659400" y="2971800"/>
            <a:ext cx="1518840" cy="4597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3 vs 4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383200" y="4572000"/>
            <a:ext cx="985320" cy="4597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vs.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2895480" y="3505320"/>
            <a:ext cx="9144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818800" y="3048120"/>
            <a:ext cx="67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279400" y="335268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d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419720" y="3505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657240" y="3597120"/>
            <a:ext cx="8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735880" y="4572000"/>
            <a:ext cx="985320" cy="4597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vs.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181480" y="3505320"/>
            <a:ext cx="60984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984840" y="4533840"/>
            <a:ext cx="985320" cy="4597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vs.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2019240" y="5105520"/>
            <a:ext cx="5335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857680" y="5105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314880" y="5105520"/>
            <a:ext cx="3045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753560" y="50706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: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501640" y="51055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: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187440" y="51055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H="1">
            <a:off x="4000320" y="5105520"/>
            <a:ext cx="2286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533840" y="5105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991040" y="5105520"/>
            <a:ext cx="3049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814200" y="50706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: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254480" y="51055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: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863960" y="51055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H="1">
            <a:off x="5829120" y="5105520"/>
            <a:ext cx="2286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362640" y="5105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468400" y="50706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: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311880" y="51055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: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8BFB-6408-473C-83CC-96BAFAD8F39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EC44EE-12C0-47CC-9192-F846CAFABA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fix Codes &amp; Huffman C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. 649-6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C5B2-DAD3-40F4-82C1-7502AFFF2DA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1A247-EF30-4ACE-B6E8-D0E13532E9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me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. 651-65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BD6C-70BF-44AE-B9BA-E3C4712D92F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F86721-D710-4AD0-BCAF-DC67DAC7B0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9.3: Tree Traver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al address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versal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pth-first traversal: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eorder traversal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Inorder traversal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ostorder traversal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readth-first traversal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ix/prefix/postfix no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BDA8-E5ED-4682-B5B8-E63D6E87644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8CC021-DC9C-4F2B-89B3-D1FBE0C599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9.4: Spanning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vering this seme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2ADA-CE43-4F0E-96C2-764980B2294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581208-8C5C-4F48-8F93-F9482ACBE6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9.5: Minimum Spanning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vering this seme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82F7-B5AB-4985-997F-C498BA4E7BD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7B697F-C080-4248-9EBC-0877B6D5FC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eudo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a multigraph, but edges connecting a node to itself are allowed.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may be reflexive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seudograp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</a:t>
            </a:r>
            <a:br>
              <a:rPr sz="2800"/>
            </a:b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{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}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Edg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o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=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}=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des are campsit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state park, edges a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king trails through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29400" y="4384800"/>
            <a:ext cx="914400" cy="390240"/>
          </a:xfrm>
          <a:custGeom>
            <a:avLst/>
            <a:gdLst/>
            <a:ahLst/>
            <a:rect l="l" t="t" r="r" b="b"/>
            <a:pathLst>
              <a:path w="576" h="246">
                <a:moveTo>
                  <a:pt x="0" y="246"/>
                </a:moveTo>
                <a:cubicBezTo>
                  <a:pt x="61" y="142"/>
                  <a:pt x="123" y="38"/>
                  <a:pt x="219" y="19"/>
                </a:cubicBezTo>
                <a:cubicBezTo>
                  <a:pt x="315" y="0"/>
                  <a:pt x="445" y="66"/>
                  <a:pt x="576" y="13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42000" y="4646520"/>
            <a:ext cx="914400" cy="306360"/>
          </a:xfrm>
          <a:custGeom>
            <a:avLst/>
            <a:gdLst/>
            <a:ahLst/>
            <a:rect l="l" t="t" r="r" b="b"/>
            <a:pathLst>
              <a:path w="576" h="193">
                <a:moveTo>
                  <a:pt x="0" y="89"/>
                </a:moveTo>
                <a:cubicBezTo>
                  <a:pt x="110" y="141"/>
                  <a:pt x="220" y="193"/>
                  <a:pt x="316" y="178"/>
                </a:cubicBezTo>
                <a:cubicBezTo>
                  <a:pt x="412" y="163"/>
                  <a:pt x="494" y="81"/>
                  <a:pt x="576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57920" y="5502240"/>
            <a:ext cx="1249560" cy="187200"/>
          </a:xfrm>
          <a:custGeom>
            <a:avLst/>
            <a:gdLst/>
            <a:ahLst/>
            <a:rect l="l" t="t" r="r" b="b"/>
            <a:pathLst>
              <a:path w="787" h="118">
                <a:moveTo>
                  <a:pt x="0" y="118"/>
                </a:moveTo>
                <a:cubicBezTo>
                  <a:pt x="88" y="63"/>
                  <a:pt x="177" y="8"/>
                  <a:pt x="308" y="4"/>
                </a:cubicBezTo>
                <a:cubicBezTo>
                  <a:pt x="439" y="0"/>
                  <a:pt x="613" y="46"/>
                  <a:pt x="787" y="9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581960" y="4581360"/>
            <a:ext cx="452520" cy="1068480"/>
          </a:xfrm>
          <a:custGeom>
            <a:avLst/>
            <a:gdLst/>
            <a:ahLst/>
            <a:rect l="l" t="t" r="r" b="b"/>
            <a:pathLst>
              <a:path w="285" h="673">
                <a:moveTo>
                  <a:pt x="0" y="0"/>
                </a:moveTo>
                <a:cubicBezTo>
                  <a:pt x="108" y="90"/>
                  <a:pt x="217" y="180"/>
                  <a:pt x="251" y="292"/>
                </a:cubicBezTo>
                <a:cubicBezTo>
                  <a:pt x="285" y="404"/>
                  <a:pt x="244" y="538"/>
                  <a:pt x="203" y="67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96080" y="5662440"/>
            <a:ext cx="1108080" cy="182880"/>
          </a:xfrm>
          <a:custGeom>
            <a:avLst/>
            <a:gdLst/>
            <a:ahLst/>
            <a:rect l="l" t="t" r="r" b="b"/>
            <a:pathLst>
              <a:path w="698" h="115">
                <a:moveTo>
                  <a:pt x="0" y="0"/>
                </a:moveTo>
                <a:cubicBezTo>
                  <a:pt x="100" y="56"/>
                  <a:pt x="201" y="113"/>
                  <a:pt x="317" y="114"/>
                </a:cubicBezTo>
                <a:cubicBezTo>
                  <a:pt x="433" y="115"/>
                  <a:pt x="565" y="61"/>
                  <a:pt x="698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96080" y="5649840"/>
            <a:ext cx="1146240" cy="39600"/>
          </a:xfrm>
          <a:custGeom>
            <a:avLst/>
            <a:gdLst/>
            <a:ahLst/>
            <a:rect l="l" t="t" r="r" b="b"/>
            <a:pathLst>
              <a:path w="722" h="25">
                <a:moveTo>
                  <a:pt x="0" y="25"/>
                </a:moveTo>
                <a:cubicBezTo>
                  <a:pt x="110" y="12"/>
                  <a:pt x="221" y="0"/>
                  <a:pt x="341" y="0"/>
                </a:cubicBezTo>
                <a:cubicBezTo>
                  <a:pt x="461" y="0"/>
                  <a:pt x="591" y="12"/>
                  <a:pt x="722" y="2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6120" bIns="-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80080" y="4813200"/>
            <a:ext cx="1298520" cy="798480"/>
          </a:xfrm>
          <a:custGeom>
            <a:avLst/>
            <a:gdLst/>
            <a:ahLst/>
            <a:rect l="l" t="t" r="r" b="b"/>
            <a:pathLst>
              <a:path w="818" h="503">
                <a:moveTo>
                  <a:pt x="7" y="0"/>
                </a:moveTo>
                <a:cubicBezTo>
                  <a:pt x="3" y="82"/>
                  <a:pt x="0" y="165"/>
                  <a:pt x="88" y="203"/>
                </a:cubicBezTo>
                <a:cubicBezTo>
                  <a:pt x="176" y="241"/>
                  <a:pt x="412" y="177"/>
                  <a:pt x="534" y="227"/>
                </a:cubicBezTo>
                <a:cubicBezTo>
                  <a:pt x="656" y="277"/>
                  <a:pt x="737" y="390"/>
                  <a:pt x="818" y="50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29320" y="4691160"/>
            <a:ext cx="228600" cy="2286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86800" y="5524560"/>
            <a:ext cx="228600" cy="2286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81880" y="4197240"/>
            <a:ext cx="496800" cy="395280"/>
          </a:xfrm>
          <a:custGeom>
            <a:avLst/>
            <a:gdLst/>
            <a:ahLst/>
            <a:rect l="l" t="t" r="r" b="b"/>
            <a:pathLst>
              <a:path w="313" h="249">
                <a:moveTo>
                  <a:pt x="31" y="234"/>
                </a:moveTo>
                <a:cubicBezTo>
                  <a:pt x="0" y="219"/>
                  <a:pt x="48" y="84"/>
                  <a:pt x="87" y="48"/>
                </a:cubicBezTo>
                <a:cubicBezTo>
                  <a:pt x="126" y="12"/>
                  <a:pt x="235" y="0"/>
                  <a:pt x="266" y="15"/>
                </a:cubicBezTo>
                <a:cubicBezTo>
                  <a:pt x="297" y="30"/>
                  <a:pt x="313" y="95"/>
                  <a:pt x="274" y="137"/>
                </a:cubicBezTo>
                <a:cubicBezTo>
                  <a:pt x="235" y="179"/>
                  <a:pt x="62" y="249"/>
                  <a:pt x="31" y="234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10280" y="5348160"/>
            <a:ext cx="665280" cy="609840"/>
          </a:xfrm>
          <a:custGeom>
            <a:avLst/>
            <a:gdLst/>
            <a:ahLst/>
            <a:rect l="l" t="t" r="r" b="b"/>
            <a:pathLst>
              <a:path w="419" h="384">
                <a:moveTo>
                  <a:pt x="416" y="190"/>
                </a:moveTo>
                <a:cubicBezTo>
                  <a:pt x="419" y="131"/>
                  <a:pt x="307" y="24"/>
                  <a:pt x="238" y="12"/>
                </a:cubicBezTo>
                <a:cubicBezTo>
                  <a:pt x="169" y="0"/>
                  <a:pt x="6" y="58"/>
                  <a:pt x="3" y="117"/>
                </a:cubicBezTo>
                <a:cubicBezTo>
                  <a:pt x="0" y="176"/>
                  <a:pt x="153" y="354"/>
                  <a:pt x="222" y="369"/>
                </a:cubicBezTo>
                <a:cubicBezTo>
                  <a:pt x="291" y="384"/>
                  <a:pt x="413" y="249"/>
                  <a:pt x="416" y="190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429680" y="4495680"/>
            <a:ext cx="228600" cy="2286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67560" y="5564160"/>
            <a:ext cx="228600" cy="2286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11720" y="3657600"/>
            <a:ext cx="517680" cy="1735200"/>
          </a:xfrm>
          <a:custGeom>
            <a:avLst/>
            <a:gdLst/>
            <a:ahLst/>
            <a:rect l="l" t="t" r="r" b="b"/>
            <a:pathLst>
              <a:path w="634" h="843">
                <a:moveTo>
                  <a:pt x="634" y="0"/>
                </a:moveTo>
                <a:cubicBezTo>
                  <a:pt x="474" y="80"/>
                  <a:pt x="314" y="160"/>
                  <a:pt x="213" y="251"/>
                </a:cubicBezTo>
                <a:cubicBezTo>
                  <a:pt x="112" y="342"/>
                  <a:pt x="52" y="444"/>
                  <a:pt x="26" y="543"/>
                </a:cubicBezTo>
                <a:cubicBezTo>
                  <a:pt x="0" y="642"/>
                  <a:pt x="29" y="742"/>
                  <a:pt x="58" y="84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05720" y="2817720"/>
            <a:ext cx="2193840" cy="1513080"/>
          </a:xfrm>
          <a:custGeom>
            <a:avLst/>
            <a:gdLst/>
            <a:ahLst/>
            <a:rect l="l" t="t" r="r" b="b"/>
            <a:pathLst>
              <a:path w="1382" h="953">
                <a:moveTo>
                  <a:pt x="0" y="347"/>
                </a:moveTo>
                <a:cubicBezTo>
                  <a:pt x="71" y="297"/>
                  <a:pt x="263" y="90"/>
                  <a:pt x="427" y="45"/>
                </a:cubicBezTo>
                <a:cubicBezTo>
                  <a:pt x="591" y="0"/>
                  <a:pt x="827" y="23"/>
                  <a:pt x="982" y="78"/>
                </a:cubicBezTo>
                <a:cubicBezTo>
                  <a:pt x="1137" y="133"/>
                  <a:pt x="1336" y="243"/>
                  <a:pt x="1359" y="374"/>
                </a:cubicBezTo>
                <a:cubicBezTo>
                  <a:pt x="1382" y="505"/>
                  <a:pt x="1202" y="775"/>
                  <a:pt x="1118" y="864"/>
                </a:cubicBezTo>
                <a:cubicBezTo>
                  <a:pt x="1034" y="953"/>
                  <a:pt x="907" y="900"/>
                  <a:pt x="851" y="909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AA60-3833-4B4F-8D8D-2601908252D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89073-AB1D-460D-BACA-309022A504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ed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spond to arbitrary binary relation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need not be symmetr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rected gra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nsists of a set of vertic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 binary rela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set of People,</a:t>
            </a:r>
            <a:br>
              <a:rPr sz="3200"/>
            </a:b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{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 |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loves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4384800"/>
            <a:ext cx="836640" cy="390240"/>
          </a:xfrm>
          <a:custGeom>
            <a:avLst/>
            <a:gdLst/>
            <a:ahLst/>
            <a:rect l="l" t="t" r="r" b="b"/>
            <a:pathLst>
              <a:path w="576" h="246">
                <a:moveTo>
                  <a:pt x="0" y="246"/>
                </a:moveTo>
                <a:cubicBezTo>
                  <a:pt x="61" y="142"/>
                  <a:pt x="123" y="38"/>
                  <a:pt x="219" y="19"/>
                </a:cubicBezTo>
                <a:cubicBezTo>
                  <a:pt x="315" y="0"/>
                  <a:pt x="445" y="66"/>
                  <a:pt x="576" y="13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42360" y="4708440"/>
            <a:ext cx="517320" cy="851040"/>
          </a:xfrm>
          <a:custGeom>
            <a:avLst/>
            <a:gdLst/>
            <a:ahLst/>
            <a:rect l="l" t="t" r="r" b="b"/>
            <a:pathLst>
              <a:path w="285" h="673">
                <a:moveTo>
                  <a:pt x="0" y="0"/>
                </a:moveTo>
                <a:cubicBezTo>
                  <a:pt x="108" y="90"/>
                  <a:pt x="217" y="180"/>
                  <a:pt x="251" y="292"/>
                </a:cubicBezTo>
                <a:cubicBezTo>
                  <a:pt x="285" y="404"/>
                  <a:pt x="244" y="538"/>
                  <a:pt x="203" y="67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96080" y="5676840"/>
            <a:ext cx="1004760" cy="168480"/>
          </a:xfrm>
          <a:custGeom>
            <a:avLst/>
            <a:gdLst/>
            <a:ahLst/>
            <a:rect l="l" t="t" r="r" b="b"/>
            <a:pathLst>
              <a:path w="698" h="115">
                <a:moveTo>
                  <a:pt x="0" y="0"/>
                </a:moveTo>
                <a:cubicBezTo>
                  <a:pt x="100" y="56"/>
                  <a:pt x="201" y="113"/>
                  <a:pt x="317" y="114"/>
                </a:cubicBezTo>
                <a:cubicBezTo>
                  <a:pt x="433" y="115"/>
                  <a:pt x="565" y="61"/>
                  <a:pt x="698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80080" y="4813200"/>
            <a:ext cx="1246320" cy="733680"/>
          </a:xfrm>
          <a:custGeom>
            <a:avLst/>
            <a:gdLst/>
            <a:ahLst/>
            <a:rect l="l" t="t" r="r" b="b"/>
            <a:pathLst>
              <a:path w="818" h="503">
                <a:moveTo>
                  <a:pt x="7" y="0"/>
                </a:moveTo>
                <a:cubicBezTo>
                  <a:pt x="3" y="82"/>
                  <a:pt x="0" y="165"/>
                  <a:pt x="88" y="203"/>
                </a:cubicBezTo>
                <a:cubicBezTo>
                  <a:pt x="176" y="241"/>
                  <a:pt x="412" y="177"/>
                  <a:pt x="534" y="227"/>
                </a:cubicBezTo>
                <a:cubicBezTo>
                  <a:pt x="656" y="277"/>
                  <a:pt x="737" y="390"/>
                  <a:pt x="818" y="50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29320" y="4691160"/>
            <a:ext cx="228600" cy="2286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86800" y="5524560"/>
            <a:ext cx="228600" cy="2286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29680" y="4495680"/>
            <a:ext cx="228600" cy="2286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67560" y="5564160"/>
            <a:ext cx="228600" cy="2286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24720" y="4092480"/>
            <a:ext cx="538200" cy="488880"/>
          </a:xfrm>
          <a:custGeom>
            <a:avLst/>
            <a:gdLst/>
            <a:ahLst/>
            <a:rect l="l" t="t" r="r" b="b"/>
            <a:pathLst>
              <a:path w="339" h="308">
                <a:moveTo>
                  <a:pt x="69" y="308"/>
                </a:moveTo>
                <a:cubicBezTo>
                  <a:pt x="185" y="276"/>
                  <a:pt x="301" y="244"/>
                  <a:pt x="320" y="195"/>
                </a:cubicBezTo>
                <a:cubicBezTo>
                  <a:pt x="339" y="146"/>
                  <a:pt x="231" y="32"/>
                  <a:pt x="182" y="16"/>
                </a:cubicBezTo>
                <a:cubicBezTo>
                  <a:pt x="133" y="0"/>
                  <a:pt x="56" y="57"/>
                  <a:pt x="28" y="98"/>
                </a:cubicBezTo>
                <a:cubicBezTo>
                  <a:pt x="0" y="139"/>
                  <a:pt x="6" y="199"/>
                  <a:pt x="12" y="26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49920" y="5310360"/>
            <a:ext cx="430200" cy="379080"/>
          </a:xfrm>
          <a:custGeom>
            <a:avLst/>
            <a:gdLst/>
            <a:ahLst/>
            <a:rect l="l" t="t" r="r" b="b"/>
            <a:pathLst>
              <a:path w="271" h="239">
                <a:moveTo>
                  <a:pt x="149" y="239"/>
                </a:moveTo>
                <a:cubicBezTo>
                  <a:pt x="202" y="220"/>
                  <a:pt x="255" y="202"/>
                  <a:pt x="263" y="166"/>
                </a:cubicBezTo>
                <a:cubicBezTo>
                  <a:pt x="271" y="130"/>
                  <a:pt x="237" y="40"/>
                  <a:pt x="198" y="20"/>
                </a:cubicBezTo>
                <a:cubicBezTo>
                  <a:pt x="159" y="0"/>
                  <a:pt x="56" y="17"/>
                  <a:pt x="28" y="44"/>
                </a:cubicBezTo>
                <a:cubicBezTo>
                  <a:pt x="0" y="71"/>
                  <a:pt x="14" y="126"/>
                  <a:pt x="28" y="18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47120" y="4672080"/>
            <a:ext cx="642960" cy="1139760"/>
          </a:xfrm>
          <a:custGeom>
            <a:avLst/>
            <a:gdLst/>
            <a:ahLst/>
            <a:rect l="l" t="t" r="r" b="b"/>
            <a:pathLst>
              <a:path w="405" h="758">
                <a:moveTo>
                  <a:pt x="219" y="672"/>
                </a:moveTo>
                <a:cubicBezTo>
                  <a:pt x="269" y="715"/>
                  <a:pt x="320" y="758"/>
                  <a:pt x="348" y="697"/>
                </a:cubicBezTo>
                <a:cubicBezTo>
                  <a:pt x="376" y="636"/>
                  <a:pt x="405" y="413"/>
                  <a:pt x="389" y="308"/>
                </a:cubicBezTo>
                <a:cubicBezTo>
                  <a:pt x="373" y="203"/>
                  <a:pt x="316" y="115"/>
                  <a:pt x="251" y="64"/>
                </a:cubicBezTo>
                <a:cubicBezTo>
                  <a:pt x="186" y="13"/>
                  <a:pt x="93" y="6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9678-B4C1-43B5-B898-5840C124C52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2AB34-6C3A-40AA-89DD-EED394BB6D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01:48:20Z</dcterms:created>
  <dc:creator>Michael P. Frank</dc:creator>
  <dc:description>Slides developed at the University of Florida
for course COT3100, Applications of
Discrete Structures, Spring 2001 &amp; 2003.</dc:description>
  <dc:language>en-US</dc:language>
  <cp:lastModifiedBy>Michael P. Frank</cp:lastModifiedBy>
  <dcterms:modified xsi:type="dcterms:W3CDTF">2004-04-01T13:04:39Z</dcterms:modified>
  <cp:revision>60</cp:revision>
  <dc:subject>Discrete Mathematics</dc:subject>
  <dc:title>Slides for Rosen, 5th edition</dc:title>
</cp:coreProperties>
</file>