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856CC6-1447-4768-A2D6-1ED1E2A83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C02312-0FA6-4422-901E-1CB470E24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number theory for this example.  At least, need the definitions of factorial “!”, and divides notation “|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FAA-DD7E-4A78-8A4D-AB16AACF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A88-C42B-44AF-A53D-0FFDF3EA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9A3-ABC0-43F9-A5EC-38C0F251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053-CD15-43B3-93D8-8BB3A21A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F6C-0476-4041-A222-E5B410C9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5B1-17DE-440B-A35D-6C72CDC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768-3C1B-4632-A0A4-BF626C1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935-8F05-4637-ADF6-7F4C851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5FC-03C6-4928-8693-F01AE71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D60-FAA8-47F5-A988-877E31E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486-BCD8-403F-ABF1-FB7DD54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19F-1F18-4762-8E10-372404C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8584-52C1-49CA-BD63-46B1FC4644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902A-38B9-4D3F-9D2A-56E8D433D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760" y="7632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1 – Proof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B8A-B24E-4F76-BADC-D0F41DE1EC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7FCF3-349A-4CF2-8802-F2815BB91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Backwards in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1 wins if it is player 2’s turn and there are no ston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can arrange this i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is turn, and t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1, 2, or 3 ston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be true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as player 2 h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stones on his tur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o 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800600" y="2666880"/>
          <a:ext cx="3962520" cy="356868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y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y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2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 10,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 14,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6172200" y="3276720"/>
            <a:ext cx="14479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172200" y="3733920"/>
            <a:ext cx="14479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4191120"/>
            <a:ext cx="1371600" cy="30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172200" y="4571640"/>
            <a:ext cx="144792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248520" y="4952520"/>
            <a:ext cx="129528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248520" y="5257800"/>
            <a:ext cx="12952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24480" y="5715000"/>
            <a:ext cx="129564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98A-1058-43BD-AEB8-F661959D78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9BFF6-6EC6-4AD5-B8F7-7AB49E9422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ized”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ever moves first can always force a 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of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Player 1 can remove 3 stones, leaving 12.  After player 2 moves, there will then be either 11, 10, or 9 stones left.  In any of these cases, player 1 can then reduce the number of stones to 8.  Then, player 2 will reduce the number to 7, 6, or 5.  Then, player 1 can reduce the number to 4.  Then, player 2 must reduce them to 3, 2, or 1.  Player 1 then removes the remaining stones and wi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462-5955-477E-B4F5-385FB5F335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F6BB7-524A-4782-AE62-30595BC43C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by Case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|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24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inc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3=6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e value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6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sufficient to tell us whethe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6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0,3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; if it is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0,2,4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6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1,5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ase #1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6 = 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t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=3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No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|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since eith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is even.  Thu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|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ase #2: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6 = 5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5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·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) = (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)·(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6) = 12·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)·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Eith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is even.  Thu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|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9DE-3CB0-4FD7-AD99-B0E4F24C74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BCD13-103B-4B94-8EBD-8E92BB855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by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versal statement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proven by using example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universe can be validly reduced to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it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examples, and your proof cov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,y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3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≥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≥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is leav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0,1,4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0,3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e largest pair sum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+3 = 7 &lt; 8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67320" y="419112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726-768F-49BE-9B0B-B2C2F9891F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7FF6A-3698-4B5A-9A6D-B140CF02E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nstruct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istence Pro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, there exists a seque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ecutive composit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statement in predicate logic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compos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follows on next slid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8C7-C19A-4FA0-B7FD-3AD1CCE33D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0FD88-3403-417D-B75A-76F608FA3D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o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1)!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consid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1)! +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o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)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+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+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posi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compo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Q.E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383-1977-45F1-BE25-8FAD90584F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AC36E-A3A1-492D-821A-AF7380C4C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constructive Existence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are infinitely many prim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 finite set of numbers must contain a maximal element, so we can prove the theorem  if we can just show that there is n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rg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prime number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show that for any prime number, there is a larger number that i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ls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prim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re generally: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number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 larger prim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lly: Show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&gt;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s pri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2E5-AFB6-4828-951D-86420747A5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94515-F227-4DAE-9610-918844910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of, u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oof by ca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ve there is a prim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!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in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kn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prime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composit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e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rime.  Obviousl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’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se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prime fact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But 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e’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F3E-5157-4AB0-9EF4-11B67CEA92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96DCD-A3DE-4141-962A-5E32C8B79C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ing Existing Proo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are infinitely many primes of the for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all we proved there are infinitely many primes because 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were all the primes, t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+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ust be prime or have a prime factor greater tha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ontradiction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ly, suppos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sts all primes of the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nd analogously consid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4(∏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+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504080" indent="-214560">
              <a:spcBef>
                <a:spcPts val="451"/>
              </a:spcBef>
              <a:buClr>
                <a:srgbClr val="8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Unfortunately, sinc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3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is possible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|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and so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does have a prime factor among th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 so this doesn’t work!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o instead, consid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4(∏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−1 = 4(∏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+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 This has the right form, and has no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s a factor sinc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≡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1880" y="121932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838-C2C7-4157-B576-CA8D220D25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3A3F2-C0BF-4B85-B79E-D2E0BBCC1B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ecture and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know that some numbers of the for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rime w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se are called the Mersenne prim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we prove the inverse,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mposite whenever eith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mposit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l we need is to find a factor greater than 1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ctors in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…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&gt;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so we have a factor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composite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,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, giv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sin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1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 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which now fits the first cas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680" y="137160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ABC-135D-4317-8C67-7EF3857F45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04911-5E58-4ED0-85E6-D685FF4012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of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1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D91-7B45-4B3A-B20C-7DF04383C9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0EEC7-091A-4677-82C2-5C369DF219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ecture &amp; Counter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m, let’s see if we can find any counter-examples: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+41 = 41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prime)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+41 = 4−2+41 = 4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prime)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3+41 = 9−3+41 = 47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prime)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Looking good so far!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n we conclude after showing that it checks out in, say, 20 or 30 cases, that the conjecture must be true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VER NEVER NEVER NEVER NEV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f course, 4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41+41 is divisible by 41!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C41-5825-4535-93CE-0528D49710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F32E6-2506-4089-9257-FA901E995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n Great Mathematicians Can Propose False Conjecture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ler conjectured that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um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s of positive integers is not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mained true for all cases checked for 200 years, but no proof was foun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n 1966, someone noticed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8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3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4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er counter-examples have also been found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4, but none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5 ye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6A9-8696-42FD-B6AF-2B658BD9BE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F4B06-0301-45DF-90BA-6EFD8A2091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mat’s “Last Theore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no solutions in integers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y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integ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the 1600s, Fermat famously claimed in a marginal note that he had a “wondrous proof” of the theorem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ut unfortunately, if he had one, he never published it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theorem remained a publicly unproven conjecture for the next ~400 year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ally, a proof that requires hundreds of pages of advanced mathematics was found by Wiles at Princeton in 1990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t took him 10 years of work to find it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, 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of of Fermat’s last theorem, and you will become instantly famo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3440" y="1828800"/>
            <a:ext cx="1293120" cy="3988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D5A-A30D-4226-AFE4-411D3B7CBF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0AC37-31B1-48ED-9B3D-50BD7F0703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pen Conj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re are infinitely many primes of the form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Twin Prime Conjecture) There are infinitely pairs of primes of the for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e Hailstone Problem) 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dd, then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ere the superscript denotes compos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itsel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1600" y="5638680"/>
            <a:ext cx="7124040" cy="825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any of these, and you can probably have a life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er sitting around doing pure mathematic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3080" y="5029200"/>
            <a:ext cx="1406160" cy="3988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10480" y="3276720"/>
            <a:ext cx="1406160" cy="3988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23080" y="2362320"/>
            <a:ext cx="1406160" cy="3988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102-4AB0-4B66-B440-560CC075F1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C3BD4-1EA5-4FA2-BE0D-AB32BEE5C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#11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dule #2, we already s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veral types of proofs of implication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Vacuous, Trivial, Direct, Indirec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ypes of existence proofs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nstructive vs. Nonconstructive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me methods of proving general statement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Proof by cases, proof by contradiction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module, we will see example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ward vs. backward reasoning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of by case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apting existing proof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urning conjectures into proof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084-990C-416D-817E-7BE3980A74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512F4-AFAD-4B92-B7E3-3B554E386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Rea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premi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ant to pro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n, modus ponens gives you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, find a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uch that)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n, modus ponens gives you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hope to eventually get to a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with this method 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t can be tough to see the path looking from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F2B-8879-4A3E-8BC1-ACDF376BE6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C0BF4-0001-4789-8598-F5676CCB4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 Rea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often be easier to se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y same 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just start looking from the conclus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at i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find a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find a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so on…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ing back to a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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w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pagate tru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wn the chai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…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 a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 cha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ckward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bu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pply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ward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is is not quite the same thing as an indirect proof…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 that, we would use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odus tollens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nd 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to prove 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−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tc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ever, it it similar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486-F696-4B6A-98E0-2B83A7B9AA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BE21C-35D5-4882-B8E5-B7ED5032BD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 Reason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/2 &gt;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ice it is not obvious how to go from the premis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directly forward to the conclus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/2 &gt;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, let’s work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ckward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rom the conclusion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/2 &gt;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71D-8FBA-41D7-8D68-10E0D394BC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7DE4C-71A5-4854-A001-7A21E5C115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of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/2 &gt;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squaring both si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preserves the “&gt;” since both sides are positiv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/4 &gt;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multiplying through by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 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squaring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 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subtracting out 4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(factoring left s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≠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we can work our way back along the chain of step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F5A-4801-4D00-8BB7-78955AAFDF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FD82B-A552-44C2-B56A-60FD79E31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wardized” version of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0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0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/2 &gt;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of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If Sin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≠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.e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 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Add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o both sides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Factoring the left side, we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4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Sin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positive, we can take the square root of both sides and get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2 &gt;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■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just a simple proof proceeding directly from premises to conclusion, but if you don’t realize how it was obtained, it looks “magica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common student reaction:  “But how did you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o pick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ut of thin air, to add to both sides?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swer: By working backwards from the conclusion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895-AB4C-46EC-BB79-FACFF3760F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97380-0502-43B0-BDE7-E478E2D21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ne Gam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15 stones in a pile.  Two players take turns removing either 1, 2, or 3 stones. Whoever takes the last stone wi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is a strategy for the first player that guarantees him a 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prove this?  Constructive proo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oks complicated… How do we pick out the winning strategy from among all possible strategie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Work backwards from the endgame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6680" y="1523880"/>
            <a:ext cx="1494360" cy="459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184-748A-408A-9E56-C19AC7DEBA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0DAA-CEEA-4B83-8331-1B894D8961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10T21:53:47Z</dcterms:modified>
  <cp:revision>51</cp:revision>
  <dc:subject>Discrete Mathematics</dc:subject>
  <dc:title>Slides for Rosen, 5th edition</dc:title>
</cp:coreProperties>
</file>