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WHOOSH.WAV" ContentType="audio/x-wav"/>
  <Override PartName="/ppt/media/CASHREG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6AF8F61-2163-4776-99DA-E7EE8AD92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3633D28-6656-447E-9AC1-2E267B5EB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A06-8C43-4043-B8EF-E89D9B3B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9CE-FF57-4B1C-85A6-4372C5E8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39A-F3CF-49CB-8B3B-36B616B6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609-D44A-441A-9A20-3AAB6181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D2E-53B5-4ECF-AF62-4FE2E8CD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75E-588A-4DCA-A080-C31AC7DF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16C-6FAF-4C4C-A8CF-1BD56132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86CE-8642-4CE2-8DF5-F1ADF680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FA0-8D86-4D84-B53D-4AD7F093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1C6-0A21-44A1-BBBD-E1B28537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49E-8B23-41D4-9B1F-10064C6F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BBF-FB76-4F77-B4A2-FB6DCE13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C25F-20C2-4C47-9DA6-8215439CF4A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31F4-28E0-419F-B037-8946CAF518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000" y="76320"/>
            <a:ext cx="25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10 - Mat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059-8F69-4C85-BC41-9B837F79052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A8947-945A-49EF-AF06-44E36CD8EF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rix Produc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 matrix multiplication to practice in cla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0" y="3071880"/>
                <a:ext cx="9144000" cy="20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D06-815A-44C1-84E6-905BD2F4BC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9FF25-C803-4DF6-B171-098434DD38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691320" y="6400800"/>
            <a:ext cx="3330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04280" y="4765680"/>
            <a:ext cx="3330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ty Matr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dentity matrix of order n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is the rank-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square matrix with 1’s along the upper-left to lower-right diagonal, and 0’s everywhere els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882720" y="3657600"/>
                <a:ext cx="7423200" cy="27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if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if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1142640" y="575640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ronecker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057400" y="525744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58320" y="3657600"/>
            <a:ext cx="380880" cy="2743200"/>
          </a:xfrm>
          <a:custGeom>
            <a:avLst/>
            <a:gdLst>
              <a:gd name="textAreaLeft" fmla="*/ 0 w 380880"/>
              <a:gd name="textAreaRight" fmla="*/ 137520 w 3808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6667560" y="4914720"/>
            <a:ext cx="380880" cy="2895840"/>
          </a:xfrm>
          <a:custGeom>
            <a:avLst/>
            <a:gdLst>
              <a:gd name="textAreaLeft" fmla="*/ 0 w 380880"/>
              <a:gd name="textAreaRight" fmla="*/ 137520 w 38088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200" y="414972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BF3D-734B-49F5-BACF-D1DE265B1B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7F2E8-FB26-4171-B865-646A02ADBA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: §2.6 Matrices, so f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rix sums and produ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dentity matrix of ord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371600" y="2895480"/>
                <a:ext cx="571500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ℓ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ℓ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2F8-519C-43E7-895B-00D18E6097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98F61-FE80-4D90-9D7B-94C2BDA3AF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rix Inve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ome (but not all) square matric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exists a unique multiplicati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matrix such 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inverse exists, it is unique,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on’t go into the algorithms for matrix inversio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919-FE96-4C12-8815-6BD282FC0F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8BDC6-EA96-4952-9A6A-19C3FA8061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rix Multiplica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mu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atric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q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[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] is the product of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07720" y="2670120"/>
            <a:ext cx="2511360" cy="8254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What’s the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of its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ime complex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191120" y="2666880"/>
            <a:ext cx="1197720" cy="533520"/>
            <a:chOff x="4191120" y="2666880"/>
            <a:chExt cx="1197720" cy="533520"/>
          </a:xfrm>
        </p:grpSpPr>
        <p:sp>
          <p:nvSpPr>
            <p:cNvPr id="99" name=""/>
            <p:cNvSpPr/>
            <p:nvPr/>
          </p:nvSpPr>
          <p:spPr>
            <a:xfrm>
              <a:off x="4191120" y="2666880"/>
              <a:ext cx="304560" cy="5335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56440" y="2708640"/>
              <a:ext cx="93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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)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419720" y="3276720"/>
            <a:ext cx="1214640" cy="533160"/>
            <a:chOff x="4419720" y="3276720"/>
            <a:chExt cx="1214640" cy="533160"/>
          </a:xfrm>
        </p:grpSpPr>
        <p:sp>
          <p:nvSpPr>
            <p:cNvPr id="102" name=""/>
            <p:cNvSpPr/>
            <p:nvPr/>
          </p:nvSpPr>
          <p:spPr>
            <a:xfrm>
              <a:off x="4419720" y="3276720"/>
              <a:ext cx="304560" cy="53316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67040" y="3318480"/>
              <a:ext cx="96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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)·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800600" y="3809880"/>
            <a:ext cx="1197720" cy="533520"/>
            <a:chOff x="4800600" y="3809880"/>
            <a:chExt cx="1197720" cy="533520"/>
          </a:xfrm>
        </p:grpSpPr>
        <p:sp>
          <p:nvSpPr>
            <p:cNvPr id="105" name=""/>
            <p:cNvSpPr/>
            <p:nvPr/>
          </p:nvSpPr>
          <p:spPr>
            <a:xfrm>
              <a:off x="4800600" y="3809880"/>
              <a:ext cx="304920" cy="5335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3040" y="385164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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(1)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181480" y="4419720"/>
            <a:ext cx="1192680" cy="533160"/>
            <a:chOff x="5181480" y="4419720"/>
            <a:chExt cx="1192680" cy="533160"/>
          </a:xfrm>
        </p:grpSpPr>
        <p:sp>
          <p:nvSpPr>
            <p:cNvPr id="108" name=""/>
            <p:cNvSpPr/>
            <p:nvPr/>
          </p:nvSpPr>
          <p:spPr>
            <a:xfrm>
              <a:off x="5181480" y="4419720"/>
              <a:ext cx="304920" cy="5331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49320" y="4461480"/>
              <a:ext cx="9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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) 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486400" y="4952880"/>
            <a:ext cx="1162800" cy="533520"/>
            <a:chOff x="5486400" y="4952880"/>
            <a:chExt cx="1162800" cy="533520"/>
          </a:xfrm>
        </p:grpSpPr>
        <p:sp>
          <p:nvSpPr>
            <p:cNvPr id="111" name=""/>
            <p:cNvSpPr/>
            <p:nvPr/>
          </p:nvSpPr>
          <p:spPr>
            <a:xfrm>
              <a:off x="5486400" y="4952880"/>
              <a:ext cx="304920" cy="5335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84120" y="499464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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(1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515280" y="3706920"/>
            <a:ext cx="1213920" cy="8254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nswer: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mnk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062-A540-4B65-9212-8FC9AC76E51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1B0F0-BCBF-4C23-A99F-CAEA6F5B7D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s of Matr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quare matrix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 t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AA···A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n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2704680" y="244800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1960" y="3323160"/>
            <a:ext cx="10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86200" y="3276720"/>
                <a:ext cx="4419720" cy="26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0C5-7AC9-4E3C-A2D1-1B448D495F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6F4FB-98F8-464C-876C-43852DF9E0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x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p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ften writt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x given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 =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j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152080" y="4066920"/>
            <a:ext cx="1630440" cy="1517040"/>
            <a:chOff x="2152080" y="4066920"/>
            <a:chExt cx="1630440" cy="1517040"/>
          </a:xfrm>
        </p:grpSpPr>
        <p:sp>
          <p:nvSpPr>
            <p:cNvPr id="121" name=""/>
            <p:cNvSpPr/>
            <p:nvPr/>
          </p:nvSpPr>
          <p:spPr>
            <a:xfrm rot="18373200">
              <a:off x="2443320" y="4718880"/>
              <a:ext cx="1523880" cy="314280"/>
            </a:xfrm>
            <a:custGeom>
              <a:avLst/>
              <a:gdLst>
                <a:gd name="textAreaLeft" fmla="*/ 266400 w 1523880"/>
                <a:gd name="textAreaRight" fmla="*/ 1104840 w 1523880"/>
                <a:gd name="textAreaTop" fmla="*/ 42120 h 314280"/>
                <a:gd name="textAreaBottom" fmla="*/ 272160 h 3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173800">
              <a:off x="2565360" y="4032000"/>
              <a:ext cx="380880" cy="152388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266400 h 1523880"/>
                <a:gd name="textAreaBottom" fmla="*/ 11048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rix Trans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114800"/>
            <a:ext cx="190512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3886200"/>
            <a:ext cx="190512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459040"/>
            <a:ext cx="1371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057400" y="3733920"/>
                <a:ext cx="4648320" cy="20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F44-6BFC-4059-9489-C06BE764A6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69CAF-9911-4B39-9BA3-7182ED27E5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metric Matr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quare matri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met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= 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j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below matrices is symmetri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019920" y="3903840"/>
                <a:ext cx="2324160" cy="20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124080" y="3886200"/>
                <a:ext cx="2803680" cy="20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859040" y="3962520"/>
                <a:ext cx="1217520" cy="20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048120" y="3657600"/>
            <a:ext cx="2895480" cy="2590920"/>
          </a:xfrm>
          <a:prstGeom prst="ellipse">
            <a:avLst/>
          </a:prstGeom>
          <a:noFill/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9362600">
            <a:off x="6986520" y="5187600"/>
            <a:ext cx="914400" cy="228600"/>
          </a:xfrm>
          <a:prstGeom prst="leftRightArrow">
            <a:avLst>
              <a:gd name="adj1" fmla="val 50000"/>
              <a:gd name="adj2" fmla="val 796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D36-9C58-4187-8C1E-21421B3FA03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D9C3C-4D81-4D0D-8A27-B1224AAEA7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ro-One Matr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for representing other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relations, directed graphs (later in this course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lements of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ero-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x are either 0 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presenting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als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amp;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u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pectively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o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ero-one matric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[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[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] = [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ij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98760" y="4343400"/>
            <a:ext cx="3757680" cy="825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1’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1’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up the 1’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96600" y="5464080"/>
            <a:ext cx="3700080" cy="825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1’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’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e find 1’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886-E6C9-4FC1-AF20-0E114EFAA55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F6157-F289-4E4F-94BF-D332D76587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lean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ero-one matrix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le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ero-one matrix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oolean produc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is like normal matrix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but using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instead of + in the row-column “vector dot product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406600" y="4495680"/>
                <a:ext cx="549612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k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ℓ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ℓ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ℓ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1127880" y="484020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⊙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784-139E-42F2-BF26-94FEE1AC72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1F00C-9ADA-4DCC-A094-5376DDEA3E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10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§2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8 slides, ~1 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42F-96EA-4DA3-A979-C2BF5B599F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C3AFF-6DD4-4C95-AD4F-19BD9DF280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lean P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quare zero-one matri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an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th Boolean power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imply the Boolean produc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pies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[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⊙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⊙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[0]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4647960" y="2971440"/>
            <a:ext cx="381240" cy="2514600"/>
          </a:xfrm>
          <a:custGeom>
            <a:avLst/>
            <a:gdLst>
              <a:gd name="textAreaLeft" fmla="*/ 243720 w 381240"/>
              <a:gd name="textAreaRight" fmla="*/ 381600 w 38124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2680" y="43423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476-F0B9-417E-9DC0-38B273CAC3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2A16D-0A37-47E1-B639-E5E7DFB3F5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§2.7 Matr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ctangular array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(usually number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(“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by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”) matrix has exactly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horizontal rows, and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vertical colum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lural of matrix = 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matrices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(say MAY-trih-se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matrix is called a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qua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matrix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os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an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867280" y="4114800"/>
                <a:ext cx="1078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781680" y="426564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a 3</a:t>
            </a:r>
            <a:r>
              <a:rPr b="0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2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36560" y="5837400"/>
            <a:ext cx="2538360" cy="9169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singular for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“matrices” is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MAY-trih-see”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781680" y="76320"/>
            <a:ext cx="231804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107560" y="3505320"/>
            <a:ext cx="947160" cy="8240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n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229600" y="3200040"/>
            <a:ext cx="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15D-8F47-4587-90B1-AD8190F3A8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47C4D-C901-438F-BEDD-C1D51A10C2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of Matr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ns of applications, inclu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lving systems of linear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uter Graphics, Image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dels within many areas of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utational Science &amp;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antum Mechanics, Quantum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ny, many mo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9EB-2EBC-447A-A0D9-F80BEABFCE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8108D-E8E3-415D-BBB5-D9837AF95D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rix E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tric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considered equal iff they have the same number of rows, the same number of columns, and all their corresponding elements are eq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981080" y="4191120"/>
                <a:ext cx="4680000" cy="14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795-CB67-4C55-BCC1-B3D2D17C08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372BF-8EE2-47CB-ABEB-7EFF103A54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w and Column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ws in a matrix are usually indexed 1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top to bottom.  The columns are usually indexed 1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left to right.  Elements are indexed by row, then colum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00200" y="4038480"/>
                <a:ext cx="595620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,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,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,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,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50E-D1FB-4F3E-86B6-A7766D442D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D1A96-74D3-46B4-B105-DDF301E851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rices as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f members of a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encoded as a partial fun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that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y extending the domain over whi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defined, various types of infinite and/or multidimensional matrices can be obt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BE9-BBBF-4F67-9CF4-E50CF2FF54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3C8B7-76F5-4AA0-8234-52C8742DAE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rix Su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wo matric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which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u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have the same number of rows, and the same number of column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matrix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also with the same shap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iven by adding corresponding elements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676520" y="5257800"/>
                <a:ext cx="6019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73F-B7CA-4D37-A49B-D4FD69005B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A6459-9DC1-40C5-BA30-8B23994BD2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rix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.e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the element of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ndexed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is given by the vecto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ot produc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 row of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nd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j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 column of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considered as vecto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Note: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Matrix multiplication is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commutati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447920" y="2971800"/>
                <a:ext cx="571500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ℓ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ℓ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ℓ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25F-4146-4397-90D7-CEFE57794C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A6242-5626-4BBE-A872-5ECEB19E96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2-17T21:50:54Z</dcterms:modified>
  <cp:revision>53</cp:revision>
  <dc:subject>Discrete Mathematics</dc:subject>
  <dc:title>Slides for Rosen, 5th edition</dc:title>
</cp:coreProperties>
</file>