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414C7F-D2B3-4D7F-9D55-F5739CAD1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C2C971-10F1-4F91-8561-27890437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AB9-630F-402A-BA23-42897225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DA3-EFF2-41DA-BC3A-EBE00AF4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1F3-8588-4288-BE8E-4CA81A83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A83-4F26-4823-88F4-373C4597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7B3-60D8-41D9-A674-311860E7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020-6FCD-4103-A835-C919DA2D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C75-AA84-4E3E-8B80-4EBBF40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F8C-0710-4720-BC67-D7859D1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55-D6DD-4985-A3DD-015298D5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AA5-BE21-4595-BCD4-B3C25BC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6A6-6CB0-41C7-AB14-50F3141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107-3E32-4F39-B713-1144CA0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436-29FF-46C9-AEEA-3BD639AD04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102B-A0FE-435B-BCA8-D92F45BDB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280" y="763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6 - 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60F-5CBF-4B1A-A63F-327E89235B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4F3F0-C30B-46FD-80F8-0301C60419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Proof about Fib.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0 &lt;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1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1 &lt;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ve step: Us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inciple of ind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rong induction).  Assum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lt;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0481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3400" y="2851200"/>
            <a:ext cx="20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us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cas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def’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36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11120" y="203832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22A-34CA-43A4-AD68-1535B193C4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297F2-A94E-49D6-9786-4B4111390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wer bound on Fibonacci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3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+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2 ≈ 1.618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Using strong induct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gt;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 case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3, note tha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lt; 2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4,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1+2·5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5)/4 = (3+5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/2 ≈ 2.61803 &lt; 3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ctive step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4, assum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for 3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rov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).  Note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. Thus,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)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By inductive hypothesis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gt;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So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gt;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). ■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773-FAA9-4F4C-A5F1-2B9E96B15F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FF5C-4635-439B-B0AB-32E10B9005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’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steps in Euclid’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to find gc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is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cimal digi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us, Euclid’s algorithm is linear-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me in the number of digits 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s the Fibonacci sequence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e next 2 slid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2471760" cy="32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77080" y="4572000"/>
            <a:ext cx="186804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riel L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5-18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0F2-4688-4F67-A25D-55F3402C22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074E7-0729-434A-9B6B-4ED69882D4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’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equence of division-algorithm equations used in Euclid’s al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0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0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0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+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wit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+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0 (terminat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divisions (iterations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3200400"/>
            <a:ext cx="1882800" cy="13424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gc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90360" y="5981760"/>
            <a:ext cx="339336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on next sli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D21-28ED-4F76-9544-47DB920EA3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37A8B-4E33-4988-B9F6-BE306D0725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of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2296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…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ach quoti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we have the following relations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 1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+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 divisions are used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us,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gt;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)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0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≈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)0.208 &gt;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)/5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ha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cimal digits, then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 5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≤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4BF-B0AB-4963-AF4B-B66E3C8D9E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9958A-D5F4-47EC-8FE2-678EA3611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ly Defin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finit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defined recursively, by g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mall finite set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lement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rule for constructing new element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rom previously-established element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plicitly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has no other elements but thes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EF4-EF81-42F9-9BBF-6926EBFCF3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9482A-7D0C-4F98-A83B-9F8835C89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t of All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alphab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ll strings ove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cursively defined b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≡ “”, the empty 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→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that this definition is equivalent to our old 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32480" y="2971800"/>
            <a:ext cx="7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38680" y="4724280"/>
                <a:ext cx="2514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/>
                    </m:sSup>
                    <m:r>
                      <m:t xml:space="preserve">:</m:t>
                    </m:r>
                    <m:r>
                      <m:t xml:space="preserve">≡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lim>
                    </m:limLow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91-6BB8-480C-A0B6-7C65C645A8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6CC0C-D68F-4C1B-894E-009219329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asy String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recursive definition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oncatenation of string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length </a:t>
            </a:r>
            <a:r>
              <a:rPr b="0" lang="en-US" sz="2800" spc="-1" strike="noStrike">
                <a:solidFill>
                  <a:srgbClr val="3333cc"/>
                </a:solidFill>
                <a:latin typeface="MT Extra"/>
                <a:ea typeface="MT Extra"/>
              </a:rPr>
              <a:t>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of a str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ll-formed formulae of propositional logic involving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propositional variables, and operators in {¬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→, ↔}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ll-formed arithmetic formulae involving variables, numerals, and ops in {+, −, *, ↑}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6DD-C34C-4386-B47E-EA299F5C0C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EBD47-94E6-4AF1-A6F2-365CDF31E6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ed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will be covered in more depth in chapter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iefly, a tree is a graph in which there is exactly one undirected path between each pair of nod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 undirected graph can be represented as a set of unordered pairs (call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rc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of objects call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od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the set of rooted tre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 single nod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 rooted tre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disjoint rooted trees with respective roo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 node not in any of 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’s, then another rooted tree is {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,…,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}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50C-8802-46E8-9DAC-D1DAAB136D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F7BA2-1F44-44B0-9955-9D29E04AB3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strating Rooted Tree Def’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rooted trees can be combined to form a new rooted tre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loud"/>
          <p:cNvSpPr/>
          <p:nvPr/>
        </p:nvSpPr>
        <p:spPr>
          <a:xfrm>
            <a:off x="1066680" y="4743360"/>
            <a:ext cx="1676520" cy="1123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4896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42000" y="474336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loud"/>
          <p:cNvSpPr/>
          <p:nvPr/>
        </p:nvSpPr>
        <p:spPr>
          <a:xfrm>
            <a:off x="3048120" y="4743360"/>
            <a:ext cx="1676160" cy="1123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489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3080" y="474336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loud"/>
          <p:cNvSpPr/>
          <p:nvPr/>
        </p:nvSpPr>
        <p:spPr>
          <a:xfrm>
            <a:off x="6477120" y="4743360"/>
            <a:ext cx="1676160" cy="1123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89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2080" y="474336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91160" y="27050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57040" y="3048120"/>
            <a:ext cx="251460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038480" y="3048120"/>
            <a:ext cx="53352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2819520" cy="1904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43400" y="4552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2960" y="5985000"/>
            <a:ext cx="31129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some examp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BBD-81D0-4B32-B373-95E83E5F43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1ADD7-90B5-4CBA-BE34-7537261A0A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6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§3.4-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4 slides, ~2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6D6-ED62-4E81-82AD-F0EC1272D9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EF97F-9E18-4198-AAC2-D8B04317B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case of roote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definition of EB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empty se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n extended binary tre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re disjoint EBTs, the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n EBT, wher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{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} 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≠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has roo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similarly 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2960" y="5985000"/>
            <a:ext cx="31129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some examp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DFA-AC3E-4027-8EB6-63C6936FBC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D10CD-3A2C-4A1C-82F8-6361D3581C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 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case of extended binary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definition of FB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single nod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 full binary tre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te this is different from the EBT base cas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disjoint FBTs,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{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}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has roo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similarly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ote this is the same as the EBT recursive case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n simplify it to “If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are disjoint FBTs with roots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then {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,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is an FBT.”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02960" y="5985000"/>
            <a:ext cx="31129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some examp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712-C543-4995-B5D6-57CF15B137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ACCF0-2B5C-4002-96A5-A6A010011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g something about a recursively defined object using an inductive proof whose structure mirrors the object’s defi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proble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how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(3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 (the set of positive multiples of 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CC9-7EA0-42EB-B0E6-D71C724E89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643EF-3DAD-41EF-876A-BD80BA2A9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(3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show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how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how 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3|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ductive proof.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Let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:≡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Induction over positive multiples of 3.  Base case: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3, thus 3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by def’n. of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Inductive step: Give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prove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3).  By inductive hyp.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and 3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so by def’n of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3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show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le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how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tructural inductive proof.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Let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:≡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Two cases: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3 (base case), which is i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or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recursive step).  We know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re positive, since neither rule generates negative numbers.  So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and so we know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re i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by strong inductive hypothesis.  Since 3|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3|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we have 3|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thus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640-FDD0-4B9C-9208-A9865FA095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AC4C9-2F4A-46B2-BABB-D06B57680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Algorithms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3.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definitions can be used to descri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well as functions and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A procedure to comp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: real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EBD-9E60-4E2D-8577-75610C5627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A3612-75F6-4064-9A15-647904699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iciency of Recursive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ime complexity of a recursive algorithm may depend critically on the number of recursive calls it m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pow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take lo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 if done right, but linear time if done slightly differ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sk: Compu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2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0, and 1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D89-138B-4B68-ACC2-39DC9AF93D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4AFF-4001-422F-8FEA-BFC3951A8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Exponentiation Alg.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s the fact tha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·b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that </a:t>
            </a:r>
            <a:br>
              <a:rPr sz="3200"/>
            </a:b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·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 = x·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Prove the latter theorem at hom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Return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e this algorithm takes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step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4D9-9935-4050-88C1-89E3C59FD1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AD490-7AA2-4E6D-8125-9868400A9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Exponentiation Alg.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s the fact tha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·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same signatur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is its time complex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7240" y="5257800"/>
            <a:ext cx="24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o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1E9-CC09-4C6D-9F7E-FF55F5AB7B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A20C-8E2B-46BB-A669-866E25E3D0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light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arly identical but takes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ime inste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same signatur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·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867280"/>
            <a:ext cx="58744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recursive calls made is critic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54E-1A23-4F02-AD95-D3AC6918EA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B31D4-7E25-428B-9359-60E469B556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Euclid’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e recursive algorithms are often simpler to code than iterative on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ever, they can consume more stack space, if your compiler is not smart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E2A-13AD-43A3-A368-59E7AA967D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AD6B-4919-42F6-AA6F-6300E5D65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3.4: Recurs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nduction,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members of an infinite set satisfy some predic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ving the truth of the predicate for larger members in terms of that of smaller member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ursive defin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simila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function, a predicate, a set, or a more complex structure over an infinite domain (universe of discourse)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fining the function, predicate value, set membership, or structure of larger elements in terms of those of smaller one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inductively prove properties of recursively-defined objects in a way that parallels the objects’ own recursiv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9A9-CDCC-4C72-B292-0802CA2231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43DC3-9117-4B06-A8D7-9C688D767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inea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te there is no real advantage to using recursion here, rather than just looping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loc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:=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j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ri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teger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tem to be f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Fi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 seri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t a loca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At the right item? Return it!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No locations in range? Failure!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Try rest of rang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14C-5635-4344-B1B9-E41127B27A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14AF8-3AF6-40CA-9DD8-1AB039FD2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nary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same sig}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Find location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≥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&lt;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o to halfway point.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Did we luck out?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If it’s to the left,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nary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Check that ½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If it’s to right,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Check that ½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No more items, failure.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6FA-9E58-49FE-97C8-A8B3698EFC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5208D-97C5-4D53-91FB-DD7DD5612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Fibonacci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is an efficient algorith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it polynomial-time i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additions are perform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880-2554-4354-AB62-151B0FF7F9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A6001-D98F-45DE-90AE-367E5A6710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Fibonacci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eceding procedur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form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 addition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By strong structural induction ov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based on the procedure’s own recursive definitio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ase cases: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0) performs 0 additions,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0+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= </a:t>
            </a:r>
            <a:br>
              <a:rPr sz="2000"/>
            </a:b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− 1 = 1 − 1 = 0.  Likewise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 performs 0 additions,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+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=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= 1−1 = 0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ductive step: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gt;1, by strong inductive hypothesis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)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2) do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additions respectively, and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ibonacc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adds 1 more, for a total of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+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+1 =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1 =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+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+1. ■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E23-CD64-40E7-B848-F447A31DFD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CCCC7-F450-436E-9E6B-B2EE3A27E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re efficien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F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ive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retur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F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stF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Fi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n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steps.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dF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,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471-9FB1-4861-8264-239E4478C1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6476B-F254-45E7-99DE-8E2F288408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erg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this is rough ½-way point}</a:t>
            </a:r>
            <a:br>
              <a:rPr sz="3200"/>
            </a:b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lang="en-US" sz="32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merge (next slide) takes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steps, and merge-sort takes </a:t>
            </a:r>
            <a:r>
              <a:rPr b="0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og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C4E-2E8C-4D6F-B960-1C9002578F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AF88E-9455-47DC-87FD-2576450DF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erg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orted lists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iven two sorted list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|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|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, return a sorted list of all.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, it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, it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FA3-017E-48C7-89D3-C8EB209AF6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00137-F707-46AF-899B-26A013F057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 Rout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orted lists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pty lis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  {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is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&lt; 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1800" y="556272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kes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+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)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C00-74EA-4F9D-9083-BCEE06BE96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09BDE-A560-4133-9AA3-36BE56783B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general term for the practice of defining an object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sel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 of part of itself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may seem circular, but it isn’t necessaril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uctive proof establishes the tru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recursi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other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940-FD91-43C8-BFE4-E3CE91F800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998DC-5D82-4B4B-8998-10B575F12D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ly Defin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case: One way to define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or any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 ser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fin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0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0, defin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in term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0),…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fine the ser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ursive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0, 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611-D3F0-4754-B064-B60820BB3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B6A24-8BEC-4ED5-9FC9-9387E59CFD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ursively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0)=3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(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1)=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+3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values of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1)=  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2)=   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3)=     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4)=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2280" y="46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5760" y="4681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3040" y="4695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16200" y="4695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523-E529-466D-8BDF-55E94EF0F9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4FADB-A04B-4F65-9691-04756C85CE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finition of 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an inductive (recursive) definition of the factorial func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∏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≤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 case: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0) 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cursive part: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1)=1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2)=2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3)=6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84F-816F-4760-BB28-21C904F0B0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2D986-2C34-45D7-A997-E5490DD4CA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asy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recursive definition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teger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atural) using only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1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eal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atural) using only addi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eal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atural) using only multipl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∑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≤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≤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for an arbitrary series of numbers {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∏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≤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≤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for an arbitrary series of numbers {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∩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≤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≤n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for an arbitrary series of sets {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458-96DA-4172-BEDD-E5A52A93C0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D37CE-7718-4C69-8768-F0F760A1E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bonacci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bonacci 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amous series defined b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0,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≡ 1,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≡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467480" y="3886200"/>
            <a:ext cx="1505160" cy="1782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104960" y="5715000"/>
            <a:ext cx="202032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onardo Fibonac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70-1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13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31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7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6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226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2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28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288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6680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6680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26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5264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90840" y="46195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2520" y="461952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5400" y="500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7440" y="50007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43080" y="537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3722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9D4-9147-4B7A-98F8-BB69F489BA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8B881-7B0D-474B-9C79-FA5948A72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04T17:35:32Z</dcterms:modified>
  <cp:revision>54</cp:revision>
  <dc:subject>Discrete Mathematics</dc:subject>
  <dc:title>Slides for Rosen, 5th edition</dc:title>
</cp:coreProperties>
</file>