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WHOOS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C21F6E8-DC1B-48A6-B1F8-5FFA3D0CC0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2880" y="71280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36F2A59-7D86-4B98-ACC6-82FAB243F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about organization: Since different courses have different lengths of lecture periods, and different instructors go at different paces, rather than dividing the material up into fixed-length lectures, we will divide it up into “modules” which correspond to major topic areas and will generally take 1-3 lectures to cover.  Within modules, we have smaller “topics”.  Within topics are individual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0EB-5663-4C90-A8D9-BAEF796F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17708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549-CADD-4218-9258-1158DE5B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8288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1770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41770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0BF0-AB9B-4860-819E-E6106364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8288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8288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1770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41770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41770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43CC-959F-4BF0-93D5-9874D67C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835-4C34-4EF7-8187-C45E4FED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D73-AE5B-4BC7-A248-60766998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8288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52D-4EA5-4D85-9542-2893FE73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52E1-AFBB-499A-B7B0-11E9F2CD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479-9E15-4329-A3B1-06E0EECF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8288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1770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369-699A-4889-8601-1B50C451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8288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41770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DA5-B590-4FBD-8E7C-5D504317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8288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7708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E6B-0A97-499C-937B-73D195CC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828800"/>
            <a:ext cx="8686800" cy="4495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7128-10DC-44A9-84F1-D72C2B06B77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A7B0-7EA8-4ED6-BBA5-F5FDCEA36D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1280" y="76320"/>
            <a:ext cx="27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ule #12 - S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Florid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. of Computer &amp; Information Science &amp; Engineering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31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 of Discrete Structur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chael P. F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s for a Course Based on the Text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crete Mathematics &amp; Its Appl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ditio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Kenneth H. R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3209-0EF9-4B36-A45D-65728A89994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D9DA4-7A6B-4704-91BF-29C2EA6145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s, more form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57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finite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.e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trin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ver alphabet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any sequenc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symbols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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ormally indexed b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{0}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symbols, the strin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also be writte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bc…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.e.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without comm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string an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y string, the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jus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s simply the string consisting of the symbols i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in sequence, followed by the symbols i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in sequence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882-68DA-451A-8404-F8682DAB57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4F7DD-197E-489E-A985-E9D90EB09F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Common String No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763120" cy="4648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ngth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finite string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ts number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ts number of index value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inite string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notes the concatenation o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pies o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“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s the empty string, the string of length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s is fairly common, but the book uses </a:t>
            </a:r>
            <a:r>
              <a:rPr b="0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nstead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alphabet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is a string over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of length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and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is a finite string over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857C-7C7A-447A-9233-BF3A8189DDA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32699-5403-4006-A8E0-773A634F89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e #12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q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§3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9 slides, ~½ l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DB30-AAF1-4F88-BBE2-006681F363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F26A8-DC1E-4D0F-B9CA-7F61A088FC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§3.2: Sequences, Strings, &amp; Summ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495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ri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just like an order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uple, excep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ach element in the series has an associated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nde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number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sequence or series may be infinite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some fini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mm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mpact notation for the sum of all terms in a (possibly infinite) s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F8D-ABC0-4039-890F-19AF9045A6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C6BD6-8B34-4F4A-937C-2E7480A0E5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15400" cy="510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dentified with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nerating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ome subse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or some 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ften we hav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{0}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quences may also be generalized to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ndexed se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in which the se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oe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e to be a subset 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or general indexed sets,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may not even be a set of numbers at all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generating function for a serie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for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seque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nde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  (Or, ofte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 used.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ries is sometimes denoted by listing its first and/or last few elements, and using ellipsis (…)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} = 0, 1, 4, 9, 16, 25, 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” is taken to mean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F0B-AFEA-4CD9-8E30-034AFFBE86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4D964-C345-4F45-93F5-876D88B1B1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495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uthors write “the sequenc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stead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o ensure that the set of indices is clea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e careful:  Our book often leaves the indices ambiguou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 of an infinite s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nsider the serie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)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= 1/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n, we hav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 = 1, 1/2, 1/3, …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A774-2174-4238-96A9-D2F3B85F0A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DCD80-0989-4EAA-AC50-4CED794F24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with Repet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495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tuples, but unlike sets, a sequence may conta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pe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ances of an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sequenc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b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ote that 0 is an index) wher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us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 1,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, 1,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, …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ote repetitions! 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denotes an infinite sequence of 1’s 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’s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the 2-element se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{1,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BAF-7E2F-47BA-9872-F32362038A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F3705-F506-4516-9B4E-9850D74CE0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gnizing 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763120" cy="457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, you’re given the first few terms of a sequen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d you are asked to find the sequence’s generating function,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r a procedure to enumerate the sequence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What’s the next nu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,2,3,4,…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,3,5,7,9,…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,3,5,7,11,...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0640" y="464724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(the 5th smallest number &gt;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0640" y="5180400"/>
            <a:ext cx="46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(the 6th smallest odd number &gt;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98840" y="571392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 (the 6th smallest prime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47F-15AD-4F09-8B46-80690F305B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BF5E7-1B5E-4381-BC7E-E2C1F9CAAC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rouble with Sequence Recog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648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know, these problems are popular on IQ tests, bu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lem of finding “the” generating function given just an initial subsequenc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a mathematically well defined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is is because there a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finitely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ny computable functions that will generat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given initial subsequenc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mplicitly are supposed to fin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mple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function (because this one is assumed to be most likely), bu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are we to objectively define th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implicit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of a function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ight define simplicity as the reciprocal of complexity, bu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an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different plausible, competing definitions of complexity, and this is an active research area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se questions really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ive right answ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ill, we will ask you to answer them anyway… (Because others will too.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5D6-B9CD-44C8-ABC0-127562DE4B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5E190-8176-4C02-8FCE-9916C36D9F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trings, Real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57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book says “finite sequences of the form </a:t>
            </a:r>
            <a:br>
              <a:rPr sz="3200"/>
            </a:b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nfinit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strings are also discussed sometime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 are normally restricted to sequences composed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rawn from a fini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are often indexed from 0 o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t these are really arbitrary restrictions also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her way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a (finite) string is just its number of terms (or of distinct indic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35C-FD9A-4B93-B8FD-4633029201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5D880-168C-4462-86B2-27BD4981FF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1:48:20Z</dcterms:created>
  <dc:creator>Michael P. Frank</dc:creator>
  <dc:description>Slides developed at the University of Florida
for course COT3100, Applications of
Discrete Structures, Spring 2001 &amp; 2003.</dc:description>
  <dc:language>en-US</dc:language>
  <cp:lastModifiedBy>Michael P. Frank</cp:lastModifiedBy>
  <dcterms:modified xsi:type="dcterms:W3CDTF">2004-02-12T19:54:49Z</dcterms:modified>
  <cp:revision>40</cp:revision>
  <dc:subject>Discrete Mathematics</dc:subject>
  <dc:title>Slides for Rosen, 5th edition</dc:title>
</cp:coreProperties>
</file>