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06D361-CEDB-410F-8467-1E15DE5A9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E4C468-232A-4100-9918-6C91743B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rove these from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649-8F5D-47B5-BAF6-9862A305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DC4-2E85-4596-86C7-97BF651A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7B2-2611-488A-9952-8D42E902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373-EFDD-4669-8181-7AC0054D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BE6-E728-415C-B73D-F167762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3E2-5018-42CA-872C-04553298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838-AEA7-4BCA-BE36-A6A1260C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555-0929-4C7E-AC02-3C913DC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16E-609F-4241-9F05-008C67A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1F0-E8F9-412E-B31F-568A1EF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031-6613-4122-BAAF-CB2F1AF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231-3336-4CEA-8032-BC262D1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BB7A-4CB0-4D7B-A38C-0F5A5D9A2CC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A672-59CC-40B9-AF6D-9C230EB61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320" y="76320"/>
            <a:ext cx="33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5 – Inductive 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7C4-58B5-4ABA-BCCD-EFC0BECD2C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4F9AC-4A13-4F52-BE72-A84C4F268C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on Example (1st princ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sum of the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 positive integer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at is, prov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by i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 case: L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1.  The sum of the first 1 odd positive integer is 1 which equals 1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14600" y="2895480"/>
                <a:ext cx="37544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: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 rot="16200000">
            <a:off x="4800600" y="281916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400" y="4190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178-961D-4F22-8907-F44BAD8CE7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DB8E0-CD80-4817-BAE1-8C6DB993E3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tive step: Prov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, assu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nd prov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23880" y="3048120"/>
                <a:ext cx="609624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352680" y="3048120"/>
            <a:ext cx="1905120" cy="12189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267080"/>
            <a:ext cx="457200" cy="609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895480" y="4038480"/>
            <a:ext cx="685800" cy="380880"/>
          </a:xfrm>
          <a:custGeom>
            <a:avLst/>
            <a:gdLst>
              <a:gd name="textAreaLeft" fmla="*/ 119880 w 685800"/>
              <a:gd name="textAreaRight" fmla="*/ 497160 w 6858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09720" y="411336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y inductive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ypothesis P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43D-52F6-410A-952E-DD822DE86B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FB580-10B9-410A-9E44-38D8CE78C6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Induc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 case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1)=(1&lt;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(1&lt;2)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ctive step: 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0, prov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ssuming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, prov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 &lt;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o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1 &lt;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(by inductive hypothesis)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becaus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&lt;2=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1 &lt;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, and we’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612-05E3-4E66-83DD-943D445716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53D86-6BAC-4D5F-AA5B-F2D9CC345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Second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 can be written as a produ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me seri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me numb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=“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has that proper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cas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,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ctive step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ssume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If it’s prime,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1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 we hav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product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2852640"/>
            <a:ext cx="385560" cy="424080"/>
          </a:xfrm>
          <a:custGeom>
            <a:avLst/>
            <a:gdLst/>
            <a:ahLst/>
            <a:rect l="l" t="t" r="r" b="b"/>
            <a:pathLst>
              <a:path w="243" h="267">
                <a:moveTo>
                  <a:pt x="0" y="235"/>
                </a:moveTo>
                <a:cubicBezTo>
                  <a:pt x="14" y="242"/>
                  <a:pt x="28" y="249"/>
                  <a:pt x="42" y="256"/>
                </a:cubicBezTo>
                <a:cubicBezTo>
                  <a:pt x="49" y="260"/>
                  <a:pt x="64" y="267"/>
                  <a:pt x="64" y="267"/>
                </a:cubicBezTo>
                <a:cubicBezTo>
                  <a:pt x="116" y="260"/>
                  <a:pt x="152" y="258"/>
                  <a:pt x="196" y="235"/>
                </a:cubicBezTo>
                <a:cubicBezTo>
                  <a:pt x="202" y="208"/>
                  <a:pt x="220" y="202"/>
                  <a:pt x="233" y="177"/>
                </a:cubicBezTo>
                <a:cubicBezTo>
                  <a:pt x="236" y="163"/>
                  <a:pt x="243" y="149"/>
                  <a:pt x="243" y="135"/>
                </a:cubicBezTo>
                <a:cubicBezTo>
                  <a:pt x="243" y="101"/>
                  <a:pt x="233" y="0"/>
                  <a:pt x="233" y="3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88C-70D6-4A7B-8C7D-E3C8FF04CA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FA792-94BD-408D-A6EC-2D9DA3CCC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2nd Princip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every amount of postage of 12 cents or more can be formed using just 4-cent and 5-cent stamps.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ca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=3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=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)+1(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4=1(4)+2(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5=3(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5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ctive ste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sume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Not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add a 4-cent stamp to get postage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4F3-4A37-48CC-AC7C-C761CCFF06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C986F-1946-40D3-B39C-63F791E93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thod of Infinite Des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prov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alse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of a converse to the principle of 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 first tha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sically, “For ever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ere is a smalle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by the well-ordering property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kn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ically, “If there is a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ere is a smalles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se are contradictory unle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at is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¬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ere is n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455-CCB0-4FBB-87A2-FDCC18EFAB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F9F02-D3BC-438B-8867-DAE76E7849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inite Descen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rra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uppos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ational, the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le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173320" y="3517920"/>
                <a:ext cx="4379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∴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∴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4421160"/>
                <a:ext cx="7391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66680" y="5181480"/>
                <a:ext cx="69343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∴</m:t>
                    </m:r>
                    <m:r>
                      <m:t xml:space="preserve">1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∴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∴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F4B-1C46-47BF-8BF9-9C9A9DF9D5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AE2C9-8327-41C7-959B-1D467EDB0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5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uctive Proo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1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40D-D06B-47F0-A7D8-9BF0FC5016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DD8DB-6540-42DF-B96F-1D2890150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3.3: Mathematic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werful, rigorous technique for proving that a predic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ru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matter how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sentially a “domino effect”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ased on a predicate-logic inference rule: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0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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7150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81464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irst Principl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Mathematic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u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40B-8195-43F3-A13F-80E37E39CC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1FCB5-4E72-49F4-9910-BD7FE3EF7A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Domino Effec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352440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50745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45580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40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420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018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183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60824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196400">
            <a:off x="7336080" y="152316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mise #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mino #0 f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mise #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 every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f domino #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falls, then so does domino #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l of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dominoes fall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160" y="4114800"/>
            <a:ext cx="222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work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ven if ther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e infinitely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ny domino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064-CD5F-447F-A6B1-D8555AD002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4BE7B-1202-4ABB-AA16-397A091A52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ity of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valid consequent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tecedent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vially implies that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0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2)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Repeatedly applying the hypothetical syllogism rule to adjacent implications in this li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imes then gives u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0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which together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) (antecedent #1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us pone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 Thu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3D0-4502-474E-84AA-B4299601A1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695BB-D89B-4A1F-83A3-4C95942D8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ell-Ordering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prove the validity of the inductive inference rule is by using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ll-ordering prope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y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 non-empty set of non-negative integers has a minimum (smallest)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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mplies that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 (if non-empty) has a min. el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n the assumption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)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be contradic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74E-C36B-40DF-A023-091E5E15C0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3A182-4B3A-4F4B-B7E9-17EE72BC43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an Inductive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us say we want to prov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o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se ca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sis ste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 Prov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0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o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ductive ste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Prove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you could use a direct proof,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, assum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 (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inductive hypothesi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ow, under this assumption, prov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inductive inference rule then gives u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162-8962-4389-822C-F90C5B82B9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FCEE8-4C79-473C-BB3E-486A27D768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izing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can also be used to prov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given consta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may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 this circumstance, the base case is to pro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rather tha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0), and the inductive step is to prove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)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tion can also be used to prov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ny arbitrary series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duce these to the form already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A9C-E492-460F-A72A-EC615BD986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A8E67-E666-4D84-924D-6307435C0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Principle of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another inference rule: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0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: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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difference between this and the 1st principle i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inductive step here makes use of the stronger hypothesis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rue 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maller number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&lt;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ot just 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35053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352680" y="182844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57240" y="2513520"/>
            <a:ext cx="37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rue i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previous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16720" y="1571760"/>
            <a:ext cx="33246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k.a. “Strong Indu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531-DA33-4D38-963B-CA78E5B541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FDD02-CF5D-4F8F-B061-E7844056F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2-24T22:00:29Z</dcterms:modified>
  <cp:revision>53</cp:revision>
  <dc:subject>Discrete Mathematics</dc:subject>
  <dc:title>Slides for Rosen, 5th edition</dc:title>
</cp:coreProperties>
</file>