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PPLAUSE.WAV" ContentType="audio/x-wav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D7E18FB-4D81-47E3-8E65-C7E5FA434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BF183E-2EB9-4A06-9E26-8E49304BE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DAD-849C-4150-8DEA-7B3B0A07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389-DD49-4F88-A9A3-9A5867C0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77F-D16C-45DE-8571-6F877C31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46B-3051-474A-9183-C325285F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CED-6C79-4F72-8696-0A13C087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E9C-275C-4674-B6FD-A1CFE0DA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170-5593-47B4-897B-F0B73A2D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0D0-646F-4343-9C89-3CFE5090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E1B-F5B5-49B2-A025-65DCE916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FC8-9DEE-4384-9FFF-33451CBA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C8C-FBF5-440A-8B05-AC727BB1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E01-C389-4733-978D-C433F3AA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FF2F-50BF-4480-ADFA-36340AF6D55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620-326F-40BD-83BB-287C42D1E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040" y="7632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6 – Orders of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C26-3D88-4609-AA5A-EFF4CDEF34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9DAB9-D4E0-47F6-AA66-FD8D4B1C4B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3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8 isn’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w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n’t ev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than 3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ry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ss th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 to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right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=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105520" y="2286000"/>
            <a:ext cx="2057400" cy="3200400"/>
            <a:chOff x="5105520" y="2286000"/>
            <a:chExt cx="2057400" cy="3200400"/>
          </a:xfrm>
        </p:grpSpPr>
        <p:sp>
          <p:nvSpPr>
            <p:cNvPr id="79" name=""/>
            <p:cNvSpPr/>
            <p:nvPr/>
          </p:nvSpPr>
          <p:spPr>
            <a:xfrm>
              <a:off x="5105520" y="2286000"/>
              <a:ext cx="2057400" cy="3200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105520" y="2286000"/>
              <a:ext cx="0" cy="3200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33240" y="4951800"/>
              <a:ext cx="132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&gt;k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8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-O example, graph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67080" y="228600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54864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267080" y="2285640"/>
            <a:ext cx="221004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02840" y="548532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2710080" y="3790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of 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267080" y="3962160"/>
            <a:ext cx="2819520" cy="15238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1200" y="403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25898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267080" y="2208240"/>
            <a:ext cx="1905120" cy="3278160"/>
            <a:chOff x="4267080" y="2208240"/>
            <a:chExt cx="1905120" cy="3278160"/>
          </a:xfrm>
        </p:grpSpPr>
        <p:sp>
          <p:nvSpPr>
            <p:cNvPr id="92" name=""/>
            <p:cNvSpPr/>
            <p:nvPr/>
          </p:nvSpPr>
          <p:spPr>
            <a:xfrm flipV="1">
              <a:off x="4267080" y="2286000"/>
              <a:ext cx="1905120" cy="3200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29200" y="2208240"/>
              <a:ext cx="99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cn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238880" y="3557160"/>
            <a:ext cx="1447920" cy="119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8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6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EC7-AABB-467B-9668-384705CB91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90FFC-F5F5-407E-A8EE-C33A530BD9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ful Facts about Big 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O, as a relation, is transitive: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with constant multiples, roots, and logs..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) &amp; consta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(lo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l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s of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E1A-52C2-4022-A243-7EF298B6A7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54930-6480-4057-9A80-7DDCD6786D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ig-O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,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+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= O(max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= 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i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        (Very useful!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D72-0384-4D06-A299-517D1D6B27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90620-5AEA-416E-8FDF-F636840FB8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s of Growth (§1.8) - So F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 most order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|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|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ften, one deals only with positive functions and can ignore absolute value symbol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” often written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latter form is an instance of a more general convention..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C9A-E3F7-42B2-8E3D-EB3EF49E9F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E5636-AA5D-433D-AC8E-E0B0729985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-of-Growth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” when used as a term in an arithmetic expression means: “som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” means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us some function that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ly, you can think of any such expression as denot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function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702-5376-409E-8190-BA13DF4764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05B31-4138-441E-8451-B87580F903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of Growth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rder-of-growth expressions corresponding to the sets of func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espective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he “equation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lly mea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simp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ea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35B-8CEB-4D8A-9BA1-33F98A2419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B073C-AB54-49EE-8BC8-0F4C2151A8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ful Facts about Big 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,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consta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f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;             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.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+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;     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. 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+x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,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der 1), t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|f|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-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;          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log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|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|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 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.  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=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                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3 = O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AA9-A390-4F9D-9273-F1DCE7F06DC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1FE89-DD28-4350-8244-1D90CBA911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xactly order 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), then we say “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g and f are of the same order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” or “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f is (exactly) order 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” and write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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, equivalent definition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0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|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|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|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erywhere beyond some poi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es in between two multiples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.”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8D4-E035-4D36-AD29-E50918CA5C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A29C4-B068-4CB4-BBA7-AE2E8834B3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like rules for O( ), exce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,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 &amp; consta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          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Same as with O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l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Unlike O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|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1-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       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Unlike with O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log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|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       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Unlike with 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s in the latter two cases we say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ictly of lower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344-B950-40D9-B60E-8A9066D8D2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FA6D3-6B83-4D19-823D-B6A624F793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e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95680" y="2057400"/>
                <a:ext cx="2205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i</m:t>
                            </m:r>
                          </m:e>
                        </m:nary>
                      </m:e>
                    </m:d>
                    <m:limUpp>
                      <m:e>
                        <m:r>
                          <m:t xml:space="preserve">∈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t xml:space="preserve">Θ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663560" y="3110040"/>
                <a:ext cx="2890800" cy="28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200400" y="3429000"/>
            <a:ext cx="914400" cy="1371600"/>
            <a:chOff x="3200400" y="3429000"/>
            <a:chExt cx="914400" cy="1371600"/>
          </a:xfrm>
        </p:grpSpPr>
        <p:sp>
          <p:nvSpPr>
            <p:cNvPr id="116" name=""/>
            <p:cNvSpPr/>
            <p:nvPr/>
          </p:nvSpPr>
          <p:spPr>
            <a:xfrm>
              <a:off x="3200400" y="3429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4267080"/>
              <a:ext cx="83808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280" y="3962520"/>
              <a:ext cx="763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276720" y="4267080"/>
            <a:ext cx="1371600" cy="1067040"/>
            <a:chOff x="3276720" y="4267080"/>
            <a:chExt cx="1371600" cy="1067040"/>
          </a:xfrm>
        </p:grpSpPr>
        <p:sp>
          <p:nvSpPr>
            <p:cNvPr id="120" name=""/>
            <p:cNvSpPr/>
            <p:nvPr/>
          </p:nvSpPr>
          <p:spPr>
            <a:xfrm>
              <a:off x="3276720" y="4267080"/>
              <a:ext cx="13716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76720" y="4876920"/>
              <a:ext cx="9144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038480" y="4724280"/>
              <a:ext cx="1526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895480" y="4876920"/>
            <a:ext cx="1295640" cy="1066680"/>
            <a:chOff x="2895480" y="4876920"/>
            <a:chExt cx="1295640" cy="1066680"/>
          </a:xfrm>
        </p:grpSpPr>
        <p:sp>
          <p:nvSpPr>
            <p:cNvPr id="124" name=""/>
            <p:cNvSpPr/>
            <p:nvPr/>
          </p:nvSpPr>
          <p:spPr>
            <a:xfrm>
              <a:off x="2895480" y="4876920"/>
              <a:ext cx="129564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5480" y="5486400"/>
              <a:ext cx="11430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885840" y="525780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9EF-5828-414B-BF54-1CBA74170A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D5EB0-D894-4225-89BC-7B243C6A20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6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ders of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2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22 slides, ~1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464-025E-461F-A795-E588C232A6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CE864-DACC-43E3-8497-5FF9CC10BD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Order-of-Growth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}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“The functions that ar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t least ord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0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&gt;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: 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| &lt; 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|}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“The functions that ar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trictly lower order than 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0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&gt;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: 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| &lt; 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|}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“The functions that ar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trictly higher order than 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A95-F9F3-40E2-936F-CB7E5191929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9BE4B-44D0-40EE-8AFA-F5A39446B0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 relations between order-of-growth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200400"/>
            <a:ext cx="6477120" cy="274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 Between th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657600"/>
            <a:ext cx="3505320" cy="190512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3657600"/>
            <a:ext cx="3504960" cy="1905120"/>
          </a:xfrm>
          <a:prstGeom prst="ellipse">
            <a:avLst/>
          </a:prstGeom>
          <a:solidFill>
            <a:srgbClr val="00ff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22920" y="270900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038480"/>
            <a:ext cx="1447560" cy="1143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038480"/>
            <a:ext cx="144792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657600"/>
            <a:ext cx="3505320" cy="1905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5040" y="309636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7000" y="311076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7560" y="4282200"/>
            <a:ext cx="10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79280" y="428220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32080" y="4282200"/>
            <a:ext cx="9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4120" y="3885120"/>
            <a:ext cx="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F5D-7215-458D-8660-40A71510EC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583EA-4D31-4471-BB05-2E1DEECB2E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that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but neither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n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56272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27432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666880" y="2819520"/>
            <a:ext cx="2743200" cy="2743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971800"/>
            <a:ext cx="2895840" cy="2692440"/>
          </a:xfrm>
          <a:custGeom>
            <a:avLst/>
            <a:gdLst/>
            <a:ahLst/>
            <a:rect l="l" t="t" r="r" b="b"/>
            <a:pathLst>
              <a:path w="1824" h="1696">
                <a:moveTo>
                  <a:pt x="0" y="1632"/>
                </a:moveTo>
                <a:cubicBezTo>
                  <a:pt x="76" y="1628"/>
                  <a:pt x="152" y="1624"/>
                  <a:pt x="192" y="1584"/>
                </a:cubicBezTo>
                <a:cubicBezTo>
                  <a:pt x="232" y="1544"/>
                  <a:pt x="224" y="1384"/>
                  <a:pt x="240" y="1392"/>
                </a:cubicBezTo>
                <a:cubicBezTo>
                  <a:pt x="256" y="1400"/>
                  <a:pt x="272" y="1656"/>
                  <a:pt x="288" y="1632"/>
                </a:cubicBezTo>
                <a:cubicBezTo>
                  <a:pt x="304" y="1608"/>
                  <a:pt x="320" y="1248"/>
                  <a:pt x="336" y="1248"/>
                </a:cubicBezTo>
                <a:cubicBezTo>
                  <a:pt x="352" y="1248"/>
                  <a:pt x="368" y="1640"/>
                  <a:pt x="384" y="1632"/>
                </a:cubicBezTo>
                <a:cubicBezTo>
                  <a:pt x="400" y="1624"/>
                  <a:pt x="416" y="1192"/>
                  <a:pt x="432" y="1200"/>
                </a:cubicBezTo>
                <a:cubicBezTo>
                  <a:pt x="448" y="1208"/>
                  <a:pt x="464" y="1696"/>
                  <a:pt x="480" y="1680"/>
                </a:cubicBezTo>
                <a:cubicBezTo>
                  <a:pt x="496" y="1664"/>
                  <a:pt x="512" y="1112"/>
                  <a:pt x="528" y="1104"/>
                </a:cubicBezTo>
                <a:cubicBezTo>
                  <a:pt x="544" y="1096"/>
                  <a:pt x="560" y="1648"/>
                  <a:pt x="576" y="1632"/>
                </a:cubicBezTo>
                <a:cubicBezTo>
                  <a:pt x="592" y="1616"/>
                  <a:pt x="600" y="1008"/>
                  <a:pt x="624" y="1008"/>
                </a:cubicBezTo>
                <a:cubicBezTo>
                  <a:pt x="648" y="1008"/>
                  <a:pt x="696" y="1656"/>
                  <a:pt x="720" y="1632"/>
                </a:cubicBezTo>
                <a:cubicBezTo>
                  <a:pt x="744" y="1608"/>
                  <a:pt x="736" y="864"/>
                  <a:pt x="768" y="864"/>
                </a:cubicBezTo>
                <a:cubicBezTo>
                  <a:pt x="800" y="864"/>
                  <a:pt x="880" y="1664"/>
                  <a:pt x="912" y="1632"/>
                </a:cubicBezTo>
                <a:cubicBezTo>
                  <a:pt x="944" y="1600"/>
                  <a:pt x="920" y="672"/>
                  <a:pt x="960" y="672"/>
                </a:cubicBezTo>
                <a:cubicBezTo>
                  <a:pt x="1000" y="672"/>
                  <a:pt x="1112" y="1672"/>
                  <a:pt x="1152" y="1632"/>
                </a:cubicBezTo>
                <a:cubicBezTo>
                  <a:pt x="1192" y="1592"/>
                  <a:pt x="1160" y="432"/>
                  <a:pt x="1200" y="432"/>
                </a:cubicBezTo>
                <a:cubicBezTo>
                  <a:pt x="1240" y="432"/>
                  <a:pt x="1352" y="1680"/>
                  <a:pt x="1392" y="1632"/>
                </a:cubicBezTo>
                <a:cubicBezTo>
                  <a:pt x="1432" y="1584"/>
                  <a:pt x="1400" y="152"/>
                  <a:pt x="1440" y="144"/>
                </a:cubicBezTo>
                <a:cubicBezTo>
                  <a:pt x="1480" y="136"/>
                  <a:pt x="1600" y="1608"/>
                  <a:pt x="1632" y="1584"/>
                </a:cubicBezTo>
                <a:cubicBezTo>
                  <a:pt x="1664" y="1560"/>
                  <a:pt x="1600" y="0"/>
                  <a:pt x="1632" y="0"/>
                </a:cubicBezTo>
                <a:cubicBezTo>
                  <a:pt x="1664" y="0"/>
                  <a:pt x="1744" y="792"/>
                  <a:pt x="1824" y="158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BD0-F6ED-4AEB-8927-75DF6D35CE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6E35A-5DFE-4111-906E-7E0212DAB8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ct Ordering of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rily let’s writ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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me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~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me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1.  Then the following are true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og lo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o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~ log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og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1/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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o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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! </a:t>
            </a:r>
            <a:r>
              <a:rPr b="0" lang="en-US" sz="3200" spc="-1" strike="noStrike">
                <a:solidFill>
                  <a:srgbClr val="ff0000"/>
                </a:solidFill>
                <a:latin typeface="MT Extra"/>
                <a:ea typeface="MT Extra"/>
              </a:rPr>
              <a:t>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865600" y="3048120"/>
                <a:ext cx="40687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≺</m:t>
                    </m:r>
                    <m:r>
                      <m:t xml:space="preserve">g</m:t>
                    </m:r>
                    <m:r>
                      <m:t xml:space="preserve">⇔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116-91A9-4CE8-B591-0FFA659692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21D95-9FF4-4482-9184-29428C34AD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Orders of Growth (§1.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s of order-of-growth set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0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 |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| &lt; 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|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0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&gt;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| &lt; 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|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O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A8B-41DE-46FB-B062-517FE393E5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D536E-4E43-4DE1-838E-7A32F3447A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s of Growth (§1.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or functions over numbers, we often need to know a rough measure of </a:t>
            </a:r>
            <a:r>
              <a:rPr b="0" i="1" lang="en-US" sz="3200" spc="-1" strike="noStrike">
                <a:solidFill>
                  <a:srgbClr val="3333ff"/>
                </a:solidFill>
                <a:latin typeface="Times New Roman"/>
              </a:rPr>
              <a:t>how fast a function grows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i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aster grow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, th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always eventually becomes larger th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n the limi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(fo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rge enoug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values o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seful in engineering for showing that one design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scales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better or worse than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FE5-1E4E-4B26-BF69-6C7C8F14C2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1B469-7F81-484E-8FF2-B9807A535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s of Growth -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ppose you are designing a web site to process user data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financial record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ppose database program A take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=30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8 microseconds to process any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records, while program B take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1 microseconds to process th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rec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Which program do you choose, knowing you’ll want to support millions of us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077320" y="5334120"/>
            <a:ext cx="1044360" cy="13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6DA-C9AE-4A05-B34E-39D8BA9748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127FD-27C0-4104-AC3A-55D0D542DB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izing Orders of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 graph, 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go to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, the fast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func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alway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ual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r one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67080" y="24379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4864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267080" y="2590560"/>
            <a:ext cx="289584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362320"/>
            <a:ext cx="1752840" cy="3047760"/>
          </a:xfrm>
          <a:custGeom>
            <a:avLst/>
            <a:gdLst/>
            <a:ahLst/>
            <a:rect l="l" t="t" r="r" b="b"/>
            <a:pathLst>
              <a:path w="1104" h="1920">
                <a:moveTo>
                  <a:pt x="0" y="1920"/>
                </a:moveTo>
                <a:cubicBezTo>
                  <a:pt x="244" y="1840"/>
                  <a:pt x="488" y="1760"/>
                  <a:pt x="672" y="1440"/>
                </a:cubicBezTo>
                <a:cubicBezTo>
                  <a:pt x="856" y="1120"/>
                  <a:pt x="980" y="560"/>
                  <a:pt x="110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61720" y="2869200"/>
            <a:ext cx="170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3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02840" y="548532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25200" y="4317120"/>
            <a:ext cx="14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2710080" y="3790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of 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6DA-3246-425F-A197-4EAF096CC6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AB7EA-838C-4470-9B4B-924861A2E8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of order of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a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=3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+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t mo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der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 is, at most, roughl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roportiona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d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 is (at most) roughly proportional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function wh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ightest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faster-growing than any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 we will introduce 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 expressing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xa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de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large numbers of user records, the exactly ord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will always take mor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3D5-6266-4859-8523-D56AF8A713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29932-EC83-41EF-A52D-74AFB89C9E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(g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rder 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y func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 most order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written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to be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 |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eyond some poi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functi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at most a consta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ime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.e.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portional to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.”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 most order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”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” all just mean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the phrase “at most” is o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C02-91C9-4D9C-AD44-5A54FF4F2D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73FF6-89E0-4168-8C64-300D9D8377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s about th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long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ist that satisfy the defin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 The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values that make the statement tru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iqu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 larger value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also wor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quired to find the smalle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s that work.  (Indeed, in some cases, there may be no smallest valu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25560" y="6219720"/>
            <a:ext cx="80766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you shoul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the values you choose d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936-0FA8-4881-AC72-775CE28486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08319-E404-4C4B-ADE9-93546A4FCF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-O” Proof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that 3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8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how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0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8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c=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31,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=8.  Assume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=8.  Then</a:t>
            </a:r>
            <a:br>
              <a:rPr sz="2400"/>
            </a:b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c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= 31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= 30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&gt; 30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+8, so 30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+8 &lt;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c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how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n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=2,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=1.  Assume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&gt;1.  Then </a:t>
            </a:r>
            <a:br>
              <a:rPr sz="2400"/>
            </a:b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= 2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+1, or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+1&lt;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7B7-CE81-469C-9A47-06E3E9758A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1C27A-3454-4E63-B024-197A6B8DB6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1-27T21:27:04Z</dcterms:modified>
  <cp:revision>42</cp:revision>
  <dc:subject>Discrete Mathematics</dc:subject>
  <dc:title>Slides for Rosen, 5th edition</dc:title>
</cp:coreProperties>
</file>