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APPLAUSE.WAV" ContentType="audio/x-wav"/>
  <Override PartName="/ppt/media/PROJCTOR.WAV" ContentType="audio/x-wav"/>
  <Override PartName="/ppt/media/CASHREG.WAV" ContentType="audio/x-wav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7654EA-7873-4B59-9640-AE43C3235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2D14A2-7862-40F9-8F9D-F71E8ADF7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algorithms first for this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C4F-E802-4B67-8EB9-C7939006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6FB-7C9A-4D42-A30F-6D1C287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662-5165-4AA2-9AD5-8256C6FB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161-BF5C-461F-BCA4-7D59C034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00B-A6BD-4EC4-AB10-76F8ABB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989-260C-471A-AE47-3B3AE3A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410-03A2-47F6-B51C-16F4EF2B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756-C6D9-4C61-9FF8-7A58AB8B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69A-B5B9-49D7-9122-B86A51D8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17D-1CE0-4954-883D-C1CF8DD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0B9-D170-455E-8C17-2251EBD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91F-214D-44A9-A141-CAD419B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5A3-007D-4B3C-B011-6B91BCFFD6A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18A-F8AB-4CFE-B16A-3DF039F18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280" y="7632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7 -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31F-D3C7-4F8F-91D7-9DBA3E231F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CF878-383F-4F9E-8CBA-34635644C2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 analysi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.c.t.c.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743200"/>
            <a:ext cx="457200" cy="2209680"/>
          </a:xfrm>
          <a:custGeom>
            <a:avLst/>
            <a:gdLst>
              <a:gd name="textAreaLeft" fmla="*/ 0 w 457200"/>
              <a:gd name="textAreaRight" fmla="*/ 16488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77240" y="286452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s f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execution of each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286000" y="5105520"/>
                <a:ext cx="50911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E52-C0C5-4ACC-903C-81528503C9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045FB-014C-4BB3-AE7F-811D64A402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 analysis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w, what is the simplest form of the exact 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order of growth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38080" y="2971800"/>
                <a:ext cx="7378920" cy="28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Θ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1900080" y="3276720"/>
            <a:ext cx="2976840" cy="1218960"/>
            <a:chOff x="1900080" y="3276720"/>
            <a:chExt cx="2976840" cy="1218960"/>
          </a:xfrm>
        </p:grpSpPr>
        <p:sp>
          <p:nvSpPr>
            <p:cNvPr id="83" name=""/>
            <p:cNvSpPr/>
            <p:nvPr/>
          </p:nvSpPr>
          <p:spPr>
            <a:xfrm>
              <a:off x="1900080" y="3728880"/>
              <a:ext cx="301680" cy="6858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971800" y="3276720"/>
              <a:ext cx="1143000" cy="1218960"/>
              <a:chOff x="2971800" y="3276720"/>
              <a:chExt cx="1143000" cy="1218960"/>
            </a:xfrm>
          </p:grpSpPr>
          <p:sp>
            <p:nvSpPr>
              <p:cNvPr id="85" name=""/>
              <p:cNvSpPr/>
              <p:nvPr/>
            </p:nvSpPr>
            <p:spPr>
              <a:xfrm>
                <a:off x="2971800" y="3276720"/>
                <a:ext cx="1143000" cy="53316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657600" y="3809880"/>
                <a:ext cx="76320" cy="685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648320" y="3733920"/>
              <a:ext cx="228600" cy="761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895480" y="3720960"/>
            <a:ext cx="5410440" cy="1613160"/>
            <a:chOff x="2895480" y="3720960"/>
            <a:chExt cx="5410440" cy="1613160"/>
          </a:xfrm>
        </p:grpSpPr>
        <p:sp>
          <p:nvSpPr>
            <p:cNvPr id="89" name=""/>
            <p:cNvSpPr/>
            <p:nvPr/>
          </p:nvSpPr>
          <p:spPr>
            <a:xfrm>
              <a:off x="2895480" y="4114800"/>
              <a:ext cx="1219320" cy="12193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520" y="3720960"/>
              <a:ext cx="3047760" cy="622440"/>
            </a:xfrm>
            <a:custGeom>
              <a:avLst/>
              <a:gdLst/>
              <a:ahLst/>
              <a:rect l="l" t="t" r="r" b="b"/>
              <a:pathLst>
                <a:path w="2256" h="392">
                  <a:moveTo>
                    <a:pt x="0" y="344"/>
                  </a:moveTo>
                  <a:cubicBezTo>
                    <a:pt x="532" y="172"/>
                    <a:pt x="1064" y="0"/>
                    <a:pt x="1440" y="8"/>
                  </a:cubicBezTo>
                  <a:cubicBezTo>
                    <a:pt x="1816" y="16"/>
                    <a:pt x="2036" y="204"/>
                    <a:pt x="2256" y="392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77120" y="4343400"/>
              <a:ext cx="1828800" cy="6858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43200" y="4419720"/>
            <a:ext cx="4724280" cy="1371600"/>
            <a:chOff x="2743200" y="4419720"/>
            <a:chExt cx="4724280" cy="1371600"/>
          </a:xfrm>
        </p:grpSpPr>
        <p:sp>
          <p:nvSpPr>
            <p:cNvPr id="93" name=""/>
            <p:cNvSpPr/>
            <p:nvPr/>
          </p:nvSpPr>
          <p:spPr>
            <a:xfrm>
              <a:off x="6553080" y="4419720"/>
              <a:ext cx="914400" cy="5331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4876920"/>
              <a:ext cx="3457440" cy="457200"/>
            </a:xfrm>
            <a:custGeom>
              <a:avLst/>
              <a:gdLst/>
              <a:ahLst/>
              <a:rect l="l" t="t" r="r" b="b"/>
              <a:pathLst>
                <a:path w="2274" h="336">
                  <a:moveTo>
                    <a:pt x="2208" y="0"/>
                  </a:moveTo>
                  <a:cubicBezTo>
                    <a:pt x="2252" y="88"/>
                    <a:pt x="2274" y="177"/>
                    <a:pt x="1968" y="192"/>
                  </a:cubicBezTo>
                  <a:cubicBezTo>
                    <a:pt x="1662" y="207"/>
                    <a:pt x="698" y="67"/>
                    <a:pt x="370" y="91"/>
                  </a:cubicBezTo>
                  <a:cubicBezTo>
                    <a:pt x="42" y="115"/>
                    <a:pt x="77" y="285"/>
                    <a:pt x="0" y="33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5257800"/>
              <a:ext cx="838080" cy="5335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43200" y="5257800"/>
            <a:ext cx="3048120" cy="622440"/>
            <a:chOff x="2743200" y="5257800"/>
            <a:chExt cx="3048120" cy="622440"/>
          </a:xfrm>
        </p:grpSpPr>
        <p:sp>
          <p:nvSpPr>
            <p:cNvPr id="97" name=""/>
            <p:cNvSpPr/>
            <p:nvPr/>
          </p:nvSpPr>
          <p:spPr>
            <a:xfrm>
              <a:off x="2743200" y="5257800"/>
              <a:ext cx="1523880" cy="5335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4800" y="5638680"/>
              <a:ext cx="1676520" cy="241560"/>
            </a:xfrm>
            <a:custGeom>
              <a:avLst/>
              <a:gdLst/>
              <a:ahLst/>
              <a:rect l="l" t="t" r="r" b="b"/>
              <a:pathLst>
                <a:path w="1056" h="152">
                  <a:moveTo>
                    <a:pt x="0" y="48"/>
                  </a:moveTo>
                  <a:cubicBezTo>
                    <a:pt x="200" y="100"/>
                    <a:pt x="400" y="152"/>
                    <a:pt x="576" y="144"/>
                  </a:cubicBezTo>
                  <a:cubicBezTo>
                    <a:pt x="752" y="136"/>
                    <a:pt x="904" y="68"/>
                    <a:pt x="1056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553080" y="5257800"/>
            <a:ext cx="990720" cy="533520"/>
          </a:xfrm>
          <a:prstGeom prst="ellipse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8C2-8ABC-4ECE-B805-6368E17DB4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28BD5-7430-4143-954D-F26439E7C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: Linear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near sear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stinct integers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E93-7BC0-47F6-8EC9-9505296163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04037-5A94-4603-996A-3D40183B36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search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orst case time complexity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est c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verage case, if item is pres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23880" y="2514600"/>
                <a:ext cx="5305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457280" y="3676680"/>
                <a:ext cx="5486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23880" y="4952880"/>
                <a:ext cx="5305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2A6-BDB9-450A-8ECB-032AA30653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5C807-9FF7-4C41-8973-2C8DD5EC3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§2.2: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ic complexity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lexity for our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hough space &amp; energy are also importan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 complexity as a function of input siz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orst-case, best-case, or average-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rders-of-growth notation to concisely summarize the growth properties of complexity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01B-917F-4E28-8583-B386CE97CA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5A64B-9B23-4E81-8686-284618E0DA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: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sear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istinct integers, sorted smallest to largest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267080"/>
            <a:ext cx="381240" cy="762120"/>
          </a:xfrm>
          <a:custGeom>
            <a:avLst/>
            <a:gdLst>
              <a:gd name="textAreaLeft" fmla="*/ 0 w 381240"/>
              <a:gd name="textAreaRight" fmla="*/ 137520 w 3812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54864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5320" y="3123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040" y="434232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5760" y="5637600"/>
            <a:ext cx="76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2920" y="2818440"/>
            <a:ext cx="463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ey question:</a:t>
            </a: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ow many loop ite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ABE-02A9-4EDB-869F-86FB2B9C84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AE7CF-A27C-4BEF-B94B-BDE92D3C16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wer of 2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range from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teration: Siz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range is cut in ~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terminates when size of range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=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the number of iterations 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lo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lo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log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an integral power of 2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complexity is still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lo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log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D6F-3F49-40B7-93D8-761528F74A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343FE-53A4-42F1-9EB8-9D4F7141CD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 for some orders of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log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arithmic (same or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log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logarith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nomial (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ial (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!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12264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st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8D0-1A44-4659-95F8-38AB5E27EC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C56C9-C550-46AE-941F-A8CD2E0F31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xity of a computatio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(the order of growth of) the complex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algorithm with the lowest order of growth of complex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olving that problem or performing that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problem of searching an ordered list ha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t most logarithmi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time complexity.  (Complexity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lo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3BF-3231-4BC0-BADC-43F85997CD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7E97C-0486-4E3C-82F9-F8C0D24D97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tabl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trac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 problem or algorithm with at most polynomial time complexity is considered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tractable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(or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feasible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tractabl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problem or algorithm that has complexity greater than polynomial is considere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tractabl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asibl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,00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technically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trac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ally very h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log log log 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echnicall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ntrac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ch cases are rare thou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AE7-9D5D-40F6-B504-0B672561B5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15660-2BC5-4267-8C19-7BF7847218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7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ic Complex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4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9AB-67AC-4CF4-BFE6-A6CAE88B7F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1F0C6-6E50-4144-AD59-C2B03268A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Ti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71840" y="1981080"/>
            <a:ext cx="24382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ime = 1 n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cond) per op, problem size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, and #ops is a fun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90480" y="1978200"/>
          <a:ext cx="5365800" cy="402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0480" y="1978200"/>
                    <a:ext cx="5365800" cy="40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497120" y="1522800"/>
            <a:ext cx="1273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5 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360" y="1599120"/>
            <a:ext cx="163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.25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7B8-B58F-4BC9-8C7D-A2C081081E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441C2-83B0-4344-8751-CFA594AAC0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solv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discovered in the 1930’s that there are problems unsolvable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r equivalently, there are undecidable yes/no questions, and uncomputable function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example: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lting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iven an arbitrary algorithm and its input, will that algorithm eventually halt, or will it continue forever in an “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finite loo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?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D47-5751-4853-966F-337C34B533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90A0E-87EC-467D-9976-05CE0A136C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lting Problem (Turing‘3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lting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first mathemat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roven to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gorithm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s it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say, it i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ncomputabl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ired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this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ogram P, given input I, eventually terminates.”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ncomputa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.e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there doe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xis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lgorithm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hat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ute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alt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correctly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ossible input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roof is thu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xistence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rollary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General impossibility of predictive analysis of arbitrary computer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21440" y="1600200"/>
            <a:ext cx="2065320" cy="28954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342200" y="4537080"/>
            <a:ext cx="143496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n Tu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2-19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6F9-0EB0-4D4F-ADC7-787439D801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57D5-95C5-4596-8716-4BA2A7F259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ng th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bitra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,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d as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oil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a program)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alt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alt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op for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oil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oil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lts if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oil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oil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ute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182760"/>
            <a:ext cx="2286000" cy="1923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iler makes a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doi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pos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whate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edicts it will d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20080" y="1600200"/>
            <a:ext cx="565956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Undecidability of the Halt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C00-4A1C-4185-BF53-59CB544E7F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F57B2-545E-4B98-884F-3D966C23F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et of problems for which there exists a tractable algorithm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ing a proposed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ell if it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 know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but the most famous unproven conjecture in computer science is that this inclusion i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rop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, th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rather th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Whoever first proves this will be famo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4360" y="6172200"/>
            <a:ext cx="223524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disproves i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76800" y="5738760"/>
            <a:ext cx="268200" cy="146160"/>
          </a:xfrm>
          <a:custGeom>
            <a:avLst/>
            <a:gdLst/>
            <a:ahLst/>
            <a:rect l="l" t="t" r="r" b="b"/>
            <a:pathLst>
              <a:path w="169" h="92">
                <a:moveTo>
                  <a:pt x="0" y="0"/>
                </a:moveTo>
                <a:cubicBezTo>
                  <a:pt x="56" y="13"/>
                  <a:pt x="46" y="79"/>
                  <a:pt x="87" y="92"/>
                </a:cubicBezTo>
                <a:cubicBezTo>
                  <a:pt x="113" y="55"/>
                  <a:pt x="98" y="67"/>
                  <a:pt x="125" y="49"/>
                </a:cubicBezTo>
                <a:cubicBezTo>
                  <a:pt x="155" y="2"/>
                  <a:pt x="115" y="59"/>
                  <a:pt x="152" y="22"/>
                </a:cubicBezTo>
                <a:cubicBezTo>
                  <a:pt x="157" y="17"/>
                  <a:pt x="159" y="10"/>
                  <a:pt x="163" y="5"/>
                </a:cubicBezTo>
                <a:cubicBezTo>
                  <a:pt x="165" y="3"/>
                  <a:pt x="167" y="2"/>
                  <a:pt x="1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A2F-71AD-4A48-9949-02FE3E29CD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B4C6D-5BE8-47C5-9C72-930C35762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Things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 of algorithmic complexity, time complexity, worst-case time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ames of specific orders of growth of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ow to analyze the worst case, best case, or average case order of growth of time complexity for simple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C77-88FE-47AD-8BF8-B583E94C8E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4BB19-9248-47E9-B50D-093A5E0AAA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variety of different technical meanings in different research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re is a field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mplex syst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ich studies complicated, difficult-to-analyz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n-linea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haoti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atural &amp; artificia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other concept: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Informational or descriptional complexity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: The amount of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needed to completely describe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studied by Kolmogorov, Chaitin, Bennett, others…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this course, we will stud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lgorithmic or computational complex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0C8-E20C-4E89-A506-FE5E01539A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A8B7F-656F-4EC9-A3E8-F29A4106D3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2.2: Algorithmic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orithmic complex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computation is, most generally, a measure of h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ic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is to perform the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at is, it measures some aspect of 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of computation (in a general sense of “cost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mount of resources required to do a computatio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most common complexity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me” complexity: # of operations or steps requir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ace” complexity: # of memory bits req’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43000" y="5181480"/>
            <a:ext cx="7086600" cy="1219320"/>
            <a:chOff x="1143000" y="5181480"/>
            <a:chExt cx="7086600" cy="1219320"/>
          </a:xfrm>
        </p:grpSpPr>
        <p:sp>
          <p:nvSpPr>
            <p:cNvPr id="58" name=""/>
            <p:cNvSpPr/>
            <p:nvPr/>
          </p:nvSpPr>
          <p:spPr>
            <a:xfrm>
              <a:off x="1143000" y="5181480"/>
              <a:ext cx="7086600" cy="60984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676520" y="6095880"/>
              <a:ext cx="5562360" cy="3049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507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6b05c"/>
                      </a:gs>
                    </a:gsLst>
                    <a:lin ang="5400000"/>
                  </a:gradFill>
                  <a:latin typeface="Plump MT"/>
                </a:rPr>
                <a:t>Our focus</a:t>
              </a:r>
              <a:endParaRPr b="0" lang="en-US" sz="2400" spc="1" strike="noStrike">
                <a:ln w="507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6b05c"/>
                    </a:gs>
                  </a:gsLst>
                  <a:lin ang="5400000"/>
                </a:gradFill>
                <a:latin typeface="Plump MT"/>
                <a:ea typeface="Plump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AD5-D6A9-4D8B-BBA5-251B39305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81848-EA07-42F8-8B5C-BD04CE2447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esting asid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, increasingly important measure of complexity for comput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ergy complex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much total physical energy is used up (rendered unavailable) as a result of performing the computation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ttery life, electricity cost, computer overheating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ute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within power constraint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 research &amp; develop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eversibl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circuits &amp; algorithms which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eus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energy, trading off energy complexity against spacetime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CD3-54B8-4DE1-80ED-01726D878B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07B32-D19F-4547-9BDC-824D43858E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 Depends on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lgorithms have different complexities for inputs of different siz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earching a long list typically takes more time than searching a short on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complexity is usually expressed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put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function usually gives the complexity for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worst-ca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put of any given length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0DA-7A1F-4D39-878A-E147BAFD7E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5F4DE-5312-43B1-8628-F8643F056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 &amp; Orders of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se algorithm A has worst-case time complexity (w.c.t.c., or jus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for inputs of lengt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while algorithm B (for the same task) takes tim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so written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Which algorithm will be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fastes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on all sufficiently-large, worst-case inp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705720" y="411480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≻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 txBox="1"/>
          <p:nvPr/>
        </p:nvSpPr>
        <p:spPr>
          <a:xfrm>
            <a:off x="7238880" y="5105520"/>
            <a:ext cx="814680" cy="1123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C6C-52D1-4DAA-BFBC-2C108AD2A4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D88D1-2613-4637-AC39-7BF187DC0F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: Max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st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der of growth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rst-c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complexit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w.c.t.c.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, assuming that each line of code takes some constant time every time it is execute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with possibly different times for different lines of cod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F9F-E4A6-4E3E-9D26-1F2B5F2203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3C59D-B821-480C-A453-97E52923E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 analysis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rst, what’s an expression for th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xac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total worst-case tim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(Not its order of growth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0600" y="2727360"/>
            <a:ext cx="457200" cy="2209680"/>
          </a:xfrm>
          <a:custGeom>
            <a:avLst/>
            <a:gdLst>
              <a:gd name="textAreaLeft" fmla="*/ 0 w 457200"/>
              <a:gd name="textAreaRight" fmla="*/ 16488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8720" y="284868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s f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execution of each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B39-368F-4C7A-8314-24AD358505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1818-4614-45FB-ADF9-FC52A91AC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6-16T12:03:02Z</dcterms:modified>
  <cp:revision>44</cp:revision>
  <dc:subject>Discrete Mathematics</dc:subject>
  <dc:title>Slides for Rosen, 5th edition</dc:title>
</cp:coreProperties>
</file>