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56FF02-8104-4F51-91AE-454BF5791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275617-235B-4829-9951-C9E82655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04B-35A9-4F6E-970F-CEE4D781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8BB-EBE2-4915-B391-448E996D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F55-7442-40D0-9F89-01E4DFA9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3BE-7FE7-4903-A9FB-45FE8830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E44-85D6-4A58-AD66-3172294E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357-762A-4AB2-9635-FB9A2CE6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B27-5A1D-4719-8AF9-B51165D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D38-B5AE-4DA7-A31B-700B7322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83F-FDAA-4EB3-B83F-AF90F72F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634-F528-4800-91D3-9000CF9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66C-B076-46EC-8A80-D73E412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A56-E1D7-4154-9E9B-BA6CA203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A3C-C0AA-4417-AE75-C19FCFBF568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A86D-B118-41CE-BCD0-BC4CFBE44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880" y="7632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9 – Number Theor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A1D-26F4-4D11-B38C-B7A3369D81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0B260-6314-4D20-B14B-2C48006FA6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eudo-random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that are generated deterministically, but that appear random for all practical purpo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many applications,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func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ulations, games, graphic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yptographic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imple common pseudo-random number generating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inear congruential metho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ses the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mod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operator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BC7-3F81-4BBF-8472-388AADD77F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B1939-F44C-4A8F-AC27-8DE1C52452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Congruential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four natural 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odulu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ultipli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crement 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and 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ee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Where 2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 0 ≤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 0 ≤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s the pseudo-random sequence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with 0 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ia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+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work best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prime, or at least relatively p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 the method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e multiplicative gen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0CC-1C3D-4631-9C6E-244C0AE93C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1E48B-0A45-48D3-AFB3-33CE79B099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odul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000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 generate outputs in the range 0-999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incr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67 (prime), multipli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93 (also prime), s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2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e get the pseudo-random sequ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285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972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263  and so on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4724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257800" y="48006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84800" y="4441680"/>
            <a:ext cx="2830680" cy="100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alterna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 and even values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ing 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7ED-DBED-4F7E-9159-A4307AAE15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32C14-7B3F-4B64-82B5-AFC4CC90C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ypt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study of secret (coded) messages.  It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ryptograph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Methods for encrypting and decrypting secret (coded) message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ryptanalysi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– Methods for code-breaking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imple early codes inclu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esar’s cip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sociate each letter w. its position 0-25 in the alphabe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ncrypt by replacing lette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by lette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3) mod 26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crypt by replac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) mod 26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is a simple example of a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hift cipher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+k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 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neralize this to affine transforms (linear 1-1 transforms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od 26, e.g., (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) mod 2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is is still very insecure however!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AEA-2F0F-43EB-A4DF-61E97A157B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C919F-52DD-4989-B8DC-71615D8FF5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r Exponentiation Problem (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large 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ase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xponent)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odulus), efficiently comput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sel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y be completely infeasible to compute and store directl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 1,000-bit number, 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tself will have far mor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gi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an there are atoms in the universe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is is a type of calculation that is commonly required in modern cryptographic algorith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CC8-E4CC-4C19-A1B0-66DEBDDE0D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9ECA1-2C0D-4EE0-AFE6-59A57D800E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ularExponent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ositive integers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1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result will be accumulated here}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0 initially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0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go thru all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bits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495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200480" y="3352680"/>
                <a:ext cx="6526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0" y="5410080"/>
                <a:ext cx="38098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639960" y="5442120"/>
            <a:ext cx="878040" cy="471240"/>
          </a:xfrm>
          <a:custGeom>
            <a:avLst/>
            <a:gdLst/>
            <a:ahLst/>
            <a:rect l="l" t="t" r="r" b="b"/>
            <a:pathLst>
              <a:path w="553" h="297">
                <a:moveTo>
                  <a:pt x="553" y="214"/>
                </a:moveTo>
                <a:cubicBezTo>
                  <a:pt x="504" y="229"/>
                  <a:pt x="476" y="239"/>
                  <a:pt x="423" y="248"/>
                </a:cubicBezTo>
                <a:cubicBezTo>
                  <a:pt x="333" y="297"/>
                  <a:pt x="305" y="269"/>
                  <a:pt x="163" y="265"/>
                </a:cubicBezTo>
                <a:cubicBezTo>
                  <a:pt x="122" y="244"/>
                  <a:pt x="135" y="217"/>
                  <a:pt x="101" y="186"/>
                </a:cubicBezTo>
                <a:cubicBezTo>
                  <a:pt x="78" y="141"/>
                  <a:pt x="45" y="102"/>
                  <a:pt x="22" y="56"/>
                </a:cubicBezTo>
                <a:cubicBezTo>
                  <a:pt x="13" y="38"/>
                  <a:pt x="0" y="0"/>
                  <a:pt x="0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9040" y="3481560"/>
            <a:ext cx="609480" cy="5094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56160" y="5494320"/>
            <a:ext cx="3809880" cy="5335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6B3-DF23-4186-9C64-8C6692B045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EC6D8-9A54-4681-9A00-C634B11887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at Algorithm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7040" y="1582560"/>
            <a:ext cx="2587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nary expans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various powers of 2 by repeated squa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n multiply them into the partial product, or not, depending on whether the corresponding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bit is 1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cially, we can d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we go a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ecause of the various identity laws of modular arithmetic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– All the numbers stay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33720" y="2003400"/>
                <a:ext cx="53337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…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rot="5400000">
            <a:off x="6667200" y="247644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3920" y="2362320"/>
            <a:ext cx="11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5142960" y="571320"/>
            <a:ext cx="304560" cy="2971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C2A-29BA-453A-A717-9149D84174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675A2-9320-41EB-B3E3-89D649BFFF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2.6: More o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. usefu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congr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ese Remainder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arithmetic w. large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ermat’s Little Theore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Rivest-Shamir-Adleman (RSA) cryptosyste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230-AD7A-4D92-9DAD-B526F61E94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16108-FD90-4F66-AFD6-D6A777AFCD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Misc.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 0 (Eucli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gt; 0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cd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= gcd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0: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 gcd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mm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gt;0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cd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=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ma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prime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integer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the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DCA-97EF-4BF6-849A-F3431384CC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48D11-C748-4F10-ABB1-F41FF708C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Euclid’s Algorithm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 0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rst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Let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 =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u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e know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ince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follows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≤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Now,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u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′|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know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|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′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follows that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 ≤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ince we have shown that both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must be the case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24B-F695-4227-AEE3-4D02EA0906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9A0B5-9C63-48F3-94A8-B9FA42341D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9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s of Number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§2.4-2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3 slides, ~1.5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5EF-A20E-4F13-8879-3649A19221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832C0-7C0A-460D-9A6A-4D523FA529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By induction over the value of the larger argu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orem 0, we know tha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which cas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Now,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y inductive hypothesis, we can assume tha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ubstituting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is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b+v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e can regroup to ge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o now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we’re finished.  The base case is solved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orks f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=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iginally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94E-FD0F-4CF1-975F-0E03D712D0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FCCFD-D548-41AB-9580-E03A04359B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mma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cd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1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pplying theorem 1,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Multiplying through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have that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inc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, we know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obviousl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us (using the theorem on p.154), it follows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in other words,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514-08CE-4FC6-8E16-91C92FFA01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1B9B8-39CC-415A-8D4F-FCE8E03C9D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mma 2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i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is is immediate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uppose the lemma is true for all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uppos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we have it inductively.  Otherwise, we hav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¬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a multipl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no facto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no common factor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u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o by applying lemma 1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52D-9087-433A-9134-6168B63AEB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62816-0A57-429B-9437-23C496F1E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queness of Prime Factoriz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5181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prime factorization of any numbe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uniqu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equal products of two nondecreasing sequences of primes, t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ssume (without loss of generality) that all primes in common have already been divided out, so tha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 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= 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have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|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applying lemma 2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ime, it has no divisors other than itself and 1, so it must be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is contradicts the assumption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 q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resolution is that after the common primes are divided out, both lists of primes were empty, so we couldn’t pick 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In other words, the two lists must have been identical to begin with! 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9200" y="1143000"/>
            <a:ext cx="85582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hard” part of proving the Fundamental Theorem of Arithme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92D-B9AB-4E3C-8FCD-DC72CE4C43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78D8C-C627-4B40-B620-8F91A9DF0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nc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is means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Factoring the right side, we get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in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emma 1 implies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other words, that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E6A-CEDB-4DFC-817C-085604A1D3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F0566-FDE4-416A-8165-D20D68F1B3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pplication of 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have a pure-multiplicative pseudo-random number generator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using a multipli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 relatively prime to the modul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n the transition function that maps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bijectiv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ecause i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the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by theorem 2)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is in turn implies that the sequence of numbers generated cannot repeat until the original number is re-encountere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d this means that on average, we will visit a large fraction of the numbers in the range 0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−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before we begin to repeat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ntuitively, because the chance of hitting the first number in the sequence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/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so it will take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tries on average to get to it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us, the multiplie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ught to be chosen relatively prime to the modulus, to avoid repeating too soon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96B-55B1-42E6-A364-13FF497A91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1B3A3-6FE4-4272-BD1E-65DCBFDB7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Congruences, Inve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gruence of the for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congru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v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 congruence is to find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s that satisfy it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rse of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y inte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such that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1 (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we can find such a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′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notice that we can then solv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by multiplying through by it, giving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′a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′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u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·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≡a′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us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′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a unique (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ver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By theorem 1,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so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1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Sinc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0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u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an inverse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.  Theorem 2 guarantees that i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≡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us this inverse is unique mo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(All inverses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re in the same congruence class a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) ■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774-2AD1-4704-8B9E-3C9255B024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48FF2-E335-4A96-AD76-3C3AF4017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ese Remainder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Chinese remainder theorem.) 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relatively prime.  Then the system of equation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as a unique solution modul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…·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Thu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So by theorem 3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Now 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∑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0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us, the congruences hold. (Uniqueness is an exercise.) 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E87-B365-48AF-A7EB-FA603BA48A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93084-BB37-4A2B-88D8-A9745C969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 Arithmetic w. Large 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hinese Remainder Theorem, an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∏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≠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represen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residues m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erform arithmetic upon large integers represented in this wa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ply perform ops on these separate residue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ach of these might be done in a single machine op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he ops may be easily parallelized on a vector machin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ks so long a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gt; the desired resul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03D-76F3-4C2E-8A9F-28C5625FC4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B8E71-37EA-4FDF-B924-ED5D8D1E45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 Arithmeti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following numbers are relatively pr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 = 33,554,431 = 31 · 601 · 1,801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7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 = 134,217,727 = 7 · 73 · 262,657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8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 = 268,435,455 = 3 · 5 · 29 · 43 · 113 · 127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9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 = 536,870,911 = 233 · 1,103 · 2,089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 = 2,147,483,647 (prime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we can uniquely represent all numbers up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1.4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9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ir residu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these f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,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20,900,945;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8,304,504;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65,829,085;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516,865,185;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,234,980,730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two such numbers in this represen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ust add their corresponding residues using machine-native 32-bit integers. 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ke the result mod 2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: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f result is ≥ the appropriate 2</a:t>
            </a:r>
            <a:r>
              <a:rPr b="0" i="1" lang="en-US" sz="18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 value, subtract out 2</a:t>
            </a:r>
            <a:r>
              <a:rPr b="0" i="1" lang="en-US" sz="18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−1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3" marL="1519920" indent="-217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 just take the low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its and add 1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te: No carries are needed between the different pieces!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C16-AF9B-466D-BA90-3CD58248EA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BA832-CB58-43FC-AC90-FCCCC44DEB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from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2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ing Functions (hash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eudorandom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9B4-D24B-4AA4-8650-39B29DF784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8BD57-B4EC-45D7-B112-5F1E4D4EA0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eudopr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ient Chinese mathematicians noticed that whene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ime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me also claimed that the converse was tru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t turns out that the converse is 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it doesn’t follow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prim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or example, 341=11·31, but 2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340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≡1 (mod 341)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is propert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pri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re generally, 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composite, 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called a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seudoprime to the base 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A84-4834-4552-8066-5D77D51FB5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0AE4E-9E8E-42B0-91B4-BDAA7E1107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michae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sort of the “ultimate pseudoprim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michael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mpo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vely prim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mallest few a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61, 1105, 1729, 2465, 2821, 6601, 8911, 10585, 15841, 293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 so what?  Who ca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ercise for the student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o some research and find me a useful &amp; interesting application of Carmichael numbers.  (Extra credit.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4DC-3ABE-434A-8A13-336B71DE2F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D2456-53B2-4C31-95D5-F8A92B071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mat’s Littl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at generalized the ancient observation 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r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following more general theor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ermat’s Little Theorem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prime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any non-negative integer, t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urthermore, i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¬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DB9-E0CD-41F0-9D1C-7660200131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379EF-23F0-4CF0-9323-CC26C22FF8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Key Crypt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029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key crypto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same secret “key” string is used to both encode and decode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is raises the problem of how to securely communicate the key strin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key crypto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stead there are tw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e key decrypts the messages that the other one encrypt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that one key (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an be made public, while the other (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an be kept secret from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ssages to the owner can be encrypted by anyone using the public key, but ca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be decrypted by the owner using the private key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Like having a private lock-box with a slot for messages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r, the owner can encrypt a message with their private key, and then anyone can decrypt it, and know tha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nly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owner could have encrypted it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his is the basis of digital signature systems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famous public-key cryptosystem is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t is based entirely on number theory!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4CF-6033-4CA4-8010-1EABB2E68E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4351D-0245-4E63-A9D6-C86A9F3136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vest-Shamir-Adleman (R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pai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large random prime numbers, and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 exponen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at is relatively prime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sts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produc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but no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, and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 inverse o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modul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but no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tself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crypt a message encoded as an integ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u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crypt the encoded 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u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4A4-3AA1-43A0-878E-C4BE2599BF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08334-9874-4EA8-A330-6EB105AA0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(Correctness of RSA)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know tha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1 [mod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us by the definition of modular congruence,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 +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, the result of decryption is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e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M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+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)(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od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ng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divisible by ei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ch is nearly always the case whe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re very large,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ermat’s Little Theorem tells us tha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1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we have that the following two congruences ho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rst: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1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cond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1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≡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in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use the Chinese Remainder Theorem to show that therefo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he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so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mo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o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Thu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a solution to these two congruences, so (by CRT) it’s the only solution.■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229-556F-4A1F-8E6F-F34229996E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7B758-F7EC-45A5-9D3B-5F83DE4CF8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hash function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hash cod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or jus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jor 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ex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hash tabl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ata structures which support O(1)-time access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ing short unique IDs for long document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Used in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digital signatures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– the short ID can be signed, rather than the long document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A47-6FA9-4DB0-8924-FE5EBBF9B8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C40C7-1A61-42BA-9557-2C58D49747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Functio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sh functio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ap from a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 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ffective hash function should have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t should cover (b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nto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 its codomai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t should be efficient to calculate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deally, it should tak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(log |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|)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operations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cardinality of each preimage of an element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hould be about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: |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| ≈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|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hat is, elements of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B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hould be generated with roughly uniform probability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deally, the map should appear random, so that clearly “similar” elements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re not likely to map to the same (or similar) elements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more, for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h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iven an elemen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the problem of finding a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uch tha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hould have average-case time complexity of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for som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his ensures that it would take exponential time in the length of an ID for an opponent to “fake” a different document having the same ID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9D6-A7D1-42BB-A4A7-3B4008FFF9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689DD-1CF0-453B-A513-58F9480A9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Hash Using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486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 domain and codomain be the sets of all natural numbers below certain bou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i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i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n acceptable (although not great) hash function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e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li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l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has the following desirable hash function propertie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t covers or is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onto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its codomain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(its range is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Whe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li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≫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lim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, then eac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has a preimage of about the same size,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ally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| =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im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im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im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im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ever, it has the following limitation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t is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very random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f al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ncountered happen to have the same residue 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i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y will all map to the sa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t is definitely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cryptographically secur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easy to gener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that map to it: 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4" marL="1974960" indent="-2192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amely, we know that for any </a:t>
            </a:r>
            <a:r>
              <a:rPr b="0" i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b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im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086-A35E-48E9-8BA7-36A1C77A92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DEF71-4D03-49D0-8B1A-348DEEB7D2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ash table is a typ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structure often used for representing a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these 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 elemen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tored is assigned a uniqu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It identifies the element and can be easily calculated from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supports the following operations with O(1) expected (average case) tim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ooking up an element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given its key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ing a new element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to the hash tabl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eleting an element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from the hash table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isting the next element, in an enumeration of all elements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3DE-4E24-4359-938C-BE5E7A21E0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D278B-52EE-432D-9BF7-AA4D568A3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Hash Table 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e is an arra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i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locations for storing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lement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calculate ke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element}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hash the key to a storage locatio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nu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no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r empty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im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go to next loc., circularly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store it if it wasn’t ther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sired element’s key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hash it to a locatio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nu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no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r empty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im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go to next loc., circularly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90320" y="5845320"/>
            <a:ext cx="606492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What happens when the array is full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ight you fix this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556-7DB3-4214-A208-01842AD66E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792CE-DDFC-43DA-9E0D-E60B2C18A4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Signatur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10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gital signature systems use a cryptographically secure (but public)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maps arbitrarily long documents down to fixed-lengt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,024-bit) “fingerprint”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signing 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iven a docu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o sign, quickly compute its hash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ute a certain functi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 that is known only to the signer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his step is generally slow, so we don’t want to apply it to the whole document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iver the original document together with the digital signatu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 verification 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iven a docu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nd signatu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quickly fi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’s hash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ut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′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.  (Possible i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s invers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made public.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a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′; if they are equal then the signature is valid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re not cryptographically secure, then an opponent could easily forge a different docu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that hashes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reby attach someone’s digital signature to a different document than they actually signed, and fool the ver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8BB-9F05-45C8-B824-C0BC922F41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84E5F-7209-4EF0-A170-D5A84C32DD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2-05T21:01:21Z</dcterms:modified>
  <cp:revision>69</cp:revision>
  <dc:subject>Discrete Mathematics</dc:subject>
  <dc:title>Slides for Rosen, 5th edition</dc:title>
</cp:coreProperties>
</file>