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wind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70969EA-D39D-4F3D-B2AC-57CFCAF6F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2880" y="71280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6445A78-5A5C-4FDA-A961-25BD8D1EA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about organization: Since different courses have different lengths of lecture periods, and different instructors go at different paces, rather than dividing the material up into fixed-length lectures, we will divide it up into “modules” which correspond to major topic areas and will generally take 1-3 lectures to cover.  Within modules, we have smaller “topics”.  Within topics are individual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-5/2 = -15/2.  Plus 2x2=4=8/2 is -7/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or can solve the puzzle interactively by dragging the disks ar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B3E-B00A-4BCB-9831-B5E7AA3C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91AA-11E6-4D07-BDB5-308B53BE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75F9-F93E-4BB6-88DE-80AD3446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68B-B368-43EC-B76C-80DC1CF3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62B5-5FB4-4408-9628-B3313EF3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DA7F-1515-447B-86F8-0326335C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BB9-709F-44F2-98EA-AC339CAA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A94-2B67-4310-B7B3-B380CDFC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CCB-1450-455A-8770-462C0E6A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BDB-1E89-4811-9DE5-1C23BD96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699-E47B-4D75-B437-2BA7EDBE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30C-E9E6-4087-B242-DD6B71D8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F832-738A-42B1-9EFD-5BEA1AF8755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240B-A167-4CBA-8A39-40B455D1E7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1280" y="76320"/>
            <a:ext cx="28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e #20 - Re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audio" Target="../media/wind.wav"/><Relationship Id="rId16" Type="http://schemas.openxmlformats.org/officeDocument/2006/relationships/audio" Target="../media/wind.wav"/><Relationship Id="rId17" Type="http://schemas.openxmlformats.org/officeDocument/2006/relationships/audio" Target="../media/wind.wav"/><Relationship Id="rId18" Type="http://schemas.openxmlformats.org/officeDocument/2006/relationships/audio" Target="../media/wind.wav"/><Relationship Id="rId19" Type="http://schemas.openxmlformats.org/officeDocument/2006/relationships/audio" Target="../media/wind.wav"/><Relationship Id="rId20" Type="http://schemas.openxmlformats.org/officeDocument/2006/relationships/audio" Target="../media/wind.wav"/><Relationship Id="rId21" Type="http://schemas.openxmlformats.org/officeDocument/2006/relationships/audio" Target="../media/wind.wav"/><Relationship Id="rId22" Type="http://schemas.openxmlformats.org/officeDocument/2006/relationships/audio" Target="../media/wind.wav"/><Relationship Id="rId23" Type="http://schemas.openxmlformats.org/officeDocument/2006/relationships/audio" Target="../media/wind.wav"/><Relationship Id="rId24" Type="http://schemas.openxmlformats.org/officeDocument/2006/relationships/audio" Target="../media/wind.wav"/><Relationship Id="rId25" Type="http://schemas.openxmlformats.org/officeDocument/2006/relationships/audio" Target="../media/wind.wav"/><Relationship Id="rId26" Type="http://schemas.openxmlformats.org/officeDocument/2006/relationships/audio" Target="../media/wind.wav"/><Relationship Id="rId27" Type="http://schemas.openxmlformats.org/officeDocument/2006/relationships/audio" Target="../media/wind.wav"/><Relationship Id="rId28" Type="http://schemas.openxmlformats.org/officeDocument/2006/relationships/audio" Target="../media/wind.wav"/><Relationship Id="rId29" Type="http://schemas.openxmlformats.org/officeDocument/2006/relationships/audio" Target="../media/wind.wav"/><Relationship Id="rId30" Type="http://schemas.openxmlformats.org/officeDocument/2006/relationships/audio" Target="../media/wind.wav"/><Relationship Id="rId31" Type="http://schemas.openxmlformats.org/officeDocument/2006/relationships/audio" Target="../media/wind.wav"/><Relationship Id="rId32" Type="http://schemas.openxmlformats.org/officeDocument/2006/relationships/audio" Target="../media/wind.wav"/><Relationship Id="rId33" Type="http://schemas.openxmlformats.org/officeDocument/2006/relationships/slideLayout" Target="../slideLayouts/slideLayout3.xml"/><Relationship Id="rId3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Florid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. of Computer &amp; Information Science &amp; Engineering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31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 of Discrete Structur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chael P. F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s for a Course Based on the Text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crete Mathematics &amp; Its Appl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diti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Kenneth H. R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F11-8B1D-44AC-8001-45E813AC4F3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97AFA-01D6-458C-B6CF-2457A707E3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R.R.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R.R. &amp; initial conditions for the number of bit strings of leng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out two consecutive 0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solve this by breaking down the strings to be counted into cases that end in 0 and in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each ending in 0, the previous bit must be 1, and before that comes any qualifying string of length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or each string ending in 1, it starts with a qualifying string of length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(Fibonacci recurrence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initial conditions are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</a:t>
            </a:r>
            <a:r>
              <a:rPr b="0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0 and 1)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02080" y="6248520"/>
            <a:ext cx="333000" cy="459720"/>
          </a:xfrm>
          <a:prstGeom prst="rect">
            <a:avLst/>
          </a:prstGeom>
          <a:solidFill>
            <a:srgbClr val="ffffcc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54520" y="6248520"/>
            <a:ext cx="333000" cy="459720"/>
          </a:xfrm>
          <a:prstGeom prst="rect">
            <a:avLst/>
          </a:prstGeom>
          <a:solidFill>
            <a:srgbClr val="ffffcc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6248520"/>
            <a:ext cx="1447920" cy="459720"/>
          </a:xfrm>
          <a:prstGeom prst="rect">
            <a:avLst/>
          </a:prstGeom>
          <a:solidFill>
            <a:srgbClr val="ffffcc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64480" y="6248520"/>
            <a:ext cx="333000" cy="459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6248520"/>
            <a:ext cx="1828800" cy="459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1960" y="3962520"/>
            <a:ext cx="851040" cy="2539800"/>
          </a:xfrm>
          <a:custGeom>
            <a:avLst/>
            <a:gdLst/>
            <a:ahLst/>
            <a:rect l="l" t="t" r="r" b="b"/>
            <a:pathLst>
              <a:path w="536" h="1600">
                <a:moveTo>
                  <a:pt x="536" y="0"/>
                </a:moveTo>
                <a:cubicBezTo>
                  <a:pt x="324" y="192"/>
                  <a:pt x="112" y="384"/>
                  <a:pt x="56" y="624"/>
                </a:cubicBezTo>
                <a:cubicBezTo>
                  <a:pt x="0" y="864"/>
                  <a:pt x="128" y="1280"/>
                  <a:pt x="200" y="1440"/>
                </a:cubicBezTo>
                <a:cubicBezTo>
                  <a:pt x="272" y="1600"/>
                  <a:pt x="380" y="1592"/>
                  <a:pt x="488" y="1584"/>
                </a:cubicBezTo>
              </a:path>
            </a:pathLst>
          </a:custGeom>
          <a:noFill/>
          <a:ln w="57240">
            <a:solidFill>
              <a:srgbClr val="66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50320" y="4822920"/>
            <a:ext cx="882720" cy="1755720"/>
          </a:xfrm>
          <a:custGeom>
            <a:avLst/>
            <a:gdLst/>
            <a:ahLst/>
            <a:rect l="l" t="t" r="r" b="b"/>
            <a:pathLst>
              <a:path w="556" h="1106">
                <a:moveTo>
                  <a:pt x="0" y="0"/>
                </a:moveTo>
                <a:cubicBezTo>
                  <a:pt x="82" y="69"/>
                  <a:pt x="438" y="247"/>
                  <a:pt x="497" y="414"/>
                </a:cubicBezTo>
                <a:cubicBezTo>
                  <a:pt x="556" y="581"/>
                  <a:pt x="425" y="896"/>
                  <a:pt x="353" y="1001"/>
                </a:cubicBezTo>
                <a:cubicBezTo>
                  <a:pt x="281" y="1106"/>
                  <a:pt x="173" y="1076"/>
                  <a:pt x="65" y="1046"/>
                </a:cubicBezTo>
              </a:path>
            </a:pathLst>
          </a:custGeom>
          <a:noFill/>
          <a:ln w="57240">
            <a:solidFill>
              <a:srgbClr val="99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14A-DA2E-4CDC-91AF-DF61A3B223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6AF41-44AB-40C1-A1A2-8F8D172C68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t another R.R. exampl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343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a recurrence (and base cases) for the number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igit decimal strings containing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 of 0 dig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reak down into the following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y valid string of length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igits, with any digit 1-9 appended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y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vali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tring of length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igits, + a 0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9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(10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8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10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se cases: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</a:t>
            </a:r>
            <a:r>
              <a:rPr b="0" lang="el-GR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ε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9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1-9)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442D-2F09-48FE-A832-1526FC7D39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48C2C-31A0-4DB2-9088-AC93014C8F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6.2: Solving Recur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a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geneo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rrence of degree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stan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ffici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HoReCoCo”) is a rec. rel. of the for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…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th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ll real, an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≠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solution is uniquely determined i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nitial condition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re provi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50480" y="1523880"/>
            <a:ext cx="341928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Solution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06A-CA91-44A4-B8EC-BF312CC386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11459-7817-4D90-9862-C36CB7AACB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LiHoReCo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dea: Look for solutions of the form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quires solv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acteristic equ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… +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… −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lution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is equation are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 roo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LiHoReCo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y can yield an explicit formula for the sequenc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22040" y="3505320"/>
            <a:ext cx="16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rearrange</a:t>
            </a:r>
            <a:br>
              <a:rPr sz="2400"/>
            </a:b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&amp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0CF-C659-4FA8-B82E-4A9712FEF6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4576F-72B6-40CC-A5DD-55C01D6E61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2-LiHoReCo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n arbitrary 2-LiHoReCoC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the characteristic equation (C.E.)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1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 CE has 2 root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the solutions to the RR are given b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or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 and all constants 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89920" y="5867280"/>
            <a:ext cx="7297200" cy="5101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, of course, solu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048-CAA6-417D-800C-2C2FE8E1F2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263B5-1479-46D0-BD1D-95FF510858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recurrenc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iven the initial condition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Use theorem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 hav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1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characteristic equation is: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2 = 0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lve i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or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−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−1)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1840" y="4876920"/>
            <a:ext cx="1492920" cy="9169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sing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ula here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858000" y="4952880"/>
                <a:ext cx="220968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666880" y="3962520"/>
                <a:ext cx="61722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or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88E9-60E4-4E8B-8854-CC617DCEE5D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EF507-1724-42AE-BC1D-020443D00D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Continue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ust solve the equations for the initial cond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 =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−1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7 =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−1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ying, we have the pair of equations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=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 = 2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we can solve easily by substit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−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 = 2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(2−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3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= 3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−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ur final answer is: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·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(−1)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5867280"/>
            <a:ext cx="6543720" cy="648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2, 7, 11, 25, 47, 97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004C-EEB0-4F99-AD45-402677102AE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8BDBE-98A4-499C-BF9A-5BFDF4E137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Theorem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4953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tha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lways a solu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e know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w we can show the proposed sequence satisfies the recurrenc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+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omplete the proof by showing that for any initial conditions, we can find corresponding 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ut it turns out this goes through only i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≠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B097-C9C0-40C7-A03F-545CD29EC1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F27B8-E0C7-4537-93DC-9C2D68586F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se of Degenerate 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what if the C.E.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only 1 roo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2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for all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ome constants 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CC8-E8E7-4988-8495-AD1A1C5CEF2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F5E01-877F-42B2-8311-CE27636DC2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enerate Root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6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9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1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.E. is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6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9=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te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4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(−6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4·1·9 = 36−36 = 0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Therefore, there is only one root, namely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−(−6)/2 = 3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9E0A-8440-43EB-825B-2836163BDF5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F11A3-9E9C-4979-B50E-91F4963296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e #20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currence Re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§§6.1-6.3,6.5-6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29 slides, ~1.5 l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EBD-8A70-4F67-898F-C82B51F908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2D67F-F8E7-427E-9220-99E48D6231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LiHoReCo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iHoReCo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C.E.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 3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is ha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tinct root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 solutions to the recurrence are of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the </a:t>
            </a:r>
            <a:r>
              <a:rPr b="0" i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const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867280" y="2039760"/>
                <a:ext cx="228600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895480" y="2590920"/>
                <a:ext cx="25146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200400" y="4448160"/>
                <a:ext cx="19810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243-ED59-40DA-AAF0-9B58265F740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0A066-E48C-4196-B62F-C5EFAF9A0F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enerat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LiHoReCo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ere ar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ot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…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multiplicitie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…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all the </a:t>
            </a:r>
            <a:r>
              <a:rPr b="0" i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const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286000" y="2971800"/>
                <a:ext cx="380988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9BD4-8284-4113-B6A6-32B2E2F700C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21C41-4C82-4BB1-9610-797CD964A5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homogene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Rs with constant coefficients may (unlike Li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Cos) contain some term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depe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any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).  General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…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3467160" y="2857680"/>
            <a:ext cx="457200" cy="4038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1680" y="5029200"/>
            <a:ext cx="623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ssociated homogeneous recurrence relation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associated Li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H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oC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DFD-5C0C-4897-A59D-FCF1696A078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BB367-6CA8-4011-93A6-5E40376396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s of LiNoReCo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seful theorem about LiNoReCo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any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particular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solution to the LiNoReCoCo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its solutions are of the form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solution to the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ssociated homogeneous R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57600" y="3041640"/>
                <a:ext cx="35812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791320" y="5410080"/>
                <a:ext cx="20574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7EC-2807-4A2F-8A70-273BB9B1B87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DDF9C-E86C-4707-9C2E-E89BB253BC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oReCoCo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ll solutions to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Which solution ha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tice this is a 1-Li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CoCo.  Its associated 1-Li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Ho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CoCo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whose solutions are all of the form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Thus the solutions to the original problem are all of the form 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+ </a:t>
            </a:r>
            <a:r>
              <a:rPr b="0" i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So, all we need to do is find on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that work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DE5E-0247-4825-B37A-0764FAB1D7E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3D7CF-ADBC-4C40-8BF4-EECD5B74F2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 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extra term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a degree-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lynomial i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you should try a general degree-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lynomial as the particular solutio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ase: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inear so try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n+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3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)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+ 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2)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(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3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collect term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−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−3/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−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3/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s a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≥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{−5/2, −7/2, −9/2, …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17A-1FB5-4A52-819A-691F60C02B3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BE3A3-E52F-468A-9F97-0D13C1C714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a Desired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previous, we know that all general solutions to our example are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3/2 + 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this for 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given case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= −1 − 3/2 + 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11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swer i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3/2 + (11/6)3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907-1C27-4108-8260-5B4DF02A1D7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64DF3-0E4F-42A4-ADC7-E628E69F41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 Check Your Answ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the base ca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3/2 + (11/6)3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 − 3/2 + (11/6)3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= −2/2 − 3/2 + 11/2 = −5/2 + 11/2 = 6/2 = 3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the recurrence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3/2 + (11/6)3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3[−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) − 3/2 + (11/6)3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+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[−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1/2 + (11/6)3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 +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−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3/2 + (11/6)3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−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3/2 + (11/6)3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■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82D-8A33-44A5-B6CB-A29F5157DE4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EF7FF-F1E5-4978-BCA5-2838AF6F59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§6.3: Divide &amp; Conquer R.R.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types of problems are solvable by reducing a problem of siz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some number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independent subproblems, each of size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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ime complexity to solve such problems is given by a recurrence re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352760" y="5149800"/>
            <a:ext cx="4540680" cy="855720"/>
            <a:chOff x="4352760" y="5149800"/>
            <a:chExt cx="4540680" cy="855720"/>
          </a:xfrm>
        </p:grpSpPr>
        <p:sp>
          <p:nvSpPr>
            <p:cNvPr id="140" name=""/>
            <p:cNvSpPr/>
            <p:nvPr/>
          </p:nvSpPr>
          <p:spPr>
            <a:xfrm>
              <a:off x="4352760" y="5149800"/>
              <a:ext cx="762120" cy="609480"/>
            </a:xfrm>
            <a:prstGeom prst="ellipse">
              <a:avLst/>
            </a:prstGeom>
            <a:noFill/>
            <a:ln w="63360">
              <a:solidFill>
                <a:srgbClr val="3333cc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05440" y="5180040"/>
              <a:ext cx="2988000" cy="825480"/>
            </a:xfrm>
            <a:prstGeom prst="borderCallout1">
              <a:avLst>
                <a:gd name="adj1" fmla="val 18750"/>
                <a:gd name="adj2" fmla="val -8333"/>
                <a:gd name="adj3" fmla="val 34217"/>
                <a:gd name="adj4" fmla="val -26236"/>
              </a:avLst>
            </a:prstGeom>
            <a:solidFill>
              <a:srgbClr val="ffffff"/>
            </a:solidFill>
            <a:ln w="63360">
              <a:solidFill>
                <a:srgbClr val="3333cc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 to break 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p into subprobl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57200" y="5073480"/>
            <a:ext cx="3704760" cy="1188720"/>
            <a:chOff x="457200" y="5073480"/>
            <a:chExt cx="3704760" cy="1188720"/>
          </a:xfrm>
        </p:grpSpPr>
        <p:sp>
          <p:nvSpPr>
            <p:cNvPr id="143" name=""/>
            <p:cNvSpPr/>
            <p:nvPr/>
          </p:nvSpPr>
          <p:spPr>
            <a:xfrm>
              <a:off x="2790720" y="5073480"/>
              <a:ext cx="1371240" cy="685800"/>
            </a:xfrm>
            <a:prstGeom prst="ellipse">
              <a:avLst/>
            </a:prstGeom>
            <a:noFill/>
            <a:ln w="63360">
              <a:solidFill>
                <a:srgbClr val="3333cc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" y="5802480"/>
              <a:ext cx="3411720" cy="459720"/>
            </a:xfrm>
            <a:prstGeom prst="borderCallout1">
              <a:avLst>
                <a:gd name="adj1" fmla="val 18750"/>
                <a:gd name="adj2" fmla="val -8333"/>
                <a:gd name="adj3" fmla="val -34425"/>
                <a:gd name="adj4" fmla="val 104597"/>
              </a:avLst>
            </a:prstGeom>
            <a:solidFill>
              <a:srgbClr val="ffffff"/>
            </a:solidFill>
            <a:ln w="63360">
              <a:solidFill>
                <a:srgbClr val="3333cc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 for each sub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E14B-36C3-448A-9B1B-7C0F59121E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39B2C-59F0-4D7B-A9C9-F76357800C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+Conquer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nary search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duce problem to 1 sub-problem (namely, searching half of the list) (thus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f size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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/2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thus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/2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a constant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rge sor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reak list of length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2 sublists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each of size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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/2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o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sort them, then merge, i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/2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n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roughly, for som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997-8381-43A0-A685-B827F59DBBB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02DE1-5BB4-4327-844C-4253E5AED5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6.1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ce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urrence r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.R., or ju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ur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a sequenc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equation that expresse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erms of one or more previous elements 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sequenc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.e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just a recursive definition, without the base case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cular sequence (described non-recursively) is said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given recurrence relation if it is consistent with the definition of the recur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given recurrence relation may have many solution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4FA-CE53-419C-98F0-21BCC00E87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ED038-1DB2-44C0-A5BE-16845F5484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 Multiplic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inary grade-school algorithm takes 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ps to multiply two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igit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ems like too much work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find an asymptotical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st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ind the produc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w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igit base-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s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br>
              <a:rPr sz="3200"/>
            </a:b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irst, we break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half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n...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(see next sl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BBD-C5FB-4A52-B17C-B35EF27952A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E78DA-D931-45F9-9DBC-19DD4A7785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5800" y="1752480"/>
                <a:ext cx="7645320" cy="44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of Fast Multi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038480" y="2818440"/>
            <a:ext cx="4114800" cy="1144080"/>
            <a:chOff x="4038480" y="2818440"/>
            <a:chExt cx="4114800" cy="1144080"/>
          </a:xfrm>
        </p:grpSpPr>
        <p:grpSp>
          <p:nvGrpSpPr>
            <p:cNvPr id="153" name=""/>
            <p:cNvGrpSpPr/>
            <p:nvPr/>
          </p:nvGrpSpPr>
          <p:grpSpPr>
            <a:xfrm>
              <a:off x="4038480" y="3200400"/>
              <a:ext cx="4114800" cy="762120"/>
              <a:chOff x="4038480" y="3200400"/>
              <a:chExt cx="4114800" cy="762120"/>
            </a:xfrm>
          </p:grpSpPr>
          <p:sp>
            <p:nvSpPr>
              <p:cNvPr id="154" name=""/>
              <p:cNvSpPr/>
              <p:nvPr/>
            </p:nvSpPr>
            <p:spPr>
              <a:xfrm>
                <a:off x="4038480" y="3429000"/>
                <a:ext cx="1905120" cy="533520"/>
              </a:xfrm>
              <a:prstGeom prst="ellipse">
                <a:avLst/>
              </a:prstGeom>
              <a:noFill/>
              <a:ln w="6336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248520" y="3429000"/>
                <a:ext cx="1904760" cy="533520"/>
              </a:xfrm>
              <a:prstGeom prst="ellipse">
                <a:avLst/>
              </a:prstGeom>
              <a:noFill/>
              <a:ln w="6336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5791320" y="3200400"/>
                <a:ext cx="304560" cy="304920"/>
              </a:xfrm>
              <a:prstGeom prst="line">
                <a:avLst/>
              </a:prstGeom>
              <a:ln w="63360">
                <a:solidFill>
                  <a:srgbClr val="ff0000">
                    <a:alpha val="50000"/>
                  </a:srgbClr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095880" y="3200400"/>
                <a:ext cx="381240" cy="304920"/>
              </a:xfrm>
              <a:prstGeom prst="line">
                <a:avLst/>
              </a:prstGeom>
              <a:ln w="63360">
                <a:solidFill>
                  <a:srgbClr val="ff0000">
                    <a:alpha val="50000"/>
                  </a:srgbClr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5716080" y="281844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Z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196320" y="2132280"/>
            <a:ext cx="181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Multiply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lynomi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590920" y="3429000"/>
            <a:ext cx="4495680" cy="1143000"/>
            <a:chOff x="2590920" y="3429000"/>
            <a:chExt cx="4495680" cy="1143000"/>
          </a:xfrm>
        </p:grpSpPr>
        <p:sp>
          <p:nvSpPr>
            <p:cNvPr id="161" name=""/>
            <p:cNvSpPr/>
            <p:nvPr/>
          </p:nvSpPr>
          <p:spPr>
            <a:xfrm>
              <a:off x="4038480" y="3429000"/>
              <a:ext cx="838440" cy="533520"/>
            </a:xfrm>
            <a:prstGeom prst="ellipse">
              <a:avLst/>
            </a:prstGeom>
            <a:noFill/>
            <a:ln w="633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48520" y="3429000"/>
              <a:ext cx="838080" cy="533520"/>
            </a:xfrm>
            <a:prstGeom prst="ellipse">
              <a:avLst/>
            </a:prstGeom>
            <a:noFill/>
            <a:ln w="633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90920" y="3962520"/>
              <a:ext cx="838080" cy="533160"/>
            </a:xfrm>
            <a:prstGeom prst="ellipse">
              <a:avLst/>
            </a:prstGeom>
            <a:noFill/>
            <a:ln w="633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95680" y="4038480"/>
              <a:ext cx="838440" cy="533520"/>
            </a:xfrm>
            <a:prstGeom prst="ellipse">
              <a:avLst/>
            </a:prstGeom>
            <a:noFill/>
            <a:ln w="633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352320" y="3809880"/>
              <a:ext cx="685800" cy="304920"/>
            </a:xfrm>
            <a:prstGeom prst="line">
              <a:avLst/>
            </a:prstGeom>
            <a:ln w="63360">
              <a:solidFill>
                <a:srgbClr val="ff0000">
                  <a:alpha val="50000"/>
                </a:srgbClr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257440" y="3886200"/>
              <a:ext cx="1066680" cy="304920"/>
            </a:xfrm>
            <a:prstGeom prst="line">
              <a:avLst/>
            </a:prstGeom>
            <a:ln w="63360">
              <a:solidFill>
                <a:srgbClr val="ff0000">
                  <a:alpha val="50000"/>
                </a:srgbClr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305320" y="57139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Factor last te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905120" y="5105520"/>
            <a:ext cx="6676920" cy="1601640"/>
            <a:chOff x="1905120" y="5105520"/>
            <a:chExt cx="6676920" cy="1601640"/>
          </a:xfrm>
        </p:grpSpPr>
        <p:sp>
          <p:nvSpPr>
            <p:cNvPr id="169" name=""/>
            <p:cNvSpPr/>
            <p:nvPr/>
          </p:nvSpPr>
          <p:spPr>
            <a:xfrm>
              <a:off x="2590920" y="5105520"/>
              <a:ext cx="838080" cy="533160"/>
            </a:xfrm>
            <a:prstGeom prst="ellipse">
              <a:avLst/>
            </a:prstGeom>
            <a:noFill/>
            <a:ln w="633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95680" y="5105520"/>
              <a:ext cx="838440" cy="533160"/>
            </a:xfrm>
            <a:prstGeom prst="ellipse">
              <a:avLst/>
            </a:prstGeom>
            <a:noFill/>
            <a:ln w="633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05120" y="5638680"/>
              <a:ext cx="2514600" cy="533520"/>
            </a:xfrm>
            <a:prstGeom prst="ellipse">
              <a:avLst/>
            </a:prstGeom>
            <a:noFill/>
            <a:ln w="633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28920" y="6247440"/>
              <a:ext cx="6153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hree multiplications, each with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-digit numb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24280" y="5714640"/>
              <a:ext cx="76320" cy="609480"/>
            </a:xfrm>
            <a:prstGeom prst="line">
              <a:avLst/>
            </a:prstGeom>
            <a:ln w="63360">
              <a:solidFill>
                <a:srgbClr val="ff0000">
                  <a:alpha val="50000"/>
                </a:srgbClr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2895120" y="6248160"/>
              <a:ext cx="381240" cy="152280"/>
            </a:xfrm>
            <a:prstGeom prst="line">
              <a:avLst/>
            </a:prstGeom>
            <a:ln w="63360">
              <a:solidFill>
                <a:srgbClr val="ff0000">
                  <a:alpha val="50000"/>
                </a:srgbClr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3276360" y="5562720"/>
              <a:ext cx="685800" cy="838080"/>
            </a:xfrm>
            <a:prstGeom prst="line">
              <a:avLst/>
            </a:prstGeom>
            <a:ln w="63360">
              <a:solidFill>
                <a:srgbClr val="ff0000">
                  <a:alpha val="50000"/>
                </a:srgbClr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H="1">
            <a:off x="3429000" y="2743200"/>
            <a:ext cx="1905120" cy="304920"/>
          </a:xfrm>
          <a:prstGeom prst="line">
            <a:avLst/>
          </a:prstGeom>
          <a:ln w="57240">
            <a:solidFill>
              <a:srgbClr val="ff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E871-2505-40DB-A0D0-99F51BC3B4E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64213-57FA-40D8-BCC5-30934FA049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5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ce Rel. for Fast Mul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that the time complexity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fast multiplication algorithm obeys the recurr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=3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+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=3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/2)+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3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95520" y="3198600"/>
            <a:ext cx="40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ime to do the needed adds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subtracts of </a:t>
            </a:r>
            <a:r>
              <a:rPr b="0" i="1" lang="en-US" sz="2400" spc="-1" strike="noStrike">
                <a:solidFill>
                  <a:srgbClr val="3366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-digit and 2</a:t>
            </a:r>
            <a:r>
              <a:rPr b="0" i="1" lang="en-US" sz="2400" spc="-1" strike="noStrike">
                <a:solidFill>
                  <a:srgbClr val="3366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-di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numbers</a:t>
            </a:r>
            <a:r>
              <a:rPr b="0" i="1" lang="en-US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3581280"/>
            <a:ext cx="914400" cy="609840"/>
          </a:xfrm>
          <a:prstGeom prst="ellipse">
            <a:avLst/>
          </a:prstGeom>
          <a:noFill/>
          <a:ln w="63360">
            <a:solidFill>
              <a:srgbClr val="3333cc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FBC-83C0-4F65-A8E8-DF36BBD1468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D4B8B-98A2-456B-814B-FA62CD23A4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ster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 functio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, for all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isfies the recurrence re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n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teger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al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T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133720" y="4264200"/>
                <a:ext cx="4572000" cy="17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O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d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t xml:space="preserve">a</m:t>
                              </m:r>
                              <m:r>
                                <m:t xml:space="preserve">&lt;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d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O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d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d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O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log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a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t xml:space="preserve">a</m:t>
                              </m:r>
                              <m:r>
                                <m:t xml:space="preserve">&gt;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d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2438280" y="3124080"/>
            <a:ext cx="350532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75F-9F87-42B7-9B7D-A2C80218D8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CD5D3-69EC-43A1-8C50-661D710F0A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ter Theorem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complexity of fast multiply w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= 3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/2) +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3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2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So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 case 3 of the master theorem applies, 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1.58…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 the new algorithm is strictly faster than ordinary 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ltip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676520" y="4191120"/>
                <a:ext cx="472428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a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683-C50B-44D4-83D3-E958B97245A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0D6D5-958C-46E0-9EA6-88DCF2E5F3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6.4: Generating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not being covered this seme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quires the binomial theorem, fro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§4.4, which we also did not cover.  Maybe next semester…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(ordinary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serie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infinite summation that use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the coefficient of term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or all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se functions can be used to solve counting problems and recurrence relation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D1A2-B9E6-431A-8937-F7500391E84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6BB3C-5E21-490F-BC5B-503473B81C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6.5: Inclusion-Ex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this topic will have been covered out-of-order already in Module #15, Combinator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ction 6.5 contains just contains more examples and some simple generalization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for Section 6.6, applications of Inclusion-Exclusion: No slides y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ybe next semester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CB47-C906-42AE-BB51-DE8A7B90AD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CBB5B-E920-45EF-86D7-E4E7605085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6.6: Applications of Inclusion-Ex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lides ye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in this s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lternative form of Inclusion-Exclus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Sieve of Eratosthen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Number of Onto Function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rangement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84E-4B10-4EBC-BD08-F14BC6A26D3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6F04E-EB82-47C1-92CB-C22097CC1F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ce Rel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recurrence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of the following are solution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3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62720" y="3733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11680" y="48006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12040" y="4267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C95-5F29-47B2-9D85-1616913455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F472C-D474-4707-A2B2-482B5DFDBD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rence relation for growth of a bank account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% interest per given peri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100)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th of a population in which each organism yields 1 new one every period starting 2 time periods after its bi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Fibonacci rel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7DF-6CF9-449F-9907-722507B651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64C04-167B-43C3-8D0B-A13C0270EB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Compound Interest R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100)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 (1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/100)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/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3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and so on t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1E6-BFE4-4BF8-B3F5-68E9FE56DF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340B1-3E2F-414D-9063-4191E6DED2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wer of Hanoi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Get all disks from peg 1 to peg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ules: (a) Only move 1 disk at a tim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b) Never set a larger disk on a smaller on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5638680"/>
            <a:ext cx="2361960" cy="4572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5257800"/>
            <a:ext cx="1904760" cy="4572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4876920"/>
            <a:ext cx="1447560" cy="4572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4495680"/>
            <a:ext cx="990360" cy="4572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4114800"/>
            <a:ext cx="533160" cy="4572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6095880"/>
            <a:ext cx="23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6095880"/>
            <a:ext cx="23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6095880"/>
            <a:ext cx="23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D52-AF2E-4908-96BD-1894368B26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99407-9E25-4B08-A67B-55658C39BA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Motion origin="layout" path="M -0.00017 -0.00069 C 0.01406 -0.01967 0.04028 -0.15231 0.08507 -0.11435 C 0.12986 -0.07639 0.23021 0.15579 0.2684 0.22686 E">
                                      <p:cBhvr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Motion origin="layout" path="M -4.44444E-006 3.7037E-006 C 0.10764 -0.07454 0.21546 -0.14885 0.30782 -0.12014 C 0.40018 -0.09144 0.47709 0.0405 0.554 0.17268 E">
                                      <p:cBhvr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Motion origin="layout" path="M 0.2684 0.22686 C 0.31319 0.08496 0.35799 -0.05694 0.40556 -0.06597 C 0.45313 -0.075 0.5033 0.04838 0.55365 0.172 E">
                                      <p:cBhvr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Motion origin="layout" path="M 3.88889E-006 8.14815E-006 C 0.06927 -0.07569 0.13854 -0.15138 0.18333 -0.13333 C 0.22812 -0.11527 0.24826 -0.00347 0.26857 0.10857 E">
                                      <p:cBhvr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Motion origin="layout" path="M 0.55365 0.172 C 0.45938 0.07755 0.36528 -0.01666 0.27326 -0.02661 C 0.18125 -0.03657 0.09149 0.03774 0.00174 0.11204 E">
                                      <p:cBhvr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Motion origin="layout" path="M 0.554 0.17268 C 0.51546 0.05671 0.47709 -0.05903 0.42935 -0.06898 C 0.3816 -0.07894 0.32466 0.0169 0.26771 0.11273 E">
                                      <p:cBhvr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Motion origin="layout" path="M 0.00174 0.11204 C 0.05122 0.02685 0.1007 -0.05833 0.14479 -0.05926 C 0.18889 -0.06018 0.22761 0.02315 0.26632 0.10671 E">
                                      <p:cBhvr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Motion origin="layout" path="M -4.72222E-006 -4.07407E-006 C 0.08803 -0.14189 0.17605 -0.28379 0.26858 -0.27453 C 0.36112 -0.26527 0.45799 -0.10463 0.55487 0.05602 E">
                                      <p:cBhvr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Motion origin="layout" path="M 0.26632 0.10672 C 0.3217 0.03264 0.37726 -0.0412 0.42518 -0.03055 C 0.47309 -0.0199 0.51337 0.07547 0.55365 0.17084 E">
                                      <p:cBhvr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Motion origin="layout" path="M 0.26771 0.11273 C 0.22865 0.02153 0.18976 -0.06968 0.14514 -0.07037 C 0.10052 -0.07107 0.05035 0.01875 0.00018 0.10879 E">
                                      <p:cBhvr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animMotion origin="layout" path="M 0.55365 0.17199 C 0.38906 0.05579 0.23108 -0.09004 0.13889 -0.1 C 0.0467 -0.10995 0.02951 0.06783 0.00069 0.11181 E">
                                      <p:cBhvr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animMotion origin="layout" path="M 0.2684 0.11575 C 0.32222 -0.03032 0.37622 -0.17638 0.42413 -0.18495 C 0.47205 -0.19351 0.51372 -0.06435 0.55556 0.06482 E">
                                      <p:cBhvr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animMotion origin="layout" path="M 0.00174 0.11204 C 0.05399 0.00788 0.10625 -0.09606 0.15069 -0.07638 C 0.19514 -0.05671 0.23177 0.08704 0.2684 0.23079 E">
                                      <p:cBhvr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animMotion origin="layout" path="M 0.00017 0.1088 C 0.10278 -0.02662 0.20503 -0.1632 0.29722 -0.17083 C 0.38941 -0.17847 0.50017 0.01412 0.55365 0.06273 E">
                                      <p:cBhvr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.wav"/>
                                        </p:tgtEl>
                                      </p:cMediaNode>
                                    </p:audio>
                                    <p:animMotion origin="layout" path="M 0.2684 0.22685 C 0.36267 0.08635 0.45694 -0.05393 0.50469 -0.08032 C 0.55243 -0.10671 0.55347 -0.01898 0.55469 0.06875 E">
                                      <p:cBhvr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ind.wav"/>
                                        </p:tgtEl>
                                      </p:cMediaNode>
                                    </p:audio>
                                    <p:animMotion origin="layout" path="M 2.22222E-006 -4.81481E-006 C -0.01563 -0.06736 -0.03108 -0.13472 0.03715 -0.15833 C 0.10538 -0.18194 0.35243 -0.11435 0.40972 -0.1412 C 0.46701 -0.16806 0.40521 -0.29977 0.38125 -0.31898 C 0.35729 -0.33819 0.28507 -0.3088 0.26562 -0.25625 C 0.24618 -0.2037 0.25538 -0.10393 0.26458 -0.00393 E">
                                      <p:cBhvr>
                                        <p:cTn id="65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5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ind.wav"/>
                                        </p:tgtEl>
                                      </p:cMediaNode>
                                    </p:audio>
                                    <p:animMotion origin="layout" path="M 0.55469 0.06875 C 0.36042 -0.02454 0.16615 -0.11782 0.07326 -0.0919 C -0.01962 -0.06597 -0.01094 0.07917 -0.00226 0.22431 E">
                                      <p:cBhvr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ind.wav"/>
                                        </p:tgtEl>
                                      </p:cMediaNode>
                                    </p:audio>
                                    <p:animMotion origin="layout" path="M 0.55365 0.06273 C 0.44132 -0.04537 0.32899 -0.14283 0.28108 -0.13472 C 0.23316 -0.12662 0.26944 0.05995 0.26649 0.11111 E">
                                      <p:cBhvr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500"/>
                            </p:stCondLst>
                            <p:childTnLst>
                              <p:par>
                                <p:cTn id="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ind.wav"/>
                                        </p:tgtEl>
                                      </p:cMediaNode>
                                    </p:audio>
                                    <p:animMotion origin="layout" path="M -0.00226 0.22431 C 0.07778 0.09861 0.15833 -0.01574 0.20278 -0.03588 C 0.24722 -0.05602 0.25156 0.07477 0.26441 0.10394 E">
                                      <p:cBhvr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ind.wav"/>
                                        </p:tgtEl>
                                      </p:cMediaNode>
                                    </p:audio>
                                    <p:animMotion origin="layout" path="M 0.55365 0.06089 C 0.45226 -0.06805 0.35104 -0.19675 0.25851 -0.18749 C 0.16597 -0.17823 0.08229 -0.03124 -0.00139 0.11575 E">
                                      <p:cBhvr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ind.wav"/>
                                        </p:tgtEl>
                                      </p:cMediaNode>
                                    </p:audio>
                                    <p:animMotion origin="layout" path="M 0.26632 0.10672 C 0.34201 0.00232 0.41788 -0.10185 0.46632 -0.09212 C 0.51476 -0.0824 0.53559 0.04144 0.5566 0.16552 E">
                                      <p:cBhvr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ind.wav"/>
                                        </p:tgtEl>
                                      </p:cMediaNode>
                                    </p:audio>
                                    <p:animMotion origin="layout" path="M 0.2677 0.11273 C 0.15607 0.00486 0.04461 -0.10278 0.02048 -0.13958 C -0.00365 -0.17639 0.12708 -0.15046 0.12343 -0.1081 C 0.11979 -0.06574 0.05885 0.02407 -0.00191 0.11412 E">
                                      <p:cBhvr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ind.wav"/>
                                        </p:tgtEl>
                                      </p:cMediaNode>
                                    </p:audio>
                                    <p:animMotion origin="layout" path="M 0.55365 0.17199 C 0.45313 0.09468 0.35261 0.01736 0.26042 0.00718 C 0.16823 -0.00301 0.08438 0.0537 0.0007 0.11042 E">
                                      <p:cBhvr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ind.wav"/>
                                        </p:tgtEl>
                                      </p:cMediaNode>
                                    </p:audio>
                                    <p:animMotion origin="layout" path="M 0.554 0.06158 C 0.59722 -0.00648000000000001 0.64063 -0.07454 0.61788 -0.12801 C 0.59514 -0.18148 0.47657 -0.28032 0.41788 -0.2588 C 0.3592 -0.23727 0.3125 -0.11805 0.2658 0.00139 E">
                                      <p:cBhvr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ind.wav"/>
                                        </p:tgtEl>
                                      </p:cMediaNode>
                                    </p:audio>
                                    <p:animMotion origin="layout" path="M 0.00174 0.11204 C 0.06649 -0.02986 0.13142 -0.18171 0.17535 -0.18217 C 0.21927 -0.18264 0.2467 0.04861 0.26545 0.10926 E">
                                      <p:cBhvr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ind.wav"/>
                                        </p:tgtEl>
                                      </p:cMediaNode>
                                    </p:audio>
                                    <p:animMotion origin="layout" path="M 0.00017 0.1088 C 0.00226 -0.03773 0.00434 -0.18402 0.07187 -0.24305 C 0.13941 -0.30208 0.32483 -0.31273 0.40521 -0.2456 C 0.48559 -0.17847 0.51979 -0.00949 0.55417 0.15973 E">
                                      <p:cBhvr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ind.wav"/>
                                        </p:tgtEl>
                                      </p:cMediaNode>
                                    </p:audio>
                                    <p:animMotion origin="layout" path="M 0.26354 0.10139 C 0.28681 0.0669 0.35538 -0.11944 0.40365 -0.10764 C 0.45191 -0.09583 0.5026 0.0426 0.55365 0.17223 E">
                                      <p:cBhvr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ind.wav"/>
                                        </p:tgtEl>
                                      </p:cMediaNode>
                                    </p:audio>
                                    <p:animMotion origin="layout" path="M -0.00226 0.1132 C 0.00625 -0.00878999999999999 0.01493 -0.13078 0.04965 -0.17685 C 0.08438 -0.22291 0.17014 -0.19143 0.20642 -0.1625 C 0.24271 -0.13356 0.25469 -0.03634 0.26736 -0.00324 E">
                                      <p:cBhvr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ind.wav"/>
                                        </p:tgtEl>
                                      </p:cMediaNode>
                                    </p:audio>
                                    <p:animMotion origin="layout" path="M 0.55365 0.172 C 0.54931 0.00972999999999999 0.54514 -0.15254 0.45538 -0.21226 C 0.36597 -0.27199 0.09271 -0.25949 0.01632 -0.18611 C -0.06007 -0.11273 -0.03125 0.05764 -0.00226 0.22825 E">
                                      <p:cBhvr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ind.wav"/>
                                        </p:tgtEl>
                                      </p:cMediaNode>
                                    </p:audio>
                                    <p:animMotion origin="layout" path="M 0.554 0.17269 C 0.5875 0.03334 0.62118 -0.10602 0.58733 -0.15671 C 0.55348 -0.20741 0.40486 -0.15787 0.35104 -0.13171 C 0.29723 -0.10555 0.27865 -0.02176 0.26389 0.00023 E">
                                      <p:cBhvr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ind.wav"/>
                                        </p:tgtEl>
                                      </p:cMediaNode>
                                    </p:audio>
                                    <p:animMotion origin="layout" path="M -0.00226 0.22431 C -0.04757 0.12176 -0.09271 0.01945 -0.09236 -0.06064 C -0.09201 -0.14074 -0.07031 -0.21597 -0.00017 -0.25671 C 0.06997 -0.29745 0.2276 -0.31898 0.32813 -0.30509 C 0.42865 -0.2912 0.57431 -0.22245 0.60278 -0.17314 C 0.63125 -0.12384 0.53542 -0.00949 0.49878 -0.00972 C 0.46215 -0.00995 0.43194 -0.13518 0.38316 -0.1743 C 0.33438 -0.21342 0.24948 -0.26666 0.20556 -0.2449 C 0.16163 -0.22314 0.15052 -0.06574 0.11944 -0.04375 C 0.08837 -0.02176 0.02431 -0.08125 0.01944 -0.11296 C 0.01458 -0.14467 0.04896 -0.22754 0.08993 -0.23449 C 0.1309 -0.24143 0.23594 -0.19375 0.26545 -0.15486 C 0.29497 -0.11597 0.26632 -0.03379 0.26649 -0.00185 E">
                                      <p:cBhvr>
                                        <p:cTn id="11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oi Recurrence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# moves for a stack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the optimal strate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ve top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isks to spare peg.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moves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ve bottom disk. (1 move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ve top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to bottom disk.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moves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# of moves is described by a Rec. Rel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3C5-9C7F-411E-884F-CD041CD41A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B88B9-E004-464F-9762-8480BA085C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Tower of Hanoi R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(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) +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) + 2 +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2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2 +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sinc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−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390680" y="4495680"/>
                <a:ext cx="877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89C-A8BA-453C-8C15-9777A793A6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DA022-8E23-49CB-844D-08A2213FC1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1:48:20Z</dcterms:created>
  <dc:creator>Michael P. Frank</dc:creator>
  <dc:description>Slides developed at the University of Florida
for course COT3100, Applications of
Discrete Structures, Spring 2001 &amp; 2003.</dc:description>
  <dc:language>en-US</dc:language>
  <cp:lastModifiedBy>Michael P. Frank</cp:lastModifiedBy>
  <dcterms:modified xsi:type="dcterms:W3CDTF">2004-03-23T21:08:30Z</dcterms:modified>
  <cp:revision>71</cp:revision>
  <dc:subject>Discrete Mathematics</dc:subject>
  <dc:title>Slides for Rosen, 5th edition</dc:title>
</cp:coreProperties>
</file>