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80CF737-CDCF-4AB4-8168-F15C3B7A5D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D47C095-F2EE-43B4-B195-36CF5FB6D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B4E-1387-4A97-859D-95D509C7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1D8-89BE-4E46-9D07-24D8E83E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F42-738B-4728-AAFE-F6B3FCDA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C8A-CADD-476F-87BA-7DEAF174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418-3F04-4A9C-B08B-63421536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FC0-4C5C-4F52-A0CB-0D6C042C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60D-A6FE-4820-9FD6-4A388825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F45-CC42-484E-B2BC-A9DCF1AC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440-6AAA-4962-95A3-4FCC888F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2CB-83DB-449C-A34C-4550AAB3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328-0A97-455C-BEAD-E0C4EA56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B7E-A01D-43D4-A782-68B712CD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00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07FC-2B02-40E4-9BCA-9037A37B433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0842-30F6-4A2B-A27C-8F65DE8B5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320" y="76320"/>
            <a:ext cx="38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17 – Program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29C-5CA9-4824-B945-2E0E3EFB54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A2326-3D3F-4A77-BD20-0CDC5C837A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 Invarian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the following Hoare triple holds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=1;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ac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=1;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++;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ac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*=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}}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ac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of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te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s a loop invariant, and is true before the loop. Thus, after the loop we have ¬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¬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. 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C13-D84F-4886-8742-A700444400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E7B10-8077-4643-8066-D3C2B064E4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teger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|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0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≤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intains loop invarian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≤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=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m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=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|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∴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0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−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≥0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−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d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143-2F72-49F6-A509-780F92F504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707F8-B652-4DAD-BAA0-5CD84519CB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17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rifying Program Correct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8 slides, ~1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471-E2D6-4DFD-8B55-5CEC7331C9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CA643-C078-4164-9CEE-334BB6ED00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§3.6: Program Correc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to be abl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 given program meets the intended specif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can often be done manually, or even by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utomated program verifica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ool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ne example is PVS (People’s Verification System)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 produces the correct output for every possibl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program h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artial correctnes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f it produces the correct output for every input for which the program eventually halt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77E-B3E2-4FFF-A7A8-34F47CAE32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81EAD-9EC5-4AF8-A76D-FDD067B94D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&amp; Final Asse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’s I/O specification can be given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e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itial asser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condition that the program’s input (its initial state) is guaranteed (by its user) to satisfy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final assertion 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condition that the output produced by the program (its final state) is required to satisfy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are tri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notatio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eans that, for all input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uch t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 is true, if progra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given inpu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 halts and produces outpu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, the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 is tru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at is,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is partially correct with respect to specification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138-3BE4-44C3-8931-3C37274447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BE3E9-E108-4C7C-9D5A-6B00A2A45B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rivial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program fragment 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:= 2;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: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initial assertion 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bl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will hold 1 in all initial state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final assertion 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variabl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ust hold 1 in all final state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of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the program’s input state, then after running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=2 an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will be 1+2=3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6FF-F4B6-4915-BAAB-6CE56B314F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4B882-C0BA-4380-B943-254CB819B1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are Triple Inferenc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duction rules for Hoare Triple stat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example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osition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br>
              <a:rPr sz="2400"/>
            </a:b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q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{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24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}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∴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say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progra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n cond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s cond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the program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, if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yiel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370-CD99-4A5A-A12F-6A12ECCCAA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18248-6CBF-44FC-9550-F74CD5B7A0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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¬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→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Show that: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g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Proof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If initially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&gt;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, then the if body is executed, settin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=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, and so afterward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≥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is true. Otherwise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and so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≥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In either cas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≥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is true.  So the rule applies, and so the fragment meets the specification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BBF-109A-47C6-91CB-4AE8717AFE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AAC1C-3B84-4F9A-A8D1-8C28B24BCB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n-el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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¬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{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}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Show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=−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=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I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&lt;0 then after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i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body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ab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will be |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|.  If ¬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&lt;0)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i.e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≥0, then after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ls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body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ab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=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, which is |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|.  So the rule applie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3EF-805B-40F8-9EE2-77DD698024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26069-6D67-4E75-B9B3-F198938793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 Invari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495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while loop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we say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loop invariant of this loop i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and the continuation conditi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is true before executing the body, the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remains true afterward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d so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stays true through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subsequent iterations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ads to the inference ru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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{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}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(¬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5F5-A61A-41A9-95AA-4D50CFF3D8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8C226-23F2-4B46-B817-3236B475C6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1-04T17:35:47Z</dcterms:modified>
  <cp:revision>55</cp:revision>
  <dc:subject>Discrete Mathematics</dc:subject>
  <dc:title>Slides for Rosen, 5th edition</dc:title>
</cp:coreProperties>
</file>