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1BF-1579-4B6C-93EF-DA3EE710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DBF-2B7D-4AD0-A3C9-0784ED4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9E0-4C03-46FF-805A-A2B3157A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44B-D9F0-40B7-B7FD-06CD295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D6E-1CF0-4A26-80FE-09E788F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614-4DF6-47AD-A3E2-BBD21C4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3B3-899A-4D55-943A-757EE599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B7F-981C-4417-897A-F186DE64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39C-3D63-4E4F-A274-144B29C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7F5-904B-4400-B5E9-BAB2F5B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26-8251-46C0-B4A5-CD69FB3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E29-9BE8-432A-9C2D-F9875A6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7EB-48FB-41C8-86CC-116D814C9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133720"/>
            <a:ext cx="0" cy="24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75520" y="2133720"/>
            <a:ext cx="0" cy="24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133720"/>
            <a:ext cx="549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546440"/>
            <a:ext cx="549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76520" y="2603520"/>
            <a:ext cx="5499000" cy="203040"/>
            <a:chOff x="1676520" y="2603520"/>
            <a:chExt cx="5499000" cy="203040"/>
          </a:xfrm>
        </p:grpSpPr>
        <p:sp>
          <p:nvSpPr>
            <p:cNvPr id="46" name=""/>
            <p:cNvSpPr/>
            <p:nvPr/>
          </p:nvSpPr>
          <p:spPr>
            <a:xfrm>
              <a:off x="1676520" y="2603520"/>
              <a:ext cx="549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76520" y="2806560"/>
              <a:ext cx="54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689120" y="2603520"/>
              <a:ext cx="2743200" cy="203040"/>
              <a:chOff x="1689120" y="2603520"/>
              <a:chExt cx="2743200" cy="2030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689120" y="2603520"/>
                <a:ext cx="914400" cy="203040"/>
                <a:chOff x="1689120" y="2603520"/>
                <a:chExt cx="914400" cy="2030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6891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1463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2603520" y="2603520"/>
                <a:ext cx="914400" cy="203040"/>
                <a:chOff x="2603520" y="2603520"/>
                <a:chExt cx="914400" cy="2030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035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607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17920" y="2603520"/>
                <a:ext cx="914400" cy="203040"/>
                <a:chOff x="3517920" y="2603520"/>
                <a:chExt cx="914400" cy="2030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5179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9751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432320" y="2603520"/>
              <a:ext cx="2743200" cy="203040"/>
              <a:chOff x="4432320" y="2603520"/>
              <a:chExt cx="2743200" cy="2030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4432320" y="2603520"/>
                <a:ext cx="914400" cy="203040"/>
                <a:chOff x="4432320" y="2603520"/>
                <a:chExt cx="914400" cy="20304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44323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8895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5346720" y="2603520"/>
                <a:ext cx="914400" cy="203040"/>
                <a:chOff x="5346720" y="2603520"/>
                <a:chExt cx="914400" cy="2030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3467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8039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6261120" y="2603520"/>
                <a:ext cx="914400" cy="203040"/>
                <a:chOff x="6261120" y="2603520"/>
                <a:chExt cx="914400" cy="203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2611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718320" y="260352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" name=""/>
          <p:cNvGrpSpPr/>
          <p:nvPr/>
        </p:nvGrpSpPr>
        <p:grpSpPr>
          <a:xfrm>
            <a:off x="1676520" y="3235320"/>
            <a:ext cx="5499000" cy="206280"/>
            <a:chOff x="1676520" y="3235320"/>
            <a:chExt cx="5499000" cy="206280"/>
          </a:xfrm>
        </p:grpSpPr>
        <p:sp>
          <p:nvSpPr>
            <p:cNvPr id="69" name=""/>
            <p:cNvSpPr/>
            <p:nvPr/>
          </p:nvSpPr>
          <p:spPr>
            <a:xfrm flipV="1">
              <a:off x="1676520" y="3235320"/>
              <a:ext cx="5481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6520" y="3441600"/>
              <a:ext cx="54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689120" y="3238200"/>
              <a:ext cx="2743200" cy="203040"/>
              <a:chOff x="1689120" y="3238200"/>
              <a:chExt cx="2743200" cy="2030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689120" y="3238200"/>
                <a:ext cx="914400" cy="203040"/>
                <a:chOff x="1689120" y="3238200"/>
                <a:chExt cx="914400" cy="203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6891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1463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603520" y="3238200"/>
                <a:ext cx="914400" cy="203040"/>
                <a:chOff x="2603520" y="3238200"/>
                <a:chExt cx="914400" cy="2030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6035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607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17920" y="3238200"/>
                <a:ext cx="914400" cy="203040"/>
                <a:chOff x="3517920" y="3238200"/>
                <a:chExt cx="914400" cy="2030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5179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975120" y="3238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" name=""/>
            <p:cNvGrpSpPr/>
            <p:nvPr/>
          </p:nvGrpSpPr>
          <p:grpSpPr>
            <a:xfrm>
              <a:off x="4432320" y="3238200"/>
              <a:ext cx="914400" cy="203040"/>
              <a:chOff x="4432320" y="3238200"/>
              <a:chExt cx="914400" cy="203040"/>
            </a:xfrm>
          </p:grpSpPr>
          <p:sp>
            <p:nvSpPr>
              <p:cNvPr id="82" name=""/>
              <p:cNvSpPr/>
              <p:nvPr/>
            </p:nvSpPr>
            <p:spPr>
              <a:xfrm>
                <a:off x="44323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895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346720" y="3238200"/>
              <a:ext cx="914400" cy="203040"/>
              <a:chOff x="5346720" y="3238200"/>
              <a:chExt cx="914400" cy="203040"/>
            </a:xfrm>
          </p:grpSpPr>
          <p:sp>
            <p:nvSpPr>
              <p:cNvPr id="85" name=""/>
              <p:cNvSpPr/>
              <p:nvPr/>
            </p:nvSpPr>
            <p:spPr>
              <a:xfrm>
                <a:off x="53467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039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261120" y="3238200"/>
              <a:ext cx="914400" cy="203040"/>
              <a:chOff x="6261120" y="3238200"/>
              <a:chExt cx="914400" cy="203040"/>
            </a:xfrm>
          </p:grpSpPr>
          <p:sp>
            <p:nvSpPr>
              <p:cNvPr id="88" name=""/>
              <p:cNvSpPr/>
              <p:nvPr/>
            </p:nvSpPr>
            <p:spPr>
              <a:xfrm>
                <a:off x="62611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18320" y="3238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1663560" y="3882600"/>
            <a:ext cx="5499360" cy="206640"/>
            <a:chOff x="1663560" y="3882600"/>
            <a:chExt cx="5499360" cy="206640"/>
          </a:xfrm>
        </p:grpSpPr>
        <p:sp>
          <p:nvSpPr>
            <p:cNvPr id="91" name=""/>
            <p:cNvSpPr/>
            <p:nvPr/>
          </p:nvSpPr>
          <p:spPr>
            <a:xfrm flipV="1">
              <a:off x="1663560" y="3882600"/>
              <a:ext cx="54943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3560" y="4089240"/>
              <a:ext cx="54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676520" y="3886200"/>
              <a:ext cx="2743200" cy="203040"/>
              <a:chOff x="1676520" y="3886200"/>
              <a:chExt cx="2743200" cy="2030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676520" y="3886200"/>
                <a:ext cx="914400" cy="203040"/>
                <a:chOff x="1676520" y="3886200"/>
                <a:chExt cx="914400" cy="2030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6765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337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590920" y="3886200"/>
                <a:ext cx="914400" cy="203040"/>
                <a:chOff x="2590920" y="3886200"/>
                <a:chExt cx="914400" cy="2030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5909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505320" y="3886200"/>
                <a:ext cx="914400" cy="203040"/>
                <a:chOff x="3505320" y="3886200"/>
                <a:chExt cx="914400" cy="2030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5053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962520" y="388620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4419720" y="3886200"/>
              <a:ext cx="914400" cy="203040"/>
              <a:chOff x="4419720" y="3886200"/>
              <a:chExt cx="914400" cy="203040"/>
            </a:xfrm>
          </p:grpSpPr>
          <p:sp>
            <p:nvSpPr>
              <p:cNvPr id="104" name=""/>
              <p:cNvSpPr/>
              <p:nvPr/>
            </p:nvSpPr>
            <p:spPr>
              <a:xfrm>
                <a:off x="44197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769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334120" y="3886200"/>
              <a:ext cx="914400" cy="203040"/>
              <a:chOff x="5334120" y="3886200"/>
              <a:chExt cx="914400" cy="203040"/>
            </a:xfrm>
          </p:grpSpPr>
          <p:sp>
            <p:nvSpPr>
              <p:cNvPr id="107" name=""/>
              <p:cNvSpPr/>
              <p:nvPr/>
            </p:nvSpPr>
            <p:spPr>
              <a:xfrm>
                <a:off x="53341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913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248520" y="3886200"/>
              <a:ext cx="914400" cy="203040"/>
              <a:chOff x="6248520" y="3886200"/>
              <a:chExt cx="914400" cy="203040"/>
            </a:xfrm>
          </p:grpSpPr>
          <p:sp>
            <p:nvSpPr>
              <p:cNvPr id="110" name=""/>
              <p:cNvSpPr/>
              <p:nvPr/>
            </p:nvSpPr>
            <p:spPr>
              <a:xfrm>
                <a:off x="62485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05720" y="388620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 flipV="1">
            <a:off x="973080" y="2298600"/>
            <a:ext cx="65088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5680" y="2562120"/>
            <a:ext cx="62568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50760" y="2327400"/>
            <a:ext cx="11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219440" y="3349440"/>
            <a:ext cx="62388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218000" y="3773520"/>
            <a:ext cx="62532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96320" y="3505320"/>
            <a:ext cx="12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0120" y="336600"/>
            <a:ext cx="79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Effective Area Oil Cooler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372680" y="34322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372680" y="38894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7560" y="3546360"/>
            <a:ext cx="79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59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2760" y="260208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2760" y="28051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45280" y="2589120"/>
            <a:ext cx="134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794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5280" y="4959360"/>
            <a:ext cx="61639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flow is perpendicular to th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eight of the coolant channels remains the same but there are half the numb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hannels as on the existing coo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60800" y="1913040"/>
            <a:ext cx="712800" cy="163440"/>
          </a:xfrm>
          <a:prstGeom prst="rightArrow">
            <a:avLst>
              <a:gd name="adj1" fmla="val 50000"/>
              <a:gd name="adj2" fmla="val 10903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97280" y="1638360"/>
            <a:ext cx="121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23:26:45Z</dcterms:created>
  <dc:creator>kdwill</dc:creator>
  <dc:description/>
  <dc:language>en-US</dc:language>
  <cp:lastModifiedBy>orrock</cp:lastModifiedBy>
  <dcterms:modified xsi:type="dcterms:W3CDTF">2000-02-16T22:47:48Z</dcterms:modified>
  <cp:revision>2</cp:revision>
  <dc:subject/>
  <dc:title>No Slide Title</dc:title>
</cp:coreProperties>
</file>