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E8F8-56FF-424C-BAD9-6170750BC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9EC1-427B-4070-8697-25008ED0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F611-61D8-400F-9D00-8B6186D05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20E5-3B46-41DE-9699-BE6A3D8C5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8391-C8AE-4772-A7E1-1F634CE1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9D5F-211D-4280-8A93-FDF975C6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38C7-1DE8-495F-BFD9-449004C1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EEE7-66B8-421B-A478-F8003930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2B86-71BC-4D8D-9D73-62A91CDC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3DC3-52B0-4FBE-8CE2-A551A451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9252-0B87-43E1-BC94-72C836CF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0C14-C27F-49F6-80A8-31E7561E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9BFA-3E2E-476C-96E4-A9156B7AD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2720" y="2341440"/>
            <a:ext cx="4594320" cy="226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16160" y="3013200"/>
            <a:ext cx="1887480" cy="50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95760" y="3013200"/>
            <a:ext cx="1887480" cy="50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566040" y="4186080"/>
            <a:ext cx="819000" cy="166680"/>
          </a:xfrm>
          <a:prstGeom prst="leftArrow">
            <a:avLst>
              <a:gd name="adj1" fmla="val 50000"/>
              <a:gd name="adj2" fmla="val 12284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284560" y="4017960"/>
            <a:ext cx="1723680" cy="418680"/>
            <a:chOff x="2284560" y="4017960"/>
            <a:chExt cx="1723680" cy="418680"/>
          </a:xfrm>
        </p:grpSpPr>
        <p:sp>
          <p:nvSpPr>
            <p:cNvPr id="46" name=""/>
            <p:cNvSpPr/>
            <p:nvPr/>
          </p:nvSpPr>
          <p:spPr>
            <a:xfrm>
              <a:off x="2284560" y="4017960"/>
              <a:ext cx="81720" cy="418680"/>
            </a:xfrm>
            <a:prstGeom prst="upArrow">
              <a:avLst>
                <a:gd name="adj1" fmla="val 50000"/>
                <a:gd name="adj2" fmla="val 128084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48360" y="4017960"/>
              <a:ext cx="82080" cy="418680"/>
            </a:xfrm>
            <a:prstGeom prst="upArrow">
              <a:avLst>
                <a:gd name="adj1" fmla="val 50000"/>
                <a:gd name="adj2" fmla="val 127522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612520" y="4017960"/>
              <a:ext cx="82080" cy="418680"/>
            </a:xfrm>
            <a:prstGeom prst="upArrow">
              <a:avLst>
                <a:gd name="adj1" fmla="val 50000"/>
                <a:gd name="adj2" fmla="val 127522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7040" y="4017960"/>
              <a:ext cx="81720" cy="418680"/>
            </a:xfrm>
            <a:prstGeom prst="upArrow">
              <a:avLst>
                <a:gd name="adj1" fmla="val 50000"/>
                <a:gd name="adj2" fmla="val 128084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40840" y="4017960"/>
              <a:ext cx="82080" cy="418680"/>
            </a:xfrm>
            <a:prstGeom prst="upArrow">
              <a:avLst>
                <a:gd name="adj1" fmla="val 50000"/>
                <a:gd name="adj2" fmla="val 127522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105000" y="4017960"/>
              <a:ext cx="82080" cy="418680"/>
            </a:xfrm>
            <a:prstGeom prst="upArrow">
              <a:avLst>
                <a:gd name="adj1" fmla="val 50000"/>
                <a:gd name="adj2" fmla="val 127522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269520" y="4017960"/>
              <a:ext cx="81720" cy="418680"/>
            </a:xfrm>
            <a:prstGeom prst="upArrow">
              <a:avLst>
                <a:gd name="adj1" fmla="val 50000"/>
                <a:gd name="adj2" fmla="val 128084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33680" y="4017960"/>
              <a:ext cx="82080" cy="418680"/>
            </a:xfrm>
            <a:prstGeom prst="upArrow">
              <a:avLst>
                <a:gd name="adj1" fmla="val 50000"/>
                <a:gd name="adj2" fmla="val 127522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597480" y="4017960"/>
              <a:ext cx="82080" cy="418680"/>
            </a:xfrm>
            <a:prstGeom prst="upArrow">
              <a:avLst>
                <a:gd name="adj1" fmla="val 50000"/>
                <a:gd name="adj2" fmla="val 127522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762000" y="4017960"/>
              <a:ext cx="81720" cy="418680"/>
            </a:xfrm>
            <a:prstGeom prst="upArrow">
              <a:avLst>
                <a:gd name="adj1" fmla="val 50000"/>
                <a:gd name="adj2" fmla="val 128084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926160" y="4017960"/>
              <a:ext cx="82080" cy="418680"/>
            </a:xfrm>
            <a:prstGeom prst="upArrow">
              <a:avLst>
                <a:gd name="adj1" fmla="val 50000"/>
                <a:gd name="adj2" fmla="val 127522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4691160" y="4017960"/>
            <a:ext cx="1723680" cy="418680"/>
            <a:chOff x="4691160" y="4017960"/>
            <a:chExt cx="1723680" cy="418680"/>
          </a:xfrm>
        </p:grpSpPr>
        <p:sp>
          <p:nvSpPr>
            <p:cNvPr id="58" name=""/>
            <p:cNvSpPr/>
            <p:nvPr/>
          </p:nvSpPr>
          <p:spPr>
            <a:xfrm>
              <a:off x="4691160" y="4017960"/>
              <a:ext cx="81720" cy="418680"/>
            </a:xfrm>
            <a:prstGeom prst="upArrow">
              <a:avLst>
                <a:gd name="adj1" fmla="val 50000"/>
                <a:gd name="adj2" fmla="val 128084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854960" y="4017960"/>
              <a:ext cx="82080" cy="418680"/>
            </a:xfrm>
            <a:prstGeom prst="upArrow">
              <a:avLst>
                <a:gd name="adj1" fmla="val 50000"/>
                <a:gd name="adj2" fmla="val 127522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019120" y="4017960"/>
              <a:ext cx="82080" cy="418680"/>
            </a:xfrm>
            <a:prstGeom prst="upArrow">
              <a:avLst>
                <a:gd name="adj1" fmla="val 50000"/>
                <a:gd name="adj2" fmla="val 127522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183640" y="4017960"/>
              <a:ext cx="81720" cy="418680"/>
            </a:xfrm>
            <a:prstGeom prst="upArrow">
              <a:avLst>
                <a:gd name="adj1" fmla="val 50000"/>
                <a:gd name="adj2" fmla="val 128084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47440" y="4017960"/>
              <a:ext cx="82080" cy="418680"/>
            </a:xfrm>
            <a:prstGeom prst="upArrow">
              <a:avLst>
                <a:gd name="adj1" fmla="val 50000"/>
                <a:gd name="adj2" fmla="val 127522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511600" y="4017960"/>
              <a:ext cx="82080" cy="418680"/>
            </a:xfrm>
            <a:prstGeom prst="upArrow">
              <a:avLst>
                <a:gd name="adj1" fmla="val 50000"/>
                <a:gd name="adj2" fmla="val 127522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676120" y="4017960"/>
              <a:ext cx="81720" cy="418680"/>
            </a:xfrm>
            <a:prstGeom prst="upArrow">
              <a:avLst>
                <a:gd name="adj1" fmla="val 50000"/>
                <a:gd name="adj2" fmla="val 128084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40280" y="4017960"/>
              <a:ext cx="82080" cy="418680"/>
            </a:xfrm>
            <a:prstGeom prst="upArrow">
              <a:avLst>
                <a:gd name="adj1" fmla="val 50000"/>
                <a:gd name="adj2" fmla="val 127522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04080" y="4017960"/>
              <a:ext cx="82080" cy="418680"/>
            </a:xfrm>
            <a:prstGeom prst="upArrow">
              <a:avLst>
                <a:gd name="adj1" fmla="val 50000"/>
                <a:gd name="adj2" fmla="val 127522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168600" y="4017960"/>
              <a:ext cx="81720" cy="418680"/>
            </a:xfrm>
            <a:prstGeom prst="upArrow">
              <a:avLst>
                <a:gd name="adj1" fmla="val 50000"/>
                <a:gd name="adj2" fmla="val 128084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332760" y="4017960"/>
              <a:ext cx="82080" cy="418680"/>
            </a:xfrm>
            <a:prstGeom prst="upArrow">
              <a:avLst>
                <a:gd name="adj1" fmla="val 50000"/>
                <a:gd name="adj2" fmla="val 127522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7058160" y="435276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olant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25600" y="3235320"/>
            <a:ext cx="82800" cy="84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40200" y="3235320"/>
            <a:ext cx="81000" cy="84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51200" y="3235320"/>
            <a:ext cx="81000" cy="84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19800" y="3235320"/>
            <a:ext cx="81000" cy="84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31040" y="3235320"/>
            <a:ext cx="1155600" cy="82440"/>
          </a:xfrm>
          <a:prstGeom prst="rect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526080" y="3317760"/>
            <a:ext cx="79560" cy="384120"/>
          </a:xfrm>
          <a:prstGeom prst="rect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01680" y="3621240"/>
            <a:ext cx="4424400" cy="82440"/>
          </a:xfrm>
          <a:prstGeom prst="rect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01680" y="3249720"/>
            <a:ext cx="81000" cy="369720"/>
          </a:xfrm>
          <a:prstGeom prst="rect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82680" y="3247920"/>
            <a:ext cx="120960" cy="82800"/>
          </a:xfrm>
          <a:prstGeom prst="rect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70520" y="3193920"/>
            <a:ext cx="820800" cy="166680"/>
          </a:xfrm>
          <a:prstGeom prst="leftArrow">
            <a:avLst>
              <a:gd name="adj1" fmla="val 50000"/>
              <a:gd name="adj2" fmla="val 123110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20000" y="276084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il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767120" y="3041640"/>
            <a:ext cx="1492200" cy="456840"/>
            <a:chOff x="4767120" y="3041640"/>
            <a:chExt cx="1492200" cy="456840"/>
          </a:xfrm>
        </p:grpSpPr>
        <p:sp>
          <p:nvSpPr>
            <p:cNvPr id="82" name=""/>
            <p:cNvSpPr/>
            <p:nvPr/>
          </p:nvSpPr>
          <p:spPr>
            <a:xfrm>
              <a:off x="4767120" y="3041640"/>
              <a:ext cx="1452960" cy="122040"/>
            </a:xfrm>
            <a:prstGeom prst="leftArrow">
              <a:avLst>
                <a:gd name="adj1" fmla="val 50000"/>
                <a:gd name="adj2" fmla="val 297640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04560" y="3209040"/>
              <a:ext cx="1441440" cy="123480"/>
            </a:xfrm>
            <a:prstGeom prst="leftArrow">
              <a:avLst>
                <a:gd name="adj1" fmla="val 50000"/>
                <a:gd name="adj2" fmla="val 291837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67120" y="3376440"/>
              <a:ext cx="1492200" cy="122040"/>
            </a:xfrm>
            <a:prstGeom prst="leftArrow">
              <a:avLst>
                <a:gd name="adj1" fmla="val 50000"/>
                <a:gd name="adj2" fmla="val 305678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2429280" y="3027240"/>
            <a:ext cx="1466280" cy="458640"/>
            <a:chOff x="2429280" y="3027240"/>
            <a:chExt cx="1466280" cy="458640"/>
          </a:xfrm>
        </p:grpSpPr>
        <p:sp>
          <p:nvSpPr>
            <p:cNvPr id="86" name=""/>
            <p:cNvSpPr/>
            <p:nvPr/>
          </p:nvSpPr>
          <p:spPr>
            <a:xfrm flipH="1">
              <a:off x="2467800" y="3027240"/>
              <a:ext cx="1427760" cy="122400"/>
            </a:xfrm>
            <a:prstGeom prst="leftArrow">
              <a:avLst>
                <a:gd name="adj1" fmla="val 50000"/>
                <a:gd name="adj2" fmla="val 291618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2441520" y="3195360"/>
              <a:ext cx="1416600" cy="124200"/>
            </a:xfrm>
            <a:prstGeom prst="leftArrow">
              <a:avLst>
                <a:gd name="adj1" fmla="val 50000"/>
                <a:gd name="adj2" fmla="val 285145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2428920" y="3363480"/>
              <a:ext cx="1466280" cy="122400"/>
            </a:xfrm>
            <a:prstGeom prst="leftArrow">
              <a:avLst>
                <a:gd name="adj1" fmla="val 50000"/>
                <a:gd name="adj2" fmla="val 299485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795840" y="2149560"/>
            <a:ext cx="176040" cy="103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709880" y="2178000"/>
            <a:ext cx="215640" cy="101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13200" y="1724040"/>
            <a:ext cx="27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it to Oil Fi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7440" y="287280"/>
            <a:ext cx="82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 Diagram:  Oil and Coolant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6454440" y="3409560"/>
            <a:ext cx="196920" cy="155520"/>
          </a:xfrm>
          <a:prstGeom prst="leftArrow">
            <a:avLst>
              <a:gd name="adj1" fmla="val 50000"/>
              <a:gd name="adj2" fmla="val 31655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25800" y="3575160"/>
            <a:ext cx="820800" cy="166680"/>
          </a:xfrm>
          <a:prstGeom prst="leftArrow">
            <a:avLst>
              <a:gd name="adj1" fmla="val 50000"/>
              <a:gd name="adj2" fmla="val 123110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5T02:37:47Z</dcterms:created>
  <dc:creator>kdwill</dc:creator>
  <dc:description/>
  <dc:language>en-US</dc:language>
  <cp:lastModifiedBy>orrock</cp:lastModifiedBy>
  <dcterms:modified xsi:type="dcterms:W3CDTF">2000-02-16T22:48:54Z</dcterms:modified>
  <cp:revision>1</cp:revision>
  <dc:subject/>
  <dc:title>No Slide Title</dc:title>
</cp:coreProperties>
</file>