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830-CD36-42DE-ADC7-98D44D7D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8C7-CD61-464D-9000-BA8F2723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234-3135-4DCD-8978-FC20940F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FD2-E589-4373-B82D-489B794B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458-E8BD-4E38-8834-0D136FD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A00-CC38-4588-B3A0-73694625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46A-2528-4C3D-88E5-7583D6E0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01F-36E3-4926-B1B3-F0FFDFE7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101-8F5D-4F80-8321-5E7C0E06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947-9A10-4CEF-B5FA-652D8960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C51-6221-4FE4-BE62-BB3CD9D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804-52FE-4B8D-BE6F-73BD01AA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BDAE-27D1-447A-9207-EA538B527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odynamic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9960" y="955800"/>
            <a:ext cx="824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 of a thermodynamic system can be changed by interacting with its surrounding through work and heat.  When this change occurs in a system, it is said that the system is undergoing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ermodynam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quence of different processes that begins and ends at the same thermodynamic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ample proces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hermal process: temperature is constant T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baric process: pressure is constant, P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entropic process: entropy is constant, s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-volume process, v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iabatic process: no heat transfer, Q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7760" y="609480"/>
            <a:ext cx="55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deal gas assumption (closed syste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066680" y="1371600"/>
          <a:ext cx="6553440" cy="50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655344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692280"/>
          <a:ext cx="7010280" cy="60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92280"/>
                    <a:ext cx="7010280" cy="60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14760" y="3308400"/>
          <a:ext cx="11268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08400"/>
                    <a:ext cx="11268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85800" y="380880"/>
          <a:ext cx="7924680" cy="623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80880"/>
                    <a:ext cx="7924680" cy="62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803160"/>
            <a:ext cx="809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tropic Process: its P-V relation can be expressed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onstant, where n is a constant for a specifi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hermal, T=constant, if the gas is an ideal gas then PV=RT=constant, 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baric, P=constant, n=0 (for all substa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-volume, V=constant, V=constant(P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/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for all substa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iabatic process, n=k for an ideal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14400" y="4038480"/>
          <a:ext cx="754380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754380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8T13:08:18Z</dcterms:created>
  <dc:creator>C. Shih</dc:creator>
  <dc:description/>
  <dc:language>en-US</dc:language>
  <cp:lastModifiedBy>Chiang Shih</cp:lastModifiedBy>
  <dcterms:modified xsi:type="dcterms:W3CDTF">1999-10-07T22:23:58Z</dcterms:modified>
  <cp:revision>6</cp:revision>
  <dc:subject/>
  <dc:title>Thermodynamic Proces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