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162B-FE2F-413A-A305-57F10B59B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8A63-15F5-4553-8F1C-37D2B74B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DE6D-D7E1-42C1-B519-33777AEB9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A49D-BB77-40CA-88D9-BFEB2975B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60CD-8966-4962-9143-CBA07003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3901-3736-4074-8AD1-57AB6FF1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BBA5-CA6E-48D9-84CF-925B1D2B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30C1-A9E7-4895-999F-7CA3AFBD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404F-05F9-4D2A-A099-6CC795F6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CF25-7782-4949-AABF-91EDBFB6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9E73-9A0A-4B12-978C-63FF742F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28A9-FE00-44FB-BA0E-8268EC2A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EE86-6ADD-4E2A-83C1-5EEA36BBC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1:53:09Z</dcterms:created>
  <dc:creator>C. Shih</dc:creator>
  <dc:description/>
  <dc:language>en-US</dc:language>
  <cp:lastModifiedBy>C. Shih</cp:lastModifiedBy>
  <dcterms:modified xsi:type="dcterms:W3CDTF">1998-09-17T11:53:45Z</dcterms:modified>
  <cp:revision>1</cp:revision>
  <dc:subject/>
  <dc:title>No Slide Title</dc:title>
</cp:coreProperties>
</file>