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8AD-E363-4539-8AED-ED32A70D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F1B-BD24-4DDC-9A21-E17744E4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856-2930-415A-83A7-F29B9330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0A1-2EA7-4952-81BF-8168496D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FBA-4F71-4447-A7DD-34EB5AD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F59-E628-4842-98FC-D05F13DF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CF6-3280-4D29-88FB-527E671E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447-C11B-4760-AC25-9BFAF099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3E7-2020-4668-A95C-5DAD87B0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C56-8FDB-4B6E-B7BA-EC170714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154-BAD0-4BE7-B25E-8FE9220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8D0D-9548-4AED-88CE-D190AF6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E672-42C5-4178-A56E-5F88568BC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not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9800" y="673200"/>
            <a:ext cx="83059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ized thermodynamic cycle consisting of four reversible processes (any substance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ible isothermal expansion (1-2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const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ible adiabatic expansion (2-3, Q=0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ible isothermal compression (3-4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consta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ersible adiabatic compression (4-1, Q=0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25480" y="2984400"/>
            <a:ext cx="7290000" cy="3200400"/>
            <a:chOff x="825480" y="2984400"/>
            <a:chExt cx="7290000" cy="3200400"/>
          </a:xfrm>
        </p:grpSpPr>
        <p:graphicFrame>
          <p:nvGraphicFramePr>
            <p:cNvPr id="44" name=""/>
            <p:cNvGraphicFramePr/>
            <p:nvPr/>
          </p:nvGraphicFramePr>
          <p:xfrm>
            <a:off x="825480" y="2997360"/>
            <a:ext cx="5486400" cy="317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5480" y="2997360"/>
                      <a:ext cx="5486400" cy="317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" name=""/>
            <p:cNvGraphicFramePr/>
            <p:nvPr/>
          </p:nvGraphicFramePr>
          <p:xfrm>
            <a:off x="6311880" y="2984400"/>
            <a:ext cx="180360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11880" y="2984400"/>
                      <a:ext cx="180360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8" name=""/>
          <p:cNvSpPr/>
          <p:nvPr/>
        </p:nvSpPr>
        <p:spPr>
          <a:xfrm>
            <a:off x="1203480" y="61992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2720" y="618660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89680" y="6148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80320" y="614844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not Cycle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76160" y="681120"/>
          <a:ext cx="335124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681120"/>
                    <a:ext cx="33512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67240" y="503280"/>
            <a:ext cx="45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done by gas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V, area under the process curve 1-2-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448240" y="1384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60840" y="3225960"/>
            <a:ext cx="247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02400" y="1638360"/>
            <a:ext cx="1130040" cy="380880"/>
          </a:xfrm>
          <a:custGeom>
            <a:avLst/>
            <a:gdLst/>
            <a:ahLst/>
            <a:rect l="l" t="t" r="r" b="b"/>
            <a:pathLst>
              <a:path w="712" h="240">
                <a:moveTo>
                  <a:pt x="0" y="0"/>
                </a:moveTo>
                <a:cubicBezTo>
                  <a:pt x="60" y="28"/>
                  <a:pt x="241" y="128"/>
                  <a:pt x="360" y="168"/>
                </a:cubicBezTo>
                <a:cubicBezTo>
                  <a:pt x="479" y="208"/>
                  <a:pt x="639" y="225"/>
                  <a:pt x="712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7240" y="2019240"/>
            <a:ext cx="673200" cy="698400"/>
          </a:xfrm>
          <a:custGeom>
            <a:avLst/>
            <a:gdLst/>
            <a:ahLst/>
            <a:rect l="l" t="t" r="r" b="b"/>
            <a:pathLst>
              <a:path w="424" h="440">
                <a:moveTo>
                  <a:pt x="0" y="0"/>
                </a:moveTo>
                <a:cubicBezTo>
                  <a:pt x="76" y="115"/>
                  <a:pt x="153" y="231"/>
                  <a:pt x="224" y="304"/>
                </a:cubicBezTo>
                <a:cubicBezTo>
                  <a:pt x="295" y="377"/>
                  <a:pt x="359" y="408"/>
                  <a:pt x="42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167652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467480" y="273060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89440" y="1625760"/>
            <a:ext cx="7488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43880" y="1968480"/>
            <a:ext cx="745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16720" y="2679840"/>
            <a:ext cx="745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98720" y="1258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39840" y="1627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40120" y="236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753160" y="1841400"/>
            <a:ext cx="25380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765760" y="1968480"/>
            <a:ext cx="4064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78360" y="2057400"/>
            <a:ext cx="55908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2107800"/>
            <a:ext cx="77472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994360" y="2196720"/>
            <a:ext cx="774720" cy="9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61120" y="2400480"/>
            <a:ext cx="6224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540480" y="2565360"/>
            <a:ext cx="4698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794640" y="2679840"/>
            <a:ext cx="355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061040" y="2806560"/>
            <a:ext cx="2541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277040" y="3048120"/>
            <a:ext cx="101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486400" y="4686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99000" y="652788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53160" y="497844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05640" y="60325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37440" y="5918040"/>
            <a:ext cx="1168200" cy="117720"/>
          </a:xfrm>
          <a:custGeom>
            <a:avLst/>
            <a:gdLst/>
            <a:ahLst/>
            <a:rect l="l" t="t" r="r" b="b"/>
            <a:pathLst>
              <a:path w="736" h="74">
                <a:moveTo>
                  <a:pt x="736" y="72"/>
                </a:moveTo>
                <a:cubicBezTo>
                  <a:pt x="614" y="74"/>
                  <a:pt x="491" y="68"/>
                  <a:pt x="368" y="56"/>
                </a:cubicBezTo>
                <a:cubicBezTo>
                  <a:pt x="245" y="44"/>
                  <a:pt x="77" y="12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53160" y="5016600"/>
            <a:ext cx="571320" cy="914400"/>
          </a:xfrm>
          <a:custGeom>
            <a:avLst/>
            <a:gdLst/>
            <a:ahLst/>
            <a:rect l="l" t="t" r="r" b="b"/>
            <a:pathLst>
              <a:path w="360" h="576">
                <a:moveTo>
                  <a:pt x="360" y="576"/>
                </a:moveTo>
                <a:cubicBezTo>
                  <a:pt x="319" y="521"/>
                  <a:pt x="172" y="352"/>
                  <a:pt x="112" y="256"/>
                </a:cubicBezTo>
                <a:cubicBezTo>
                  <a:pt x="52" y="160"/>
                  <a:pt x="26" y="8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54880" y="6006960"/>
            <a:ext cx="745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2400" y="4978440"/>
            <a:ext cx="745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73720" y="5880240"/>
            <a:ext cx="745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52720" y="567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33760" y="553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47960" y="4560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51840" y="6108840"/>
            <a:ext cx="20304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6920" y="6083280"/>
            <a:ext cx="4827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40480" y="6032520"/>
            <a:ext cx="59688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16520" y="5651640"/>
            <a:ext cx="1079640" cy="81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29480" y="5905440"/>
            <a:ext cx="78732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03920" y="6146640"/>
            <a:ext cx="43164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6400800"/>
            <a:ext cx="12672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9080" y="3424320"/>
            <a:ext cx="456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done on gas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V, area under the process curve 3-4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91240" y="4280040"/>
            <a:ext cx="279360" cy="622080"/>
          </a:xfrm>
          <a:prstGeom prst="downArrow">
            <a:avLst>
              <a:gd name="adj1" fmla="val 50000"/>
              <a:gd name="adj2" fmla="val 556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57880" y="5334120"/>
            <a:ext cx="495000" cy="317520"/>
          </a:xfrm>
          <a:prstGeom prst="leftArrow">
            <a:avLst>
              <a:gd name="adj1" fmla="val 50000"/>
              <a:gd name="adj2" fmla="val 389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359000" y="4648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648972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39880" y="4813200"/>
            <a:ext cx="1130400" cy="381240"/>
          </a:xfrm>
          <a:custGeom>
            <a:avLst/>
            <a:gdLst/>
            <a:ahLst/>
            <a:rect l="l" t="t" r="r" b="b"/>
            <a:pathLst>
              <a:path w="712" h="240">
                <a:moveTo>
                  <a:pt x="0" y="0"/>
                </a:moveTo>
                <a:cubicBezTo>
                  <a:pt x="60" y="28"/>
                  <a:pt x="241" y="128"/>
                  <a:pt x="360" y="168"/>
                </a:cubicBezTo>
                <a:cubicBezTo>
                  <a:pt x="479" y="208"/>
                  <a:pt x="639" y="225"/>
                  <a:pt x="712" y="2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44720" y="5194440"/>
            <a:ext cx="673200" cy="698400"/>
          </a:xfrm>
          <a:custGeom>
            <a:avLst/>
            <a:gdLst/>
            <a:ahLst/>
            <a:rect l="l" t="t" r="r" b="b"/>
            <a:pathLst>
              <a:path w="424" h="440">
                <a:moveTo>
                  <a:pt x="0" y="0"/>
                </a:moveTo>
                <a:cubicBezTo>
                  <a:pt x="76" y="115"/>
                  <a:pt x="153" y="231"/>
                  <a:pt x="224" y="304"/>
                </a:cubicBezTo>
                <a:cubicBezTo>
                  <a:pt x="295" y="377"/>
                  <a:pt x="359" y="408"/>
                  <a:pt x="424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36760" y="5727600"/>
            <a:ext cx="1168560" cy="182520"/>
          </a:xfrm>
          <a:custGeom>
            <a:avLst/>
            <a:gdLst/>
            <a:ahLst/>
            <a:rect l="l" t="t" r="r" b="b"/>
            <a:pathLst>
              <a:path w="736" h="115">
                <a:moveTo>
                  <a:pt x="736" y="112"/>
                </a:moveTo>
                <a:cubicBezTo>
                  <a:pt x="671" y="111"/>
                  <a:pt x="467" y="115"/>
                  <a:pt x="344" y="96"/>
                </a:cubicBezTo>
                <a:cubicBezTo>
                  <a:pt x="221" y="77"/>
                  <a:pt x="72" y="2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4826160"/>
            <a:ext cx="571680" cy="914400"/>
          </a:xfrm>
          <a:custGeom>
            <a:avLst/>
            <a:gdLst/>
            <a:ahLst/>
            <a:rect l="l" t="t" r="r" b="b"/>
            <a:pathLst>
              <a:path w="360" h="576">
                <a:moveTo>
                  <a:pt x="360" y="576"/>
                </a:moveTo>
                <a:cubicBezTo>
                  <a:pt x="319" y="521"/>
                  <a:pt x="172" y="352"/>
                  <a:pt x="112" y="256"/>
                </a:cubicBezTo>
                <a:cubicBezTo>
                  <a:pt x="52" y="160"/>
                  <a:pt x="26" y="8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17720" y="501660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5105520"/>
            <a:ext cx="190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171520" y="5194440"/>
            <a:ext cx="2156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285640" y="5245200"/>
            <a:ext cx="34308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25680" y="5321160"/>
            <a:ext cx="4190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641320" y="5460840"/>
            <a:ext cx="33012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870280" y="5613480"/>
            <a:ext cx="2160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073320" y="5740560"/>
            <a:ext cx="114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49760" y="3938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ub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17080" y="459900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72840" y="438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1480" y="4903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6520" y="567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3720" y="567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00480" y="1182600"/>
            <a:ext cx="19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V&gt;0 from 1-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V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0480" y="4560840"/>
            <a:ext cx="139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dV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V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rnot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762120"/>
            <a:ext cx="8550360" cy="49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iciency of an irreversible heat engine is always less than the efficiency of a reversible one operating between the same two reservoirs.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, irre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,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iciencies of all reversible heat engines operating between the same two reservoirs are the same.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, re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, re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Can be demonstrated using the second law (K-P statement and C-statement).  Therefore, the Carnot heat engine defines the maximum efficiency any practical heat engine can reach up 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efficienc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-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f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it can be shown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-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1-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 This is called the Carnot efficien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typical steam power plant operating between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800 K (boiler)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00 K(cooling tower), the maximum achievable efficiency is 62.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1800" y="523800"/>
            <a:ext cx="8321760" cy="66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s analyze an ideal gas undergoing a Carnot cycle between two temperatures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to 2, isothermal expansion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V = mR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to 3, adiabatic expansion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to 4, isothermal compression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- mR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n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to 1, adiabatic compression,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(1) &amp; (2),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-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1-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since ln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ln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been proven th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-(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= 1-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for all Carnot engines since the Carnot efficiency is independent of the working sub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ot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8016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arnot heat engine operating between a high-temperature source at 900 K and reject heat to a low-temperature reservoir at 300 K.  (a) Determine the thermal efficiency of the engine.  (b) If the temperature of the high-temperature source is decreased incrementally, how is the thermal efficiency changes with the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160" y="2389320"/>
          <a:ext cx="5499000" cy="41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2389320"/>
                    <a:ext cx="549900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876920" y="1752480"/>
          <a:ext cx="373356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752480"/>
                    <a:ext cx="37335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800600" y="4211640"/>
          <a:ext cx="3809880" cy="264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4211640"/>
                    <a:ext cx="3809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 flipH="1">
            <a:off x="6324480" y="2666880"/>
            <a:ext cx="60984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91440" y="2147760"/>
            <a:ext cx="117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wer T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7480" y="5257800"/>
            <a:ext cx="53352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66320" y="4586400"/>
            <a:ext cx="133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crease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ot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762120"/>
            <a:ext cx="847404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ly, the higher the temperature of the low-temperature sink, the more difficult for a heat engine to transfer heat into it, thus, lower thermal efficiency also.  That is why low-temperature reservoirs such as rivers and lakes are popular for this rea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ncrease the thermal efficiency of a gas power turbine, one would like to increase the temperature of the combustion chamber.  However, that sometimes conflict with other design requirements. Example: turbine blades can not withstand the high temperature gas, thus leads to early fatigue.  Solutions: better material research and/or innovative cooling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s in general more valuable compared to heat since the work can convert to heat almost 100% but not the other way around.  Heat becomes useless when it is transferred to a low-temperature source because the thermal efficiency will be very low according t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-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 This is why there is little incentive to extract the massive thermal energy stored in the oceans and lak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4T23:25:53Z</dcterms:created>
  <dc:creator>C. Shih</dc:creator>
  <dc:description/>
  <dc:language>en-US</dc:language>
  <cp:lastModifiedBy>Chiang Shih</cp:lastModifiedBy>
  <dcterms:modified xsi:type="dcterms:W3CDTF">1999-10-14T21:11:14Z</dcterms:modified>
  <cp:revision>13</cp:revision>
  <dc:subject/>
  <dc:title>The Carnot Cyc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