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F7EE-9ABB-4526-9967-A023188E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B42-9724-477C-BD86-820927DD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D72-3067-424C-930D-6A733DDC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0D2E-A77E-4851-BF97-17EE2BD9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EFB-4778-48B2-9DDC-927D6704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9387-0A44-4926-8329-2512D9FA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84C-EEE0-470B-A743-BABBB81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668-09F6-40DA-8980-A265B1D6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209-D05A-47CE-98A9-8FFEBBAC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790-3D95-4920-83A4-57F8EFE8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4E4-349D-43DB-BF47-C9589EA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1D1-7D7C-4903-BC89-482BC29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0EC8-D2D4-4C93-B55B-C1C4F5AB2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8360" y="42228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ic Fluid Properties and Governing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7280" y="1176480"/>
            <a:ext cx="78768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sity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: mass per unit volume (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slug/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fic Volume (v=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: volume per uni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erature (T): thermodynamic property that measures the molecular ac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an object.  It is used to determine whether an object has reached ther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libri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 (p):pressure can be considered as an averaged normal force exe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 unit surface area by impacting molecu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                  , N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pascal; lb/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r p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cal law: (under static condition) pressure acts uniformly in all directions.  It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s perpendicular to the containing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 fluid system is not in motion, then the fluid pressure is equal its thermodyna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omspheric pressure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: pressure measured at the earth’s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atm = 14.696 psi = 1.01325 x 105 N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pas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lute pressure: pressure measured without reference to other press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ge pressure: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a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p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bsolu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066680" y="3079800"/>
                <a:ext cx="1032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725480" y="1371600"/>
                <a:ext cx="5311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V</m:t>
                            </m:r>
                          </m:e>
                        </m:borderBox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d</m:t>
                        </m:r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V</m:t>
                            </m:r>
                          </m:e>
                        </m:borderBox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borderBox>
                      <m:borderBoxPr>
                        <m:hideTop m:val="1"/>
                        <m:hideBot m:val="1"/>
                        <m:hideLeft m:val="1"/>
                        <m:hideRight m:val="1"/>
                        <m:strikeH m:val="1"/>
                      </m:borderBoxPr>
                      <m:e>
                        <m:r>
                          <m:t xml:space="preserve">V</m:t>
                        </m:r>
                      </m:e>
                    </m:borderBox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733920" y="1371600"/>
            <a:ext cx="7617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048120" y="22860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080" y="2819520"/>
            <a:ext cx="259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density consta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lume changes wit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: blow up a soap b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24280" y="1371600"/>
            <a:ext cx="762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334120" y="22856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40160" y="2857680"/>
            <a:ext cx="25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volume constan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nsity changes with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: pump up a 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819520" y="3809880"/>
                <a:ext cx="335268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433160" y="4724280"/>
            <a:ext cx="59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eady state condition: mass flow in = mass flow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00560" y="5334120"/>
                <a:ext cx="2724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197360" y="422280"/>
            <a:ext cx="44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filling up an empty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1676520"/>
            <a:ext cx="20574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590920"/>
            <a:ext cx="20574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3720" y="2514600"/>
            <a:ext cx="2209680" cy="99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272800">
            <a:off x="1676160" y="1371600"/>
            <a:ext cx="8380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14600" y="1828800"/>
            <a:ext cx="2286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89920" y="1447920"/>
            <a:ext cx="4760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is fed into an empty tank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hose of cross-sectional area of 0.000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low speed out of the hose is measu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10 m/s.  Determine the rate of incre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water height inside the tank dh/d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ross-sectional area of the tank is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52120" y="2590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16765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051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9800" y="27082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752480" y="3809880"/>
                <a:ext cx="59803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d</m:t>
                        </m:r>
                        <m:borderBox>
                          <m:borderBoxPr>
                            <m:hideTop m:val="1"/>
                            <m:hideBot m:val="1"/>
                            <m:hideLeft m:val="1"/>
                            <m:hideRight m:val="1"/>
                            <m:strikeH m:val="1"/>
                          </m:borderBoxPr>
                          <m:e>
                            <m:r>
                              <m:t xml:space="preserve">V</m:t>
                            </m:r>
                          </m:e>
                        </m:borderBox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k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se</m:t>
                        </m:r>
                      </m:sub>
                    </m:sSub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715000" y="3962520"/>
            <a:ext cx="762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26080" y="37335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007040" y="342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no mas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752480" y="5029200"/>
                <a:ext cx="6172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s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2387520" y="990720"/>
            <a:ext cx="4114800" cy="1295280"/>
            <a:chOff x="2387520" y="990720"/>
            <a:chExt cx="4114800" cy="1295280"/>
          </a:xfrm>
        </p:grpSpPr>
        <p:sp>
          <p:nvSpPr>
            <p:cNvPr id="234" name=""/>
            <p:cNvSpPr/>
            <p:nvPr/>
          </p:nvSpPr>
          <p:spPr>
            <a:xfrm>
              <a:off x="2387520" y="990720"/>
              <a:ext cx="152388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200000">
              <a:off x="3835080" y="1066680"/>
              <a:ext cx="1295280" cy="1143000"/>
            </a:xfrm>
            <a:custGeom>
              <a:avLst/>
              <a:gdLst>
                <a:gd name="textAreaLeft" fmla="*/ 284760 w 1295280"/>
                <a:gd name="textAreaRight" fmla="*/ 1010520 w 1295280"/>
                <a:gd name="textAreaTop" fmla="*/ 251280 h 1143000"/>
                <a:gd name="textAreaBottom" fmla="*/ 891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4400" y="1295280"/>
              <a:ext cx="14479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041480" y="1447920"/>
            <a:ext cx="977760" cy="304560"/>
          </a:xfrm>
          <a:prstGeom prst="rightArrow">
            <a:avLst>
              <a:gd name="adj1" fmla="val 50000"/>
              <a:gd name="adj2" fmla="val 802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21360" y="1447920"/>
            <a:ext cx="965520" cy="304560"/>
          </a:xfrm>
          <a:prstGeom prst="rightArrow">
            <a:avLst>
              <a:gd name="adj1" fmla="val 50000"/>
              <a:gd name="adj2" fmla="val 792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85080" y="700200"/>
            <a:ext cx="213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2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19240" y="3459240"/>
                <a:ext cx="5715000" cy="23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constant density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262600" y="2401920"/>
            <a:ext cx="213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1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4720" y="471600"/>
            <a:ext cx="1270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57120" y="2122560"/>
            <a:ext cx="69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03400" y="358920"/>
            <a:ext cx="736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mentum Conservation: (Newton’s second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external forces lead to the change of linear moment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270240" y="1238400"/>
                <a:ext cx="1974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nary>
                    <m:r>
                      <m:t xml:space="preserve">(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 rot="18949800">
            <a:off x="2453760" y="3331800"/>
            <a:ext cx="1881360" cy="55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428004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64040" y="2971800"/>
            <a:ext cx="0" cy="13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755800" y="2971800"/>
            <a:ext cx="13082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10480" y="4395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27120" y="33926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158920" y="3720600"/>
            <a:ext cx="25416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555720" y="2450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324160" y="2577600"/>
            <a:ext cx="132084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39520" y="28083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22640" y="4444920"/>
            <a:ext cx="393480" cy="393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203360" y="2298600"/>
            <a:ext cx="46980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88840" y="5005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10680" y="205884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962600" y="2508120"/>
                <a:ext cx="4127400" cy="37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)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dp</m:t>
                        </m:r>
                        <m:r>
                          <m:t xml:space="preserve">−</m:t>
                        </m:r>
                        <m:r>
                          <m:t xml:space="preserve">ρ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ρ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t xml:space="preserve">ρ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ρA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gd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gdz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4305240" y="28065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6160" y="237024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5537160"/>
            <a:ext cx="2273400" cy="73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3040" y="214776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neglect visc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00920" y="626256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ler’s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760" y="2463840"/>
            <a:ext cx="354960" cy="684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305240" y="539640"/>
                <a:ext cx="23875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d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1530720" y="73836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ler’s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98600" y="1779480"/>
            <a:ext cx="37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dz=0 no elevation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359320" y="1644480"/>
                <a:ext cx="1649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dV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27760" y="2554200"/>
            <a:ext cx="698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p&gt;0, pressure increases as fluid flows down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dV&lt;0, velocity decreases due to the adverse pressur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vice 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p=0, no external pressure grad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z&lt;0, fluid flows to a lower point, dV&gt;0, its velocity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V=0, no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z&lt;0, into the lower elevation inside the static fluid syste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p&gt;0, pressure incr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987880" y="3809880"/>
                <a:ext cx="16383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dV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809880" y="5137200"/>
                <a:ext cx="14335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gdz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5245200" y="1650960"/>
            <a:ext cx="1854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54680" y="3695760"/>
            <a:ext cx="196848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70200" y="5130720"/>
            <a:ext cx="170208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571680"/>
            <a:ext cx="2577960" cy="7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2425680" y="671040"/>
            <a:ext cx="4114800" cy="1296000"/>
            <a:chOff x="2425680" y="671040"/>
            <a:chExt cx="4114800" cy="1296000"/>
          </a:xfrm>
        </p:grpSpPr>
        <p:sp>
          <p:nvSpPr>
            <p:cNvPr id="279" name=""/>
            <p:cNvSpPr/>
            <p:nvPr/>
          </p:nvSpPr>
          <p:spPr>
            <a:xfrm>
              <a:off x="2425680" y="671400"/>
              <a:ext cx="152388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6200000">
              <a:off x="3873240" y="747360"/>
              <a:ext cx="1295640" cy="1143000"/>
            </a:xfrm>
            <a:custGeom>
              <a:avLst/>
              <a:gdLst>
                <a:gd name="textAreaLeft" fmla="*/ 284760 w 1295640"/>
                <a:gd name="textAreaRight" fmla="*/ 1010880 w 1295640"/>
                <a:gd name="textAreaTop" fmla="*/ 251280 h 1143000"/>
                <a:gd name="textAreaBottom" fmla="*/ 8917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92560" y="976320"/>
              <a:ext cx="14479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079640" y="1128600"/>
            <a:ext cx="977760" cy="304920"/>
          </a:xfrm>
          <a:prstGeom prst="rightArrow">
            <a:avLst>
              <a:gd name="adj1" fmla="val 50000"/>
              <a:gd name="adj2" fmla="val 801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59520" y="1128600"/>
            <a:ext cx="965160" cy="304920"/>
          </a:xfrm>
          <a:prstGeom prst="rightArrow">
            <a:avLst>
              <a:gd name="adj1" fmla="val 50000"/>
              <a:gd name="adj2" fmla="val 791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1720" y="2109960"/>
            <a:ext cx="8099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flows through a converging duct as shown.  The areas at sections 1 &amp;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5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1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espectively.  The inlet flow speed is 20 m/s and we kn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utlet speed at section 2 is 100 m/s by mass conservation.  If the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ection 2 is the atmospheric pressure at 1.0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at is the pres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ection 1.  Neglect all viscous effects and given the density of 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.185 kg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79360" y="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17840" y="38088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573280" y="3757680"/>
                <a:ext cx="5800680" cy="33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rate from section 1 to section 2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V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t xml:space="preserve">⇒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ρ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5688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2476440" y="3772080"/>
            <a:ext cx="5994360" cy="29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59400" y="623880"/>
            <a:ext cx="613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ic pressure can be measured using a barome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1523880"/>
            <a:ext cx="1526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3124080"/>
            <a:ext cx="14479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1905120"/>
            <a:ext cx="15264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429000"/>
            <a:ext cx="14479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371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80680" y="110484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cu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28195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7920" y="2224080"/>
            <a:ext cx="191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.01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746360"/>
            <a:ext cx="152640" cy="16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3429000"/>
            <a:ext cx="152640" cy="380880"/>
          </a:xfrm>
          <a:prstGeom prst="upArrow">
            <a:avLst>
              <a:gd name="adj1" fmla="val 50000"/>
              <a:gd name="adj2" fmla="val 623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1257480"/>
            <a:ext cx="152640" cy="419040"/>
          </a:xfrm>
          <a:prstGeom prst="downArrow">
            <a:avLst>
              <a:gd name="adj1" fmla="val 50000"/>
              <a:gd name="adj2" fmla="val 686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56720" y="966960"/>
            <a:ext cx="5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77880" y="3672000"/>
            <a:ext cx="8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4636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346560"/>
            <a:ext cx="24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1746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9960" y="22240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09680" y="4572000"/>
                <a:ext cx="6019920" cy="15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ce balance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ALg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L</m:t>
                        </m:r>
                      </m:e>
                      <m:e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is the density of the fluid, g is the gravitational consta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4400" y="179280"/>
          <a:ext cx="7844040" cy="149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179280"/>
                    <a:ext cx="7844040" cy="14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612800" y="1752480"/>
            <a:ext cx="171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46320" y="2502000"/>
            <a:ext cx="190440" cy="26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35240" y="281952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47840" y="210816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7720" y="2846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93920" y="200808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87520" y="2641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27200" y="1752480"/>
            <a:ext cx="0" cy="889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1360" y="193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9640" y="1182600"/>
            <a:ext cx="2072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surface, p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39880" y="1523880"/>
            <a:ext cx="279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09560" y="2160720"/>
            <a:ext cx="570024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If a container of fluid is accelera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n acceleration of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right as shown below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shape of the free surface of the flui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65160" y="4165560"/>
            <a:ext cx="1676520" cy="128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5160" y="4546440"/>
            <a:ext cx="1676520" cy="901800"/>
          </a:xfrm>
          <a:custGeom>
            <a:avLst/>
            <a:gdLst/>
            <a:ahLst/>
            <a:rect l="l" t="t" r="r" b="b"/>
            <a:pathLst>
              <a:path w="1056" h="568">
                <a:moveTo>
                  <a:pt x="0" y="0"/>
                </a:moveTo>
                <a:lnTo>
                  <a:pt x="1056" y="304"/>
                </a:lnTo>
                <a:lnTo>
                  <a:pt x="1056" y="568"/>
                </a:lnTo>
                <a:lnTo>
                  <a:pt x="0" y="568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79640" y="5384880"/>
            <a:ext cx="266400" cy="24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60440" y="5384880"/>
            <a:ext cx="266760" cy="241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93960" y="48261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10960" y="419256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1160" y="3873600"/>
            <a:ext cx="201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11760" y="4000680"/>
            <a:ext cx="49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9080" y="400068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30240" y="3430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2160" y="337968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36960" y="4184640"/>
          <a:ext cx="4889520" cy="19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6960" y="4184640"/>
                    <a:ext cx="488952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1523880" y="4419720"/>
            <a:ext cx="596880" cy="469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37040" y="5587920"/>
            <a:ext cx="1689120" cy="7113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145960" y="4876560"/>
            <a:ext cx="1028520" cy="647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37040" y="6426360"/>
            <a:ext cx="16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97360" y="5587920"/>
            <a:ext cx="0" cy="69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69560" y="6389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2080" y="5703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95360" y="25527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960" y="3390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4880" y="3405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440" y="2173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37600" y="27612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oyancy of a submerged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00240" y="1743120"/>
            <a:ext cx="1162080" cy="714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760" y="1285920"/>
            <a:ext cx="270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43080" y="132408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0600" y="139068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86080" y="1743120"/>
            <a:ext cx="14256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562040" y="2463840"/>
            <a:ext cx="0" cy="393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1419120"/>
            <a:ext cx="0" cy="3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9640" y="17431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2600" y="2457360"/>
            <a:ext cx="59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990720" y="1285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90400" y="1285920"/>
            <a:ext cx="0" cy="11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7480" y="12621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9640" y="15667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3360" y="2760840"/>
            <a:ext cx="171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8640" y="1317600"/>
            <a:ext cx="150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5520" y="985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22560" y="1871640"/>
            <a:ext cx="3824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 force due to pressure dif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=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dA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(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20" name=""/>
          <p:cNvGraphicFramePr/>
          <p:nvPr/>
        </p:nvGraphicFramePr>
        <p:xfrm>
          <a:off x="3038400" y="2851200"/>
          <a:ext cx="4145040" cy="81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8400" y="2851200"/>
                    <a:ext cx="414504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78160" y="3935520"/>
            <a:ext cx="791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le of Archime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uoyancy acting on a submerged object is equal to the weight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ced fluid due to the presence of the ob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law is valid for all fluid and regardless of the shape of the body.  It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be applied to both fully and partially submerged bo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1200" y="522360"/>
            <a:ext cx="793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Titanic sank when it struck an iceberg on April 14, 1912.  F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ts 16 watertight compartments were punctuated when it collides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ceberg underwater.  Can you estimate the percentage of the iceberg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ctually beneath the water surface?  It is known that when water fre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, it expands and its specific gravity changes from 1 to 0.91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03320" y="2273400"/>
            <a:ext cx="1778040" cy="241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4720" y="3009960"/>
            <a:ext cx="24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52760" y="30733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41680" y="3149640"/>
            <a:ext cx="16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39880" y="4788000"/>
            <a:ext cx="241200" cy="584280"/>
          </a:xfrm>
          <a:prstGeom prst="upArrow">
            <a:avLst>
              <a:gd name="adj1" fmla="val 50000"/>
              <a:gd name="adj2" fmla="val 605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27280" y="3365640"/>
            <a:ext cx="317520" cy="507960"/>
          </a:xfrm>
          <a:prstGeom prst="downArrow">
            <a:avLst>
              <a:gd name="adj1" fmla="val 50000"/>
              <a:gd name="adj2" fmla="val 399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40120" y="495468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y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81600" y="34560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44000" y="2465280"/>
            <a:ext cx="478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the iceberg floats, its weight bal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uoyancy force exerted on the iceberg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placed wa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841920" y="3627360"/>
          <a:ext cx="4508280" cy="24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920" y="3627360"/>
                    <a:ext cx="450828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82560" y="27000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3760" y="1104840"/>
            <a:ext cx="70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cosity: Due to interaction between fluid molecules, the fluid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resist a shearing motion.  The viscosity is a measure of this res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20574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81080" y="2971800"/>
            <a:ext cx="35053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124080" y="22093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209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29560" y="1790640"/>
            <a:ext cx="174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ing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force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speed 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6520" y="28576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ary 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6760" y="351324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experimental observation, 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(U/H)=A(dV/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3480" y="2209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48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84360" y="22096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5608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98680" y="3976560"/>
                <a:ext cx="671508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∝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τ</m:t>
                        </m:r>
                        <m:r>
                          <m:rPr>
                            <m:lit/>
                            <m:nor/>
                          </m:rPr>
                          <m:t xml:space="preserve"> is shear stress</m:t>
                        </m:r>
                      </m:e>
                      <m:e>
                        <m:r>
                          <m:t xml:space="preserve">τ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is dynamic viscosity, The unit of </m:t>
                        </m:r>
                        <m:r>
                          <m:t xml:space="preserve">μ</m:t>
                        </m:r>
                        <m:r>
                          <m:rPr>
                            <m:lit/>
                            <m:nor/>
                          </m:rPr>
                          <m:t xml:space="preserve"> is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or 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inematic viscosity </m:t>
                        </m:r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s unit of 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06200" y="511200"/>
            <a:ext cx="7614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y Layer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djacent to a solid surface, the fluid particles are sl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strong shear force between the fluid particles and the surf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relatively slower moving layer of fluid is called a “boundary laye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93760" y="4737240"/>
            <a:ext cx="283212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97080" y="2247480"/>
            <a:ext cx="0" cy="248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51040" y="172440"/>
            <a:ext cx="2387160" cy="456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70" y="1"/>
                </a:moveTo>
                <a:arcTo wR="10800" hR="10800" stAng="-5345831" swAng="5345831"/>
                <a:lnTo>
                  <a:pt x="10800" y="10800"/>
                </a:lnTo>
                <a:close/>
              </a:path>
              <a:path fill="none" w="21600" h="21600">
                <a:moveTo>
                  <a:pt x="10970" y="1"/>
                </a:moveTo>
                <a:arcTo wR="10800" hR="10800" stAng="-5345831" swAng="534583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97080" y="26290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3124080"/>
            <a:ext cx="104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7080" y="36831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7080" y="4178160"/>
            <a:ext cx="62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24560" y="4735440"/>
            <a:ext cx="2692440" cy="154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86680" y="2247480"/>
            <a:ext cx="0" cy="248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80680" y="3950640"/>
            <a:ext cx="2412000" cy="78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15560" y="151200"/>
            <a:ext cx="354960" cy="419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86680" y="4343400"/>
            <a:ext cx="12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86680" y="394956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86680" y="35305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6680" y="312408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86680" y="262908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26000" y="23623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mi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9600" y="23623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urbu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93760" y="5391000"/>
                <a:ext cx="116856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μ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2938680" y="534672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ion: which profile has larger wall shear stres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ther words, which profile produces more fric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g against the motion of the solid surfac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58920"/>
            <a:ext cx="873936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al Differential Equations (PDE)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ny physical phenomena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ed by PDE since the physical functions involved usually depend on tw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more independent variables (ex. Time, spatial coordinates).  Their variation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ect to these variables need to be described by PDE not ODE (Ord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Equati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In dynamics, we often track the change of the position of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ime.  Time is the only variable in this case.  X=x(t), u=dx/dt, a=du/d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eat transfer, temperature inside an object can vary with both time and sp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T(x,t).  The temperature varies with time since it has not reach its therm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76" name=""/>
          <p:cNvGraphicFramePr/>
          <p:nvPr/>
        </p:nvGraphicFramePr>
        <p:xfrm>
          <a:off x="2371680" y="4162320"/>
          <a:ext cx="305928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4162320"/>
                    <a:ext cx="305928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71080" y="5005440"/>
            <a:ext cx="76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mperature can also vary in space as according to the Fourier’s la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68480" y="5518080"/>
          <a:ext cx="454176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8480" y="5518080"/>
                    <a:ext cx="454176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equations of Fluid Mecha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7560" y="1336680"/>
            <a:ext cx="75686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s conservation (continuity equatio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te of mass stored = the rate of mass in - the rate of mass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57600" y="2133720"/>
                <a:ext cx="20574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429000" y="3200400"/>
            <a:ext cx="22860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3581280"/>
            <a:ext cx="762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86400" y="358128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886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581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15000" y="35812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38862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36576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3657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05320" y="3276720"/>
            <a:ext cx="2057400" cy="99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828800" y="312408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6781680" y="3124080"/>
                <a:ext cx="533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867120" y="3417840"/>
                <a:ext cx="1160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 </m:t>
                    </m:r>
                    <m:borderBox>
                      <m:borderBoxPr>
                        <m:hideTop m:val="1"/>
                        <m:hideBot m:val="1"/>
                        <m:hideLeft m:val="1"/>
                        <m:hideRight m:val="1"/>
                        <m:strikeH m:val="1"/>
                      </m:borderBoxPr>
                      <m:e>
                        <m:r>
                          <m:t xml:space="preserve">V</m:t>
                        </m:r>
                      </m:e>
                    </m:borderBox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523880" y="4952880"/>
            <a:ext cx="12193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4495680"/>
                <a:ext cx="457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657600" y="4343400"/>
            <a:ext cx="5006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given ti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, the fluid elemen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ross-sectional area of A moves a distanc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 as sh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ass flow rate can be represented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62520" y="5638680"/>
                <a:ext cx="358128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m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A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0666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" y="4572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0:06:54Z</dcterms:created>
  <dc:creator>C. Shih</dc:creator>
  <dc:description/>
  <dc:language>en-US</dc:language>
  <cp:lastModifiedBy>C. Shih</cp:lastModifiedBy>
  <cp:lastPrinted>1998-09-02T07:58:12Z</cp:lastPrinted>
  <dcterms:modified xsi:type="dcterms:W3CDTF">1999-02-12T00:33:08Z</dcterms:modified>
  <cp:revision>26</cp:revision>
  <dc:subject/>
  <dc:title>No Slide Title</dc:title>
</cp:coreProperties>
</file>