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698-CFF7-43C2-B158-135F1986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8DF-A21A-4188-B514-923DA38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57D-DC75-4408-B443-49E0D2A8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565-98AF-4083-AD10-D7032807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CED-B41C-4BD1-8F56-9882DF4D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FF7-465F-4CF5-B7A3-DD5860F5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E05-4C0A-48ED-8E59-31F897F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F9D-060F-4166-9066-D6DBA93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6DB-5FFE-4A34-ACB3-C5F66C60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872-119D-4AD4-B439-D6309921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8E4-3F4F-4E28-8074-8AA6F95B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9EF-5979-46C0-BD98-1A121682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84B0-5838-4D05-8A33-DA873C3DB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7160" y="0"/>
            <a:ext cx="7772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heat Rankine Cycle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08200" y="658800"/>
            <a:ext cx="914400" cy="60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8480" y="2260440"/>
            <a:ext cx="523800" cy="66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2649240" y="1492200"/>
            <a:ext cx="772920" cy="652680"/>
          </a:xfrm>
          <a:custGeom>
            <a:avLst/>
            <a:gdLst>
              <a:gd name="textAreaLeft" fmla="*/ 169920 w 772920"/>
              <a:gd name="textAreaRight" fmla="*/ 603000 w 772920"/>
              <a:gd name="textAreaTop" fmla="*/ 143280 h 652680"/>
              <a:gd name="textAreaBottom" fmla="*/ 509400 h 6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864360" y="1305720"/>
            <a:ext cx="773280" cy="914400"/>
          </a:xfrm>
          <a:custGeom>
            <a:avLst/>
            <a:gdLst>
              <a:gd name="textAreaLeft" fmla="*/ 169920 w 773280"/>
              <a:gd name="textAreaRight" fmla="*/ 603360 w 773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2600" y="934920"/>
            <a:ext cx="260280" cy="662040"/>
          </a:xfrm>
          <a:custGeom>
            <a:avLst/>
            <a:gdLst/>
            <a:ahLst/>
            <a:rect l="l" t="t" r="r" b="b"/>
            <a:pathLst>
              <a:path w="288" h="576">
                <a:moveTo>
                  <a:pt x="0" y="0"/>
                </a:moveTo>
                <a:lnTo>
                  <a:pt x="288" y="0"/>
                </a:lnTo>
                <a:lnTo>
                  <a:pt x="288" y="576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92280" y="2149560"/>
            <a:ext cx="782640" cy="44136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864" y="0"/>
                </a:moveTo>
                <a:lnTo>
                  <a:pt x="864" y="384"/>
                </a:lnTo>
                <a:lnTo>
                  <a:pt x="0" y="384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28680" y="2038320"/>
            <a:ext cx="739800" cy="60804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816" y="528"/>
                </a:moveTo>
                <a:lnTo>
                  <a:pt x="0" y="528"/>
                </a:ln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54080" y="934920"/>
            <a:ext cx="654120" cy="497160"/>
          </a:xfrm>
          <a:custGeom>
            <a:avLst/>
            <a:gdLst/>
            <a:ahLst/>
            <a:rect l="l" t="t" r="r" b="b"/>
            <a:pathLst>
              <a:path w="720" h="432">
                <a:moveTo>
                  <a:pt x="0" y="432"/>
                </a:move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25360" y="98748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6280" y="148608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0240" y="195912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en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56880" y="232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74320" y="503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8520" y="557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95160" y="238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45880" y="2676600"/>
            <a:ext cx="174600" cy="44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2760" y="312912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570040" y="411120"/>
            <a:ext cx="130320" cy="3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30320" y="146160"/>
            <a:ext cx="480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68520" y="1738440"/>
            <a:ext cx="347760" cy="10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9040" y="1239480"/>
            <a:ext cx="390600" cy="55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21480" y="754200"/>
            <a:ext cx="61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2080" y="1351080"/>
            <a:ext cx="564840" cy="27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60" y="1406520"/>
            <a:ext cx="53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47800" y="7621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25960" y="1371600"/>
            <a:ext cx="4876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superheat Rankine power cycle as we analyzed before.  But this time we are going to look at the system at a more practical sense. As before, the steam exits from the turbine will be 100% saturated vapor as shown.  After condensing, saturated liquid enters the pump at a pressure of 0.1 MPa.  However, both the turbine  and the pump are operating at an isentropic efficiency of 80%.  Determine (a) the rate of heat transfer into the boiler per unit mass, (b) the net power generation per unit mass. (c) the thermal efficienc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3120" y="6018120"/>
            <a:ext cx="2590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843120" y="380844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9960" y="3544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5400" y="3875040"/>
            <a:ext cx="2220840" cy="1914480"/>
          </a:xfrm>
          <a:custGeom>
            <a:avLst/>
            <a:gdLst/>
            <a:ahLst/>
            <a:rect l="l" t="t" r="r" b="b"/>
            <a:pathLst>
              <a:path w="1399" h="1206">
                <a:moveTo>
                  <a:pt x="0" y="1206"/>
                </a:moveTo>
                <a:cubicBezTo>
                  <a:pt x="68" y="1102"/>
                  <a:pt x="136" y="998"/>
                  <a:pt x="192" y="870"/>
                </a:cubicBezTo>
                <a:cubicBezTo>
                  <a:pt x="248" y="742"/>
                  <a:pt x="288" y="566"/>
                  <a:pt x="336" y="438"/>
                </a:cubicBezTo>
                <a:cubicBezTo>
                  <a:pt x="384" y="310"/>
                  <a:pt x="416" y="166"/>
                  <a:pt x="480" y="102"/>
                </a:cubicBezTo>
                <a:cubicBezTo>
                  <a:pt x="544" y="38"/>
                  <a:pt x="645" y="0"/>
                  <a:pt x="720" y="54"/>
                </a:cubicBezTo>
                <a:cubicBezTo>
                  <a:pt x="795" y="108"/>
                  <a:pt x="865" y="302"/>
                  <a:pt x="932" y="425"/>
                </a:cubicBezTo>
                <a:cubicBezTo>
                  <a:pt x="999" y="548"/>
                  <a:pt x="1043" y="670"/>
                  <a:pt x="1121" y="792"/>
                </a:cubicBezTo>
                <a:cubicBezTo>
                  <a:pt x="1199" y="914"/>
                  <a:pt x="1341" y="1083"/>
                  <a:pt x="1399" y="1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4960" y="575640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5400" y="559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4760" y="48625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6320" y="3276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55080" y="55627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71440" y="3668760"/>
            <a:ext cx="1868760" cy="1817640"/>
          </a:xfrm>
          <a:custGeom>
            <a:avLst/>
            <a:gdLst/>
            <a:ahLst/>
            <a:rect l="l" t="t" r="r" b="b"/>
            <a:pathLst>
              <a:path w="1177" h="1145">
                <a:moveTo>
                  <a:pt x="0" y="1145"/>
                </a:moveTo>
                <a:lnTo>
                  <a:pt x="0" y="893"/>
                </a:lnTo>
                <a:lnTo>
                  <a:pt x="277" y="425"/>
                </a:lnTo>
                <a:lnTo>
                  <a:pt x="757" y="425"/>
                </a:lnTo>
                <a:lnTo>
                  <a:pt x="1177" y="0"/>
                </a:lnTo>
                <a:lnTo>
                  <a:pt x="1177" y="1144"/>
                </a:lnTo>
                <a:lnTo>
                  <a:pt x="0" y="114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048120" y="49528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365760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3080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81160" y="4819680"/>
            <a:ext cx="142920" cy="657360"/>
          </a:xfrm>
          <a:custGeom>
            <a:avLst/>
            <a:gdLst/>
            <a:ahLst/>
            <a:rect l="l" t="t" r="r" b="b"/>
            <a:pathLst>
              <a:path w="90" h="414">
                <a:moveTo>
                  <a:pt x="0" y="414"/>
                </a:moveTo>
                <a:lnTo>
                  <a:pt x="9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848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080" y="650880"/>
            <a:ext cx="8854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versibilities and losses are always associated with the operation of a real mechanical system.  The existence of these unwanted effects is accompanied by an increase of entropy as required from the second law. (ex: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s isentropic process, 3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 entropy increases for a real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fficiency of the turbin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will decrease as a result of these los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2971800"/>
                <a:ext cx="25146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4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65040" y="3886200"/>
            <a:ext cx="87789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sentropic expansion work (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ideal process and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ctual work done in a re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the isentropic pump efficiency can be express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200400" y="5029200"/>
                <a:ext cx="26161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304920" y="5943600"/>
            <a:ext cx="883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inefficiency,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required more work to pump and compress the liqu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568440"/>
          <a:ext cx="8381880" cy="62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68440"/>
                    <a:ext cx="8381880" cy="62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696080" y="914400"/>
            <a:ext cx="6858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696080" y="914400"/>
            <a:ext cx="60984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848720" y="1752480"/>
            <a:ext cx="60948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752480"/>
            <a:ext cx="685800" cy="533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58360" y="1184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550800"/>
          <a:ext cx="8534520" cy="59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50800"/>
                    <a:ext cx="853452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 flipV="1">
            <a:off x="2819520" y="1676520"/>
            <a:ext cx="609480" cy="457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676520"/>
            <a:ext cx="685800" cy="533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680" y="152388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4T15:42:33Z</dcterms:created>
  <dc:creator>C. Shih</dc:creator>
  <dc:description/>
  <dc:language>en-US</dc:language>
  <cp:lastModifiedBy>Chiang Shih</cp:lastModifiedBy>
  <dcterms:modified xsi:type="dcterms:W3CDTF">1999-11-02T00:25:47Z</dcterms:modified>
  <cp:revision>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