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B0F5-DE54-4A2F-A25B-CA583F7A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713E-EDE0-4B7A-A483-3AFEB825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BB38-EF9B-40C8-BC56-93FFECBF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817-C1E3-4C29-BB20-E70390BC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C376-D0E3-4BAB-99FF-3ACF9438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184A-C5AF-4C0B-8701-5C9B21BC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E3B3-4125-4487-8861-9CD52DF4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5931-2951-49C5-8407-89E7A776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D85D-853F-4DD5-B501-7C3D109F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B3A1-6438-4F05-A4DB-F855179B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7F0D-5A8D-4494-B19C-61EF78FD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49C6-72A9-4003-91CB-A79DB812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4099-6088-49C7-BF2B-B5419CDA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72BA-7FC1-41AD-A8A5-B1CED2F0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8486-65EF-42CB-8495-3901051B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E51B-2126-4F98-B5F6-D4CDCC09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7BA4-565D-4C1F-A0D2-63BE1935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0E9C-198A-4747-8B4C-C6E3162A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77F8-A386-475A-B164-3D67FBBD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0600-6447-4B58-ABD6-B130116B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83F0-9B56-4DF9-9C2C-2A523036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00F-2680-48E9-BFDF-B42FA3CF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00E-0003-4F66-A52D-DDC5CB2D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5B8E-0CAC-4500-B5D8-5D382490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>
            <a:hlinkClick r:id="" action="ppaction://hlinkshowjump?jump=nextslide"/>
          </p:cNvPr>
          <p:cNvSpPr/>
          <p:nvPr/>
        </p:nvSpPr>
        <p:spPr>
          <a:xfrm>
            <a:off x="2819520" y="6629400"/>
            <a:ext cx="1752480" cy="227160"/>
          </a:xfrm>
          <a:prstGeom prst="rect">
            <a:avLst/>
          </a:prstGeom>
          <a:gradFill rotWithShape="0">
            <a:gsLst>
              <a:gs pos="0">
                <a:srgbClr val="00254a"/>
              </a:gs>
              <a:gs pos="50000">
                <a:srgbClr val="0066cc"/>
              </a:gs>
              <a:gs pos="100000">
                <a:srgbClr val="0025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9ED5-1F63-4485-897C-B7ED05522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previousslide"/>
          </p:cNvPr>
          <p:cNvSpPr/>
          <p:nvPr/>
        </p:nvSpPr>
        <p:spPr>
          <a:xfrm>
            <a:off x="762120" y="6629400"/>
            <a:ext cx="1752480" cy="227160"/>
          </a:xfrm>
          <a:prstGeom prst="rect">
            <a:avLst/>
          </a:prstGeom>
          <a:gradFill rotWithShape="0">
            <a:gsLst>
              <a:gs pos="0">
                <a:srgbClr val="00254a"/>
              </a:gs>
              <a:gs pos="50000">
                <a:srgbClr val="0066cc"/>
              </a:gs>
              <a:gs pos="100000">
                <a:srgbClr val="00254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vi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0FCD-50A0-4D71-B101-CA46AA06B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anny and the Intake Poss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790960" y="4191120"/>
            <a:ext cx="3352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eatu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niel Aronha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rcnell Pier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ram Holm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wayne Wh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uricio Ballester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an Henders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1000" y="2209680"/>
            <a:ext cx="525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mal Fluids 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ril 15, 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e Web Site: www.eng.fsu.edu/~hender/project1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38080" y="3809880"/>
          <a:ext cx="4734000" cy="25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9880"/>
                    <a:ext cx="473400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LOW DISTRIBU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8600" y="1600200"/>
          <a:ext cx="5486400" cy="472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548640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791320" y="1904760"/>
            <a:ext cx="304776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cture shows the entrance flow and no sepa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LOW PROFI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440400" cy="4359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locity from Pitot tube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629400" y="2819520"/>
                <a:ext cx="22096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ρ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7" name=""/>
          <p:cNvGraphicFramePr/>
          <p:nvPr/>
        </p:nvGraphicFramePr>
        <p:xfrm>
          <a:off x="1981080" y="2438280"/>
          <a:ext cx="6400800" cy="42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438280"/>
                    <a:ext cx="640080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ELOCITY RESUL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locity increases as pitot tube approaches activated runners stream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nner velocities were almost identical ( 0.76% differenc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locity data indicates possible vortex formation and boundary lay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ESSURE for R1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st pressure change is blue entrance curve (possible boundary lay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st pressure is near the runner entry (yellow curv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2209680"/>
          <a:ext cx="526248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52624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ESSURE RESUL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nimum pressure at entrance and maximum pressure near runn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sure remains low for points opposite from the activated runner (Vortex?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sure data for runners one and two were similar (7.44% differenc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sure  at each runner is similar (desir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suggests vortex formation (possible negative effect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locity for runners is almost identical (desir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TURE STEP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gate vortices 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gate transient flow respon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earch different plenum shape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earch different runner sha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 and Analyze  an intake system for the SAE formula ca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relationship between entrance velocities for runn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d pressure distribution in plenu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velocity profile through out the engine cycl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 engine power and throttle respons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tain consistent flow for each runn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show even pressure and velocity profiles at runner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LENU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05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Fuel injection engin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Improve Uniform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Improve HP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Throttle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Sets up for runner resona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572000" cy="4181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ir enters through the throttle bo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ows through restricto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enum accumulates flow volu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nners retrieve air from plenum volu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029200" y="2133720"/>
          <a:ext cx="3314880" cy="42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2133720"/>
                    <a:ext cx="3314880" cy="42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QUIP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gital Mano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ction pum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tot tub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sure Ta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EXPERIMENT PROCED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ESSUR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ce pressure taps in strategic posi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ly vacuum for correct flow 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ster the pressure readings for each runner under su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ESSURE POI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1 pressure ta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sure taps are located @ 4, 5, 8 in. from th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625in apar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 from the center line to the ed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half of plenum: unifor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181480" y="1981080"/>
          <a:ext cx="3267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981080"/>
                    <a:ext cx="3267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ITOT TUBE (VELOCITY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tot tube is moved from left to right to record dynamic pressur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 the velocity profil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termine flow characteristic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876920" y="1905120"/>
          <a:ext cx="3438360" cy="40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905120"/>
                    <a:ext cx="3438360" cy="40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3T23:56:58Z</dcterms:created>
  <dc:creator>Marcnell Pierre</dc:creator>
  <dc:description/>
  <dc:language>en-US</dc:language>
  <cp:lastModifiedBy>C. Shih</cp:lastModifiedBy>
  <dcterms:modified xsi:type="dcterms:W3CDTF">1999-04-22T16:04:16Z</dcterms:modified>
  <cp:revision>28</cp:revision>
  <dc:subject/>
  <dc:title>Danny and the Intake Posse</dc:title>
</cp:coreProperties>
</file>