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5FA-B57B-4F34-AD5E-0539E6F5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D11C-0361-4E24-8FA4-DC2ED97A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064-F019-4AEF-92E7-0D1DC690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A13-A18B-4F10-90CD-F76AACDB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6DE1-00AE-4B6F-A805-AAA4F962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952-D735-460D-9586-19B55750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90D-EDC8-4BD5-8F53-A77C56D0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DE6-7251-422C-B7BD-C9E85C35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A36-5C8F-477F-AA2D-C211D445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D56-2A94-4432-8A5B-D6B55E44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792-7494-4E7F-9172-3E48E095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773-3D87-4BB1-A19A-B4245141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7B84-E5FD-4080-9030-38438A9FB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609480" y="152280"/>
                <a:ext cx="6934320" cy="648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ution for part 1: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r>
                          <m:t xml:space="preserve">°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a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21</m:t>
                        </m:r>
                        <m:r>
                          <m:rPr>
                            <m:lit/>
                            <m:nor/>
                          </m:rPr>
                          <m:t xml:space="preserve">MPa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z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z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integrate with respect to time: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om mass conservation: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since there is no inlet, integrate to get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substitute into the energy equation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@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  <m:r>
                              <m:t xml:space="preserve">°</m:t>
                            </m:r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6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6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471920" y="3259080"/>
                <a:ext cx="16200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380880" y="609480"/>
                <a:ext cx="8610840" cy="488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g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6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07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85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0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4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0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85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0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107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75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6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07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75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stitute into the energy equation and solve for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8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6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107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18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75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quid left: 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18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80880" y="914400"/>
          <a:ext cx="853452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853452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437760" y="19368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for the lab-6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6T10:26:27Z</dcterms:created>
  <dc:creator>C. Shih</dc:creator>
  <dc:description/>
  <dc:language>en-US</dc:language>
  <cp:lastModifiedBy>Chiang Shih</cp:lastModifiedBy>
  <cp:lastPrinted>1999-10-13T18:58:49Z</cp:lastPrinted>
  <dcterms:modified xsi:type="dcterms:W3CDTF">1999-10-21T18:48:44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ublic_html\eml4930\lab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