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4FB0-14F6-4D04-B745-B4372E8D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1A25-6225-4A02-9FC8-8E6AB6A5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C133-B962-4AB1-B96E-B3CD6356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A2FD-C786-4939-ACA4-1C306DA6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4C3F-E7CF-4CB4-93AA-3732D976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86E0-5D6D-446F-A1D4-08DDE610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E126-F9B5-4C75-B2C2-30B6F764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B9D3-6C5F-4349-ADF1-54223A4A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7FB1-B03E-4097-B94F-900088D7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7EA6-C29E-46C4-9599-7690FA05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C029-232D-473E-B32E-46B2CE48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E929-8604-4D6B-ADC3-6C682AEB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D560-9379-4B37-B972-62344EE08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1360" y="0"/>
            <a:ext cx="7772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ctional losses in pip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279360" y="539640"/>
                <a:ext cx="8513640" cy="16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tended Bernoulli's equation, 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p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rictional head los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1193760" y="2273400"/>
            <a:ext cx="3924360" cy="266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9480" y="18558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95000" y="22366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4600" y="2311560"/>
            <a:ext cx="495360" cy="164880"/>
          </a:xfrm>
          <a:prstGeom prst="rightArrow">
            <a:avLst>
              <a:gd name="adj1" fmla="val 50000"/>
              <a:gd name="adj2" fmla="val 751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70400" y="2311560"/>
            <a:ext cx="495360" cy="164880"/>
          </a:xfrm>
          <a:prstGeom prst="rightArrow">
            <a:avLst>
              <a:gd name="adj1" fmla="val 50000"/>
              <a:gd name="adj2" fmla="val 751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77960" y="2146320"/>
            <a:ext cx="774720" cy="53352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1040" y="3036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2880" y="2757600"/>
            <a:ext cx="571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a laminar,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fully develop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ircular pipe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28880" y="4241880"/>
            <a:ext cx="698400" cy="317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31560" y="406404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231920" y="472428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8400" y="441972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727280" y="441972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7200" y="4218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56040" y="4179960"/>
            <a:ext cx="7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+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60560" y="3665520"/>
            <a:ext cx="39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60720" y="3294000"/>
          <a:ext cx="5694480" cy="32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0720" y="3294000"/>
                    <a:ext cx="5694480" cy="32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687240" y="5816520"/>
          <a:ext cx="2302200" cy="74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240" y="5816520"/>
                    <a:ext cx="230220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82720" y="5081760"/>
            <a:ext cx="20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rcy’s Equ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36800" y="2122560"/>
            <a:ext cx="2444040" cy="105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: radius, D: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: pipe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wall shear 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15960" y="611280"/>
          <a:ext cx="8221680" cy="57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611280"/>
                    <a:ext cx="822168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ody" descr=""/>
          <p:cNvPicPr/>
          <p:nvPr/>
        </p:nvPicPr>
        <p:blipFill>
          <a:blip r:embed="rId1"/>
          <a:stretch/>
        </p:blipFill>
        <p:spPr>
          <a:xfrm>
            <a:off x="-380880" y="-200160"/>
            <a:ext cx="9524880" cy="697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9T10:19:55Z</dcterms:created>
  <dc:creator>C. Shih</dc:creator>
  <dc:description/>
  <dc:language>en-US</dc:language>
  <cp:lastModifiedBy>C. Shih</cp:lastModifiedBy>
  <dcterms:modified xsi:type="dcterms:W3CDTF">1998-09-09T11:49:53Z</dcterms:modified>
  <cp:revision>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D:\Shih\thermal-fluid\lecture note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