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53F-EC56-4C53-8ED4-606F4173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4A5-4B1F-4D8C-BFF1-71CF803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D7C8-E76E-44DA-8564-06BD84D9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040-5BCA-4509-9D57-131CCCE7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B894-1F74-4C33-85F4-AEEA17F7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F18-EE8B-46A8-A98A-D89D31DA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AEF-7BDB-4F2E-B60A-FF2FC1DB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8D8-9229-4A15-BB92-15AB87FB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9A3-6329-4FD9-AF66-BFA509CF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A16-14C9-4377-82AA-8CCD2E77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620-91C5-4A70-8D6B-14008AE7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7E5-1065-4335-82BF-F69EE06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A1E5-2E3B-45B1-8543-23FA190E3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760" y="243000"/>
            <a:ext cx="8950320" cy="29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L3015C Thermal-Fluid I Fall 1998 Homework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 pump transfers water from one reservoir to another as shown.  The total fri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of the piping is given a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g) where V is the averaged velocity in the pi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otal head provided by the pump ,H, is a function of the volume flow rate, Q,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by H=100-50*Q, where H in m of water, Q in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.  If the loss coeffic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 and the pipe diameter is 0.1 m, what is the flow rate pumped to to the upper reservo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038480"/>
            <a:ext cx="1447560" cy="129564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0"/>
                </a:moveTo>
                <a:lnTo>
                  <a:pt x="0" y="816"/>
                </a:lnTo>
                <a:lnTo>
                  <a:pt x="912" y="816"/>
                </a:ln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2590920"/>
            <a:ext cx="1447560" cy="1295280"/>
          </a:xfrm>
          <a:custGeom>
            <a:avLst/>
            <a:gdLst/>
            <a:ahLst/>
            <a:rect l="l" t="t" r="r" b="b"/>
            <a:pathLst>
              <a:path w="912" h="816">
                <a:moveTo>
                  <a:pt x="0" y="0"/>
                </a:moveTo>
                <a:lnTo>
                  <a:pt x="0" y="816"/>
                </a:lnTo>
                <a:lnTo>
                  <a:pt x="912" y="816"/>
                </a:lnTo>
                <a:lnTo>
                  <a:pt x="9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22560" y="4711680"/>
            <a:ext cx="53352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4952880"/>
            <a:ext cx="12189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13000" y="3809880"/>
            <a:ext cx="1526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492768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55880" y="510552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7800" y="38736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65640" y="38862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406760"/>
            <a:ext cx="143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3520" y="2908440"/>
            <a:ext cx="14223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498320" y="29084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727280" y="2908440"/>
            <a:ext cx="0" cy="149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8880" y="3025800"/>
            <a:ext cx="7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06360" y="52722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97480" y="2438280"/>
                <a:ext cx="3782880" cy="47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tended Bernoulli's equation,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8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5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g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25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4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000" y="268200"/>
            <a:ext cx="876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ater flows into a hydraulic turbine at 1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 and a pressure of 100 kPa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0.5 m diameter pipe.  The turbine discharge into a 0.8 m dia. pipe with a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50 kPa.  If it is known that the turbine produces 2000 hp, determine the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s between the two s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1180800" y="2590920"/>
            <a:ext cx="1130400" cy="876240"/>
          </a:xfrm>
          <a:custGeom>
            <a:avLst/>
            <a:gdLst>
              <a:gd name="textAreaLeft" fmla="*/ 248400 w 1130400"/>
              <a:gd name="textAreaRight" fmla="*/ 882000 w 1130400"/>
              <a:gd name="textAreaTop" fmla="*/ 192600 h 876240"/>
              <a:gd name="textAreaBottom" fmla="*/ 683640 h 87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720" y="1930320"/>
            <a:ext cx="774720" cy="800280"/>
          </a:xfrm>
          <a:custGeom>
            <a:avLst/>
            <a:gdLst/>
            <a:ahLst/>
            <a:rect l="l" t="t" r="r" b="b"/>
            <a:pathLst>
              <a:path w="488" h="504">
                <a:moveTo>
                  <a:pt x="0" y="0"/>
                </a:moveTo>
                <a:lnTo>
                  <a:pt x="488" y="0"/>
                </a:lnTo>
                <a:lnTo>
                  <a:pt x="488" y="504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30320" y="3505320"/>
            <a:ext cx="736560" cy="622080"/>
          </a:xfrm>
          <a:custGeom>
            <a:avLst/>
            <a:gdLst/>
            <a:ahLst/>
            <a:rect l="l" t="t" r="r" b="b"/>
            <a:pathLst>
              <a:path w="464" h="392">
                <a:moveTo>
                  <a:pt x="0" y="0"/>
                </a:moveTo>
                <a:lnTo>
                  <a:pt x="0" y="392"/>
                </a:lnTo>
                <a:lnTo>
                  <a:pt x="464" y="3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84480" y="30481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63720" y="3570120"/>
            <a:ext cx="100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 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62240" y="1449360"/>
            <a:ext cx="2959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,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5 m p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0 k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47640" y="4165560"/>
            <a:ext cx="113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193032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6160" y="2706840"/>
            <a:ext cx="57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4268880"/>
            <a:ext cx="124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8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50 k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835360" y="2216160"/>
          <a:ext cx="630864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5360" y="2216160"/>
                    <a:ext cx="630864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0T15:23:29Z</dcterms:created>
  <dc:creator>C. Shih</dc:creator>
  <dc:description/>
  <dc:language>en-US</dc:language>
  <cp:lastModifiedBy>Chiang Shih</cp:lastModifiedBy>
  <dcterms:modified xsi:type="dcterms:W3CDTF">1999-09-27T18:01:30Z</dcterms:modified>
  <cp:revision>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