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94525"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5BBD3F-A7CA-4768-AB2A-A7FBB8330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B6AC5-613F-4A7A-9808-35DB1BF68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EB6DE-4966-47D0-BF6B-F066BA157A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E5601-BD76-4FEE-86FC-620CF7B45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6D64A-0483-42C3-B786-B2020A8F5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16C11-A047-405E-B6EA-F44225D39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9A391-3F7F-4B04-A10B-298A4C781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68ACE-1A95-4A67-BD12-7C049D1F7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7A0DE-DB7F-4ED7-99ED-53473A09D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5FACB-5086-4C15-867B-1CCC2F21D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51992-D086-4CD8-9100-EFA989298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41A4F-76E2-48F7-9E96-BCB06A240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164D-3E1B-4286-A297-3661F96BA6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228600"/>
            <a:ext cx="8915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L 3015C Thermal-Fluid I Lab. Assignment 6 Part 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all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s reviewed: Transient flow energy analysis, Saturated steam ta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on: A pressure cooker (see figure) can cook food faster by maintain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igh pressure inside the cooker.  The  high pressure inside allows the satur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erature to increase beyond the normal (at atmospheric pressure) boiling temperature, consequently, the food can be cooked at a higher temperature.  (a) In order to cook food at 130°C, what should be the operating pressure inside the cooker.  In order to maintain a constant pressure inside the cooker, a pressure regulator and a control valve are used to allow steam to escape to prevent pressure buildu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2" name=""/>
          <p:cNvGraphicFramePr/>
          <p:nvPr/>
        </p:nvGraphicFramePr>
        <p:xfrm>
          <a:off x="380880" y="3733920"/>
          <a:ext cx="2795760" cy="2752560"/>
        </p:xfrm>
        <a:graphic>
          <a:graphicData uri="http://schemas.openxmlformats.org/presentationml/2006/ole">
            <p:oleObj r:id="rId1" spid="">
              <p:embed/>
              <p:pic>
                <p:nvPicPr>
                  <p:cNvPr id="43" name="" descr=""/>
                  <p:cNvPicPr/>
                  <p:nvPr/>
                </p:nvPicPr>
                <p:blipFill>
                  <a:blip r:embed="rId2"/>
                  <a:stretch/>
                </p:blipFill>
                <p:spPr>
                  <a:xfrm>
                    <a:off x="380880" y="3733920"/>
                    <a:ext cx="2795760" cy="2752560"/>
                  </a:xfrm>
                  <a:prstGeom prst="rect">
                    <a:avLst/>
                  </a:prstGeom>
                  <a:ln w="0">
                    <a:noFill/>
                  </a:ln>
                </p:spPr>
              </p:pic>
            </p:oleObj>
          </a:graphicData>
        </a:graphic>
      </p:graphicFrame>
      <p:sp>
        <p:nvSpPr>
          <p:cNvPr id="44" name=""/>
          <p:cNvSpPr/>
          <p:nvPr/>
        </p:nvSpPr>
        <p:spPr>
          <a:xfrm>
            <a:off x="3352680" y="3581280"/>
            <a:ext cx="54262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assignment, assume the cooker has a volume of 6 L and initially, it contains 1 kg of water.  Heat is added to the cooker at a rate of 600 W for an extended period of time.  (b) Determine the amount of liquid water left in the cooker if it is being cooked continuously for 20 minutes.  </a:t>
            </a:r>
            <a:endParaRPr b="0" lang="en-US" sz="2000" spc="-1" strike="noStrike">
              <a:solidFill>
                <a:srgbClr val="000000"/>
              </a:solidFill>
              <a:latin typeface="Times New Roman"/>
            </a:endParaRPr>
          </a:p>
        </p:txBody>
      </p:sp>
      <p:sp>
        <p:nvSpPr>
          <p:cNvPr id="45" name=""/>
          <p:cNvSpPr/>
          <p:nvPr/>
        </p:nvSpPr>
        <p:spPr>
          <a:xfrm>
            <a:off x="1523880" y="5029200"/>
            <a:ext cx="106704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066680" y="6248520"/>
            <a:ext cx="838440" cy="2286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65040" y="228600"/>
            <a:ext cx="8778960" cy="71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mptions: *Uniform flow analysis; assume the properties of the steam leav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oker remain the same (Why?  Is this a reasonable assumption?).  *KE and PE are negligible.  * Saturation condition throughout the cooking process.  *Steam leaves as 100% saturated vapor.  *Negligible lo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dures: (1) From mass conservation, relate the steam escaped to the change of the mass inside the cook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Using transient flow energy equation to relate the heat transfer to the energy flow out and the internal energy change inside the cook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Use thermodynamic tables to identify properties of the exhausting steam, initial energy of the cook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Recognize that the energy and mass after cooking for a period of time can be determined if we know the quality of the mixture at the instant since the cooker always maintains at saturated condition as long as there is still liquid water left.  (Hint: the only unknown will be the quality 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Determine the liquid water left as a function of time.  Note that the mass of the liquid water is the total mass minus the mass of the water vapor.  Also, the ratio between the mass of the water vapor and the total mass is defined as qua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nt: You can use MathCAD to solve for the unknown x.  Write an equation as a function of x, that is f=f(x).  Identify x value when the f(x) becomes zero.  This is your solu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79800" y="0"/>
            <a:ext cx="846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L 3015C Thermal-Fluid I Lab. Assignment 6 Part 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all 1999</a:t>
            </a:r>
            <a:endParaRPr b="0" lang="en-US" sz="2000" spc="-1" strike="noStrike">
              <a:solidFill>
                <a:srgbClr val="000000"/>
              </a:solidFill>
              <a:latin typeface="Times New Roman"/>
            </a:endParaRPr>
          </a:p>
        </p:txBody>
      </p:sp>
      <p:sp>
        <p:nvSpPr>
          <p:cNvPr id="49" name=""/>
          <p:cNvSpPr/>
          <p:nvPr/>
        </p:nvSpPr>
        <p:spPr>
          <a:xfrm>
            <a:off x="365040" y="685800"/>
            <a:ext cx="855036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s reviewed: Steam property tables, saturation liquid and vapor boundar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v diagram, superheated vapor and compressed liqu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1: Using the saturation steam property table, sketch the T-v diagram.  In particular, identify the saturated liquid line, the saturated vapor line, and the critical point.  Note: Because the specific volume of the liquid is extremely small compared to that of vapor, therefore, you will have problem trying to identify the saturated liquid line from the graph.  Try using the logarithmic scale on the x-axi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2: If a pressure cooker (as shown earlier) is used to heat up a pan of water, what is its temperature variation with respect to the change of specific volume if the pressure is kept at a constant 5 MPa.  Draw your T-v line on the T-v diagram obtained in task 1.  Hint: use the saturated steam table and the superheated vapor table to determine the T-v relationship.  Vary your temperature between the saturation temperature at given pressure and 400° C, determine the specific volume from the tables.  You can assume that the T-v relation in the superheated region is linear to save time.  Also assume that the water inside the cooker starts with 100% saturated liquid and eventually all liquid vaporizes and turns into superheated vap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380880"/>
            <a:ext cx="861048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3:  If the pressure is increases to 10 MPa, what will be the new T-v relation.  Sketch on the same T-v diagram and compared it with the line obtained in task 2. Explain why a pressure cooker can speed up the cooking process based on the information availa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sk 4: Repeat tasks 2 &amp; 3 (only the superheated part) using the ideal gas relation instead of the tables.  Can you see the difference between using ideal gas assumption and the property table?  Discuss your comparison.  R = 0.462 kJ/(kg.K) for water vap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20:44:27Z</dcterms:created>
  <dc:creator>C. Shih</dc:creator>
  <dc:description/>
  <dc:language>en-US</dc:language>
  <cp:lastModifiedBy>Chiang Shih</cp:lastModifiedBy>
  <cp:lastPrinted>1999-10-13T18:56:08Z</cp:lastPrinted>
  <dcterms:modified xsi:type="dcterms:W3CDTF">1999-10-13T18:56:21Z</dcterms:modified>
  <cp:revision>1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G:\public_html\eml4930\lab\lab-5</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