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E1E-C963-407C-9612-50ACB96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4F2-DA28-4CA9-A31F-70CDD94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320-6D09-4EE3-B016-736B65AC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7FE-4C89-490F-AE05-43D76C23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D03-F49E-4B71-969D-8324E98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A32-B34F-4600-89A1-FB49A4E3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CA5-1AC9-4380-9EF4-761F537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7FF-956D-4BC9-ADE9-ACF04B4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6A9-90CC-4118-876D-C2C5E2A4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6A3-9450-4826-B9B5-C743CD94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F0F-99C5-476B-AA07-D03A3790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089-36FC-494C-87EB-451DADF4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1E2E-20BB-4A9A-AF44-D5A02499C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ver" descr=""/>
          <p:cNvPicPr/>
          <p:nvPr/>
        </p:nvPicPr>
        <p:blipFill>
          <a:blip r:embed="rId1"/>
          <a:stretch/>
        </p:blipFill>
        <p:spPr>
          <a:xfrm>
            <a:off x="0" y="-228600"/>
            <a:ext cx="6324480" cy="591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77120" y="4757760"/>
            <a:ext cx="2666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rrett Add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t Bar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et B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eremy Hami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0"/>
            <a:ext cx="274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un Tr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PRO-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4008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dvisor:  A. Krothapa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ish-side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20372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dish2" descr=""/>
          <p:cNvPicPr/>
          <p:nvPr/>
        </p:nvPicPr>
        <p:blipFill>
          <a:blip r:embed="rId2"/>
          <a:stretch/>
        </p:blipFill>
        <p:spPr>
          <a:xfrm>
            <a:off x="4495680" y="2575080"/>
            <a:ext cx="4380120" cy="4090680"/>
          </a:xfrm>
          <a:prstGeom prst="rect">
            <a:avLst/>
          </a:prstGeom>
          <a:ln w="0">
            <a:noFill/>
          </a:ln>
        </p:spPr>
      </p:pic>
      <p:pic>
        <p:nvPicPr>
          <p:cNvPr id="65" name="Netscape%20Wallpaper" descr=""/>
          <p:cNvPicPr/>
          <p:nvPr/>
        </p:nvPicPr>
        <p:blipFill>
          <a:blip r:embed="rId3"/>
          <a:stretch/>
        </p:blipFill>
        <p:spPr>
          <a:xfrm>
            <a:off x="228600" y="4952880"/>
            <a:ext cx="1905120" cy="1700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09680" y="4952880"/>
            <a:ext cx="213372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resentation has been brought to you by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ct2" descr=""/>
          <p:cNvPicPr/>
          <p:nvPr/>
        </p:nvPicPr>
        <p:blipFill>
          <a:blip r:embed="rId4"/>
          <a:stretch/>
        </p:blipFill>
        <p:spPr>
          <a:xfrm>
            <a:off x="4495680" y="380880"/>
            <a:ext cx="44960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: 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 Heat to Stirling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ncentrate the sun's energy on a heat col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eat collector must be able to withstand high tem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eat collector must be able to store the heat until it 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eliver heat to sterling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have an interface between collector and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Collector must be physically close to engine to reduce heat 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provide enough heat for at least 10 watts of ne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ach component must be as efficient 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inimize loss of heat from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lar Track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follow the sun as it moves through the sky during th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have enough freedom of motion to point at the sun in any possible part of the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have a sensor system to detect the sun's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have an actuator system to align system with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system must generate any power necessary to run the tracking system and still have at least 10 watts left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system must store any energy necessary to realign with the sun at the beginning of the next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be small enough to be relocated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be light enough to be relocated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ssembly should be quick and straightforw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Framework should be simple and assembly of it should be intu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le to be placed on different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fford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use readily available and inexpensive materials when at all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inimal machining or other skilled-labor intensive manufacturing ac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arts must be durable enough so as not to require frequent repair or re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f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be easily disposed of after usefu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Environmentally friendly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inimize use of hazardous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Must be safe to ope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oes not require operator to handle parts that could potentially be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Labels draw attention to dangerous sit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6736" t="0" r="30105" b="0"/>
          <a:stretch/>
        </p:blipFill>
        <p:spPr>
          <a:xfrm>
            <a:off x="1523880" y="1447920"/>
            <a:ext cx="5715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ig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ufa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ibs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7053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of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Heat to Stirling En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ng 4% efficiency(worst case), the system should provide about  30 Watt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esting, we have reached temperatures of over 360°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2f2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3158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 Track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tracks sun continuously using shaded photo-e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nsors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30984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els, mod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or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ap materials, total cost was approx. $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construction for ease of maint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al controls, warn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2T22:50:17Z</dcterms:created>
  <dc:creator>Roy Lawrence</dc:creator>
  <dc:description/>
  <dc:language>en-US</dc:language>
  <cp:lastModifiedBy>C. Shih</cp:lastModifiedBy>
  <dcterms:modified xsi:type="dcterms:W3CDTF">1999-04-19T12:52:53Z</dcterms:modified>
  <cp:revision>7</cp:revision>
  <dc:subject/>
  <dc:title>No Slide Title</dc:title>
</cp:coreProperties>
</file>