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7264-6232-4518-9FEC-04F40941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91F6-6018-44F3-A5C1-833F1CD1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9BC9-0BBD-4A27-9D97-AAE081D6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58D6-3554-4A16-B139-2BC0997B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6EB3-2D9B-4BC0-8F5A-D8318E01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E295-A6B2-46CE-B807-A3D93647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79E-EDAB-46E4-A663-53889691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0D00-01C7-4EA8-B095-25D20F3F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C984-131B-41DF-B25B-5990923F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74C-5407-44F9-B7D6-11A56065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18DD-6F28-4294-B208-A59956AC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4F74-76EE-48F6-8E08-9E11B060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7856-6FEE-441C-AAF9-BDC895D97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www.pratt-whitney.com/engines/gallery/" TargetMode="External"/><Relationship Id="rId4" Type="http://schemas.openxmlformats.org/officeDocument/2006/relationships/hyperlink" Target="http://www.pratt-whitney.com/engines/gallery/" TargetMode="External"/><Relationship Id="rId5" Type="http://schemas.openxmlformats.org/officeDocument/2006/relationships/hyperlink" Target="http://www.ge.com/aircraftengines/press_ge90.html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14400" y="430200"/>
          <a:ext cx="7620120" cy="62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30200"/>
                    <a:ext cx="762012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636600" y="5032440"/>
            <a:ext cx="203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ratt-Whit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Engine Gall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16160" y="4192560"/>
            <a:ext cx="18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GE90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789120"/>
          <a:ext cx="9144000" cy="59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89120"/>
                    <a:ext cx="914400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352680" y="2116080"/>
            <a:ext cx="2286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198960" y="3998880"/>
            <a:ext cx="3808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060800" y="4022280"/>
            <a:ext cx="38088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5270400" y="4076280"/>
            <a:ext cx="38124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2800" y="2092320"/>
            <a:ext cx="2286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03720" y="2119320"/>
            <a:ext cx="2286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77680" y="26028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et Engine Comb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24960" y="895320"/>
            <a:ext cx="36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Film cooling via conv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52360" y="977760"/>
          <a:ext cx="5813640" cy="34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977760"/>
                    <a:ext cx="581364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280040" y="4159080"/>
          <a:ext cx="4630680" cy="269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0040" y="4159080"/>
                    <a:ext cx="46306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 rot="20806800">
            <a:off x="5554440" y="4831920"/>
            <a:ext cx="1587240" cy="441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5416200" y="3527280"/>
            <a:ext cx="757080" cy="1322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45480" y="3486240"/>
            <a:ext cx="26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One annular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18040" y="223920"/>
            <a:ext cx="43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urbulent flame (fuel self-igni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87360" y="739800"/>
            <a:ext cx="423720" cy="15350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0680" y="4740120"/>
            <a:ext cx="445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Use spark plug to start the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and re-light after fla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6120" y="52380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lame stab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52440" y="987480"/>
            <a:ext cx="441360" cy="3697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8T16:32:00Z</dcterms:created>
  <dc:creator>C. Shih</dc:creator>
  <dc:description/>
  <dc:language>en-US</dc:language>
  <cp:lastModifiedBy>Chiang Shih</cp:lastModifiedBy>
  <dcterms:modified xsi:type="dcterms:W3CDTF">1999-10-07T22:42:09Z</dcterms:modified>
  <cp:revision>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ublic_html\eml3015\lecture not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