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2FA8-5434-4388-8EB2-802EBD28D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100B-2259-492A-8952-52D3660D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78D1-A1A5-4B77-B12F-D2257474D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8DDA-772B-454F-B4CF-E440FF9C7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A936-CE27-4D21-BB17-31F0F587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59C8-7F62-4137-ADEA-BE59688B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05E3-D4A5-4F66-AD3F-7B5A8313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E10E-53FD-4E45-A17B-F471DE80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907B-3FF0-4A8B-B6DF-3428F16A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3AD8-72FD-40AD-8881-6BBC4E77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FE4C-A96A-4CF4-829E-CCE7C991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5A23-CD22-4540-8E56-0E23CAB5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3B5A-0CA0-4A7E-8CCF-0FBC31999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600" y="152280"/>
            <a:ext cx="9123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b. Assignment 2, part 1: Hot water flows steadily into the water tank with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 mass flow rate of 5 kg/s and a constant temperature of 9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.  Initially,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nk contains cold water of 2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 as shown.  The tank has a constant cross-sec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a of 0.2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(a) Use mass conservation concept, determine and plot the water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) as a function of time, up to 100 second.  (b) Use energy balance concept, determ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plot the water temperature (T) inside the tank as a function of time.  Assume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t water mix instantaneously with the cold water inside the tank and no heat lo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2895480"/>
            <a:ext cx="1371600" cy="1828800"/>
          </a:xfrm>
          <a:custGeom>
            <a:avLst/>
            <a:gdLst/>
            <a:ahLst/>
            <a:rect l="l" t="t" r="r" b="b"/>
            <a:pathLst>
              <a:path w="864" h="1152">
                <a:moveTo>
                  <a:pt x="0" y="0"/>
                </a:moveTo>
                <a:lnTo>
                  <a:pt x="0" y="1152"/>
                </a:lnTo>
                <a:lnTo>
                  <a:pt x="864" y="1152"/>
                </a:lnTo>
                <a:lnTo>
                  <a:pt x="864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3733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743200"/>
            <a:ext cx="10663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6520" y="2819520"/>
            <a:ext cx="106560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3124080"/>
            <a:ext cx="2286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90640" y="322596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295280" y="2355840"/>
          <a:ext cx="2638440" cy="3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55840"/>
                    <a:ext cx="263844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162240" y="3778200"/>
          <a:ext cx="2244960" cy="33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62240" y="3778200"/>
                    <a:ext cx="2244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 flipH="1">
            <a:off x="2577960" y="3987720"/>
            <a:ext cx="5083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372096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76240" y="472428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04840" y="3720960"/>
            <a:ext cx="0" cy="1003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1320" y="3887640"/>
            <a:ext cx="7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5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50160" y="4865760"/>
            <a:ext cx="1549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an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2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35360" y="203040"/>
            <a:ext cx="8686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 2: If the bottom of the tank is punctuated when the hot water is starting to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o the tank and the small hole has an area of 0.00113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etermine and plot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ter level as a function of time.  It is known that the velocity of flow through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le (V) is related to the water level of the tank (h) as V=            , where g is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vitational constant.  This is called the Torricelli’s theorem.  We will derive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 this week using the famous Bernouuli’s equatio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2895480"/>
            <a:ext cx="1371600" cy="1828800"/>
          </a:xfrm>
          <a:custGeom>
            <a:avLst/>
            <a:gdLst/>
            <a:ahLst/>
            <a:rect l="l" t="t" r="r" b="b"/>
            <a:pathLst>
              <a:path w="864" h="1152">
                <a:moveTo>
                  <a:pt x="0" y="0"/>
                </a:moveTo>
                <a:lnTo>
                  <a:pt x="0" y="1152"/>
                </a:lnTo>
                <a:lnTo>
                  <a:pt x="864" y="1152"/>
                </a:lnTo>
                <a:lnTo>
                  <a:pt x="864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3733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743200"/>
            <a:ext cx="10663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6520" y="2819520"/>
            <a:ext cx="106560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3124080"/>
            <a:ext cx="2286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90640" y="322596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372096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76240" y="472428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04840" y="3720960"/>
            <a:ext cx="0" cy="1003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1320" y="3887640"/>
            <a:ext cx="7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5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05040" y="4572000"/>
            <a:ext cx="76320" cy="1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960" y="4699080"/>
            <a:ext cx="558000" cy="55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00480" y="4572000"/>
            <a:ext cx="786960" cy="83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4080" y="4916520"/>
            <a:ext cx="134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00113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502000" y="4635360"/>
            <a:ext cx="215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127920" y="1136520"/>
          <a:ext cx="69840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920" y="1136520"/>
                    <a:ext cx="6984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41360" y="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ject Revie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11040" y="496800"/>
          <a:ext cx="80679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040" y="496800"/>
                    <a:ext cx="80679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4965840" y="914400"/>
            <a:ext cx="863640" cy="58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702040" y="609480"/>
            <a:ext cx="1346040" cy="41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931080" y="255600"/>
            <a:ext cx="15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glect heat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03440" y="5405400"/>
            <a:ext cx="2171880" cy="100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51240" y="5824440"/>
            <a:ext cx="1104840" cy="241560"/>
          </a:xfrm>
          <a:prstGeom prst="rightArrow">
            <a:avLst>
              <a:gd name="adj1" fmla="val 50000"/>
              <a:gd name="adj2" fmla="val 1143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26960" y="4929120"/>
          <a:ext cx="2622600" cy="8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960" y="4929120"/>
                    <a:ext cx="262260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6235560" y="4984920"/>
          <a:ext cx="2664000" cy="76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35560" y="4984920"/>
                    <a:ext cx="266400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5511960" y="5837400"/>
            <a:ext cx="1104840" cy="241200"/>
          </a:xfrm>
          <a:prstGeom prst="rightArrow">
            <a:avLst>
              <a:gd name="adj1" fmla="val 50000"/>
              <a:gd name="adj2" fmla="val 1145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5087880"/>
            <a:ext cx="152280" cy="520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68200" y="4632480"/>
            <a:ext cx="19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t out q=dQ/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27680" y="6230880"/>
            <a:ext cx="596880" cy="495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19600" y="6461280"/>
            <a:ext cx="172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 in dW/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94" name=""/>
          <p:cNvGraphicFramePr/>
          <p:nvPr/>
        </p:nvGraphicFramePr>
        <p:xfrm>
          <a:off x="549360" y="157320"/>
          <a:ext cx="8128080" cy="34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9360" y="157320"/>
                    <a:ext cx="8128080" cy="34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131840" y="2908440"/>
          <a:ext cx="4987800" cy="374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1840" y="2908440"/>
                    <a:ext cx="4987800" cy="37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33360" y="0"/>
          <a:ext cx="8158320" cy="421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0"/>
                    <a:ext cx="8158320" cy="42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984400" y="3033720"/>
          <a:ext cx="5403960" cy="382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4400" y="3033720"/>
                    <a:ext cx="5403960" cy="38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0" y="-7920"/>
          <a:ext cx="8889840" cy="39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7920"/>
                    <a:ext cx="8889840" cy="39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585800" y="2921040"/>
          <a:ext cx="5004000" cy="375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85800" y="2921040"/>
                    <a:ext cx="5004000" cy="37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1T14:14:18Z</dcterms:created>
  <dc:creator>C. Shih</dc:creator>
  <dc:description/>
  <dc:language>en-US</dc:language>
  <cp:lastModifiedBy>Chiang Shih</cp:lastModifiedBy>
  <cp:lastPrinted>1998-09-11T16:04:35Z</cp:lastPrinted>
  <dcterms:modified xsi:type="dcterms:W3CDTF">1999-09-22T19:26:30Z</dcterms:modified>
  <cp:revision>1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public_html\eml4930\lab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