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7B-C5B5-444E-A511-F602F4827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687-7878-4377-B997-B7F0E1C8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CCC2-D8A5-4617-9ABA-5718A990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CE6-F668-49F8-8E81-0B72229F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A17-BCD3-46DD-A004-0A3D4E89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F0B9-747F-4EB3-A64D-51D5F6CB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A23-EF8F-49A0-8C59-5AD49D44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0056-A48C-41CC-AAE1-8E9EA7B1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954-0004-4B3F-A002-75E70E50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30D-F9E6-41E0-8BD8-6FDFFCF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AEE-4444-42B2-A27C-7BB4805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9F1-7748-4738-BB2C-731B487C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E27F-49A6-43A3-A50A-90833F5D4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720" y="203040"/>
            <a:ext cx="869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-4: If the bottom of the tank is punctuated when the hot water is starting to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the tank and the small hole has an area of 0.00113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etermine and plo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level as a function of time.  It is known that the velocity of flow throug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e (V) is related to the water level of the tank (h) as V=            , where g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vitational constant.  This is called the Torricelli’s theorem.  We will deriv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this week using the famous Bernouuli’s equ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895480"/>
            <a:ext cx="1371600" cy="1828800"/>
          </a:xfrm>
          <a:custGeom>
            <a:avLst/>
            <a:gdLst/>
            <a:ahLst/>
            <a:rect l="l" t="t" r="r" b="b"/>
            <a:pathLst>
              <a:path w="864" h="1152">
                <a:moveTo>
                  <a:pt x="0" y="0"/>
                </a:moveTo>
                <a:lnTo>
                  <a:pt x="0" y="1152"/>
                </a:lnTo>
                <a:lnTo>
                  <a:pt x="864" y="1152"/>
                </a:lnTo>
                <a:lnTo>
                  <a:pt x="86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743200"/>
            <a:ext cx="10663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2819520"/>
            <a:ext cx="10656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1240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0640" y="32259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720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240" y="47242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4840" y="372096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320" y="388764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05040" y="4572000"/>
            <a:ext cx="7632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960" y="4699080"/>
            <a:ext cx="55800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00480" y="4572000"/>
            <a:ext cx="78696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4080" y="491652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0113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502000" y="4635360"/>
            <a:ext cx="215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127920" y="1136520"/>
          <a:ext cx="698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920" y="1136520"/>
                    <a:ext cx="698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14:14:18Z</dcterms:created>
  <dc:creator>C. Shih</dc:creator>
  <dc:description/>
  <dc:language>en-US</dc:language>
  <cp:lastModifiedBy>Chiang Shih</cp:lastModifiedBy>
  <cp:lastPrinted>1998-09-11T16:04:35Z</cp:lastPrinted>
  <dcterms:modified xsi:type="dcterms:W3CDTF">1999-09-22T00:17:15Z</dcterms:modified>
  <cp:revision>1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a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