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A628-1EA1-49A9-B3F4-6CEFE8B3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D6D-6238-421D-AF2A-45E6C6F0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336-CF0F-44C3-94BA-31B67389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9C4-3EFF-4474-9C6E-0641299A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AA8-9C2F-45A2-B22B-30BA093E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3100-0B6C-4C4F-8A88-C5117FCE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8CE1-726A-47CF-BC25-1C42BFE5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67B-DE8A-43E7-A1FB-45E620D3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DFC-99AB-4ABC-8BAE-48D0CA85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427-703D-4260-8B15-E7A47BB0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539-03FD-4072-ACF2-17FB70BF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A50-3E70-4E6E-AD31-A51C4EA1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B735-9659-4FFF-8F78-396795D8C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-9 Solution Par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512640"/>
          <a:ext cx="7924680" cy="604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12640"/>
                    <a:ext cx="7924680" cy="604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9T10:39:41Z</dcterms:created>
  <dc:creator>C. Shih</dc:creator>
  <dc:description/>
  <dc:language>en-US</dc:language>
  <cp:lastModifiedBy>Chiang Shih</cp:lastModifiedBy>
  <dcterms:modified xsi:type="dcterms:W3CDTF">1999-11-15T19:14:39Z</dcterms:modified>
  <cp:revision>4</cp:revision>
  <dc:subject/>
  <dc:title>Lab-6 Solution Par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public_html\eml4930\lab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