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7163-1B3F-46CB-BF13-1DCA73E94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A3FE-9BCB-4594-A12B-F65E0F619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965D-F0DC-473B-9140-880D38CB3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F753-BFDF-46EB-A5B2-1772E0231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694F-715B-4C03-BCA9-F83DC4BDB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719E-ECA5-4CCD-840A-21D8641FA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451D-3530-449F-8031-91AC1721B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D95A-553E-4170-9E03-214263366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70A2-84DE-4111-97E9-A7831645B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8218-7BFE-4C0B-880B-809CB53B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62BD-E061-4C09-ABB8-457C5C9D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8EBD-BA28-405A-A001-D6293877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4FE48-4AF5-41D1-AC58-2DF5E15287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9520" y="-19440"/>
            <a:ext cx="893448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s Power Cycle - Jet Propulsion Technology, A Case Stu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41240" y="1467000"/>
            <a:ext cx="8021880" cy="44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al Brayton Cy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6200000">
            <a:off x="685800" y="1790280"/>
            <a:ext cx="1219320" cy="1295640"/>
          </a:xfrm>
          <a:custGeom>
            <a:avLst/>
            <a:gdLst>
              <a:gd name="textAreaLeft" fmla="*/ 268200 w 1219320"/>
              <a:gd name="textAreaRight" fmla="*/ 951120 w 1219320"/>
              <a:gd name="textAreaTop" fmla="*/ 284760 h 1295640"/>
              <a:gd name="textAreaBottom" fmla="*/ 101088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52640" y="2438280"/>
            <a:ext cx="16765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 rot="5400000">
            <a:off x="3666960" y="1856880"/>
            <a:ext cx="1219320" cy="1295280"/>
          </a:xfrm>
          <a:custGeom>
            <a:avLst/>
            <a:gdLst>
              <a:gd name="textAreaLeft" fmla="*/ 268200 w 1219320"/>
              <a:gd name="textAreaRight" fmla="*/ 951120 w 1219320"/>
              <a:gd name="textAreaTop" fmla="*/ 284760 h 1295280"/>
              <a:gd name="textAreaBottom" fmla="*/ 1010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52800" y="1038240"/>
            <a:ext cx="142848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1314360" y="2895480"/>
            <a:ext cx="0" cy="666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81560" y="2990880"/>
            <a:ext cx="0" cy="485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85920" y="1495440"/>
            <a:ext cx="866880" cy="485640"/>
          </a:xfrm>
          <a:custGeom>
            <a:avLst/>
            <a:gdLst/>
            <a:ahLst/>
            <a:rect l="l" t="t" r="r" b="b"/>
            <a:pathLst>
              <a:path w="546" h="306">
                <a:moveTo>
                  <a:pt x="0" y="306"/>
                </a:moveTo>
                <a:lnTo>
                  <a:pt x="0" y="0"/>
                </a:lnTo>
                <a:lnTo>
                  <a:pt x="546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380960"/>
            <a:ext cx="800280" cy="638280"/>
          </a:xfrm>
          <a:custGeom>
            <a:avLst/>
            <a:gdLst/>
            <a:ahLst/>
            <a:rect l="l" t="t" r="r" b="b"/>
            <a:pathLst>
              <a:path w="504" h="402">
                <a:moveTo>
                  <a:pt x="0" y="0"/>
                </a:moveTo>
                <a:lnTo>
                  <a:pt x="504" y="0"/>
                </a:lnTo>
                <a:lnTo>
                  <a:pt x="504" y="402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85920" y="1181160"/>
            <a:ext cx="86688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4560" y="313848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1160" y="57636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21760" y="3567240"/>
            <a:ext cx="107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01640" y="2776680"/>
            <a:ext cx="141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res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622400" y="3129120"/>
            <a:ext cx="9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urb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73320" y="5382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bus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85280" y="3157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18840" y="1471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709440" y="1405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47760" y="2967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895320" y="409536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95320" y="6400800"/>
            <a:ext cx="2724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819680" y="413352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19680" y="6438960"/>
            <a:ext cx="2724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04640" y="39006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61920" y="6338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409760" y="4400640"/>
            <a:ext cx="1905120" cy="1447560"/>
          </a:xfrm>
          <a:custGeom>
            <a:avLst/>
            <a:gdLst/>
            <a:ahLst/>
            <a:rect l="l" t="t" r="r" b="b"/>
            <a:pathLst>
              <a:path w="1200" h="912">
                <a:moveTo>
                  <a:pt x="0" y="0"/>
                </a:moveTo>
                <a:lnTo>
                  <a:pt x="588" y="0"/>
                </a:lnTo>
                <a:lnTo>
                  <a:pt x="1200" y="912"/>
                </a:lnTo>
                <a:lnTo>
                  <a:pt x="396" y="912"/>
                </a:lnTo>
                <a:lnTo>
                  <a:pt x="0" y="0"/>
                </a:lnTo>
                <a:close/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524560" y="4191120"/>
            <a:ext cx="1485720" cy="1790640"/>
          </a:xfrm>
          <a:custGeom>
            <a:avLst/>
            <a:gdLst/>
            <a:ahLst/>
            <a:rect l="l" t="t" r="r" b="b"/>
            <a:pathLst>
              <a:path w="936" h="1128">
                <a:moveTo>
                  <a:pt x="0" y="1128"/>
                </a:moveTo>
                <a:lnTo>
                  <a:pt x="0" y="720"/>
                </a:lnTo>
                <a:lnTo>
                  <a:pt x="936" y="0"/>
                </a:lnTo>
                <a:lnTo>
                  <a:pt x="936" y="624"/>
                </a:lnTo>
                <a:lnTo>
                  <a:pt x="0" y="1128"/>
                </a:lnTo>
                <a:close/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329360" y="40528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548480" y="6319800"/>
            <a:ext cx="27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604520" y="5881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09160" y="4052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194920" y="3862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47480" y="5919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185800" y="6014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09480" y="4890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071840" y="3900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919560" y="5291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81400" y="1290600"/>
            <a:ext cx="3999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-2 Isentropic com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-3 Constant pressure heat ad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-4 Isentropic expan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-1 Constant pressure heat rej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al Brayton Cycle -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066680" y="538200"/>
          <a:ext cx="7659720" cy="635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538200"/>
                    <a:ext cx="7659720" cy="63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04880" y="18720"/>
            <a:ext cx="77724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t Propulsion Cy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611280" y="569880"/>
          <a:ext cx="5713200" cy="296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569880"/>
                    <a:ext cx="5713200" cy="29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 flipV="1">
            <a:off x="857160" y="36576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66880" y="6400800"/>
            <a:ext cx="3467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71600" y="3781440"/>
            <a:ext cx="1981080" cy="2247840"/>
          </a:xfrm>
          <a:custGeom>
            <a:avLst/>
            <a:gdLst/>
            <a:ahLst/>
            <a:rect l="l" t="t" r="r" b="b"/>
            <a:pathLst>
              <a:path w="1248" h="1416">
                <a:moveTo>
                  <a:pt x="0" y="1416"/>
                </a:moveTo>
                <a:lnTo>
                  <a:pt x="0" y="720"/>
                </a:lnTo>
                <a:lnTo>
                  <a:pt x="1248" y="0"/>
                </a:lnTo>
                <a:lnTo>
                  <a:pt x="1248" y="954"/>
                </a:lnTo>
                <a:lnTo>
                  <a:pt x="0" y="1416"/>
                </a:lnTo>
                <a:close/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324240" y="374328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95800" y="4705200"/>
            <a:ext cx="7452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05160" y="5267160"/>
            <a:ext cx="7452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333440" y="488628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343160" y="564840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333440" y="598176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71000" y="5948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94680" y="54054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18520" y="43862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442680" y="34434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52400" y="4481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76080" y="52052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1467000" y="4800240"/>
            <a:ext cx="1790640" cy="857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26560" y="5910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=const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755000" y="35863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=const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00440" y="5343480"/>
            <a:ext cx="247680" cy="495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81600" y="5538960"/>
            <a:ext cx="499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43080" y="4248000"/>
            <a:ext cx="219240" cy="390600"/>
          </a:xfrm>
          <a:prstGeom prst="downArrow">
            <a:avLst>
              <a:gd name="adj1" fmla="val 50000"/>
              <a:gd name="adj2" fmla="val 4454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829880" y="4014720"/>
            <a:ext cx="424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22720" y="4148280"/>
            <a:ext cx="4799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-2, inlet flow decelerates in the diffuser; pressure and temperature incr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-6, outlet flow accelerates in the nozzle section, pressure and temperature decr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71520" y="34480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252680" y="6377040"/>
            <a:ext cx="27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69880" y="176040"/>
            <a:ext cx="777240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ulsive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98920" y="1212840"/>
            <a:ext cx="2712960" cy="13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99560" y="735120"/>
            <a:ext cx="124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et Eng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98520" y="1760400"/>
            <a:ext cx="909720" cy="289080"/>
          </a:xfrm>
          <a:prstGeom prst="rightArrow">
            <a:avLst>
              <a:gd name="adj1" fmla="val 50000"/>
              <a:gd name="adj2" fmla="val 78674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829480" y="1646280"/>
            <a:ext cx="895320" cy="317520"/>
          </a:xfrm>
          <a:prstGeom prst="rightArrow">
            <a:avLst>
              <a:gd name="adj1" fmla="val 50000"/>
              <a:gd name="adj2" fmla="val 70493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60480" y="13557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ss flow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48000" y="2019240"/>
            <a:ext cx="1959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let velocity,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65480" y="1284120"/>
            <a:ext cx="163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ss flow 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847840" y="2019240"/>
            <a:ext cx="2023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t velocity,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ex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57400" y="1733400"/>
            <a:ext cx="476280" cy="301680"/>
          </a:xfrm>
          <a:prstGeom prst="leftArrow">
            <a:avLst>
              <a:gd name="adj1" fmla="val 50000"/>
              <a:gd name="adj2" fmla="val 3946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4552200" y="1727280"/>
            <a:ext cx="476280" cy="301680"/>
          </a:xfrm>
          <a:prstGeom prst="leftArrow">
            <a:avLst>
              <a:gd name="adj1" fmla="val 50000"/>
              <a:gd name="adj2" fmla="val 394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47080" y="1297080"/>
            <a:ext cx="1838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 force,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11240" y="2133720"/>
            <a:ext cx="2041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ction force,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41200" y="2917800"/>
          <a:ext cx="8902800" cy="358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200" y="2917800"/>
                    <a:ext cx="8902800" cy="35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4304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s Turbine Improv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520" y="841320"/>
            <a:ext cx="8296200" cy="56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the gas combustion temperature (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before it enters the turbine sin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 - (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mited by metallurgical restriction: ceramic coating over the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intercooling technology: blow cool air over the surface of the blades (film cooling), steam cooling inside the bl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ifications to the basic thermodynamic cycle: intercooling, reheating, re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 design of turbomachinery components: multi-stage compressor and turbine configuration.  Better aerodynamic design on blades (reduce stall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W8000 Geared Turbofan Eng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0" y="990720"/>
          <a:ext cx="9144000" cy="303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90720"/>
                    <a:ext cx="9144000" cy="30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511920" y="4232160"/>
            <a:ext cx="7960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in-spool configuration: H-P turbine drives H-P compr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-P turbine drives L-P compressor, on separated shaf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arbox to further decrease the RPM of the f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fuel ef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s no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wer engine p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08080" y="6156360"/>
            <a:ext cx="354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Machine Design Magaz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. 5, 199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7T09:55:11Z</dcterms:created>
  <dc:creator>C. Shih</dc:creator>
  <dc:description/>
  <dc:language>en-US</dc:language>
  <cp:lastModifiedBy>C. Shih</cp:lastModifiedBy>
  <dcterms:modified xsi:type="dcterms:W3CDTF">1998-11-07T13:33:48Z</dcterms:modified>
  <cp:revision>7</cp:revision>
  <dc:subject/>
  <dc:title>PW8000 Geared Turbofan Engine</dc:title>
</cp:coreProperties>
</file>