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7FD-7E50-4353-BB85-66EC0359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70C2-2E6B-45E6-ABC2-C95F3C09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07E-9272-4EC0-992F-A26671F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F23-6D1F-44E1-AED3-E20BA156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456-8FBB-49A4-808D-E326AB52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3536-FCC9-43C6-9301-BEBC0A31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1FF-9775-460A-8616-A03F8D0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CB1E-577A-48A2-A070-784E444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D06-EED3-4CA6-A46E-489E30D6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8AD-4BE7-454A-89C6-8BA5D6A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89AA-09DD-46B9-915A-439F132B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EE2-BD39-4712-B438-6D4E8ACA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E682-A82A-49C1-BBF0-0BAE50545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228600"/>
          <a:ext cx="7848720" cy="17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"/>
                    <a:ext cx="78487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990720" y="2266920"/>
            <a:ext cx="3038400" cy="2609640"/>
            <a:chOff x="990720" y="2266920"/>
            <a:chExt cx="3038400" cy="2609640"/>
          </a:xfrm>
        </p:grpSpPr>
        <p:sp>
          <p:nvSpPr>
            <p:cNvPr id="44" name=""/>
            <p:cNvSpPr/>
            <p:nvPr/>
          </p:nvSpPr>
          <p:spPr>
            <a:xfrm>
              <a:off x="1816200" y="3660480"/>
              <a:ext cx="101628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0 k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8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 20 m/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6560" y="2545560"/>
              <a:ext cx="656280" cy="51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400000">
              <a:off x="2085120" y="3189960"/>
              <a:ext cx="722160" cy="497520"/>
            </a:xfrm>
            <a:custGeom>
              <a:avLst/>
              <a:gdLst>
                <a:gd name="textAreaLeft" fmla="*/ 158760 w 722160"/>
                <a:gd name="textAreaRight" fmla="*/ 563400 w 722160"/>
                <a:gd name="textAreaTop" fmla="*/ 109440 h 497520"/>
                <a:gd name="textAreaBottom" fmla="*/ 388080 h 49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54080" y="2773440"/>
              <a:ext cx="349200" cy="443160"/>
            </a:xfrm>
            <a:custGeom>
              <a:avLst/>
              <a:gdLst/>
              <a:ahLst/>
              <a:rect l="l" t="t" r="r" b="b"/>
              <a:pathLst>
                <a:path w="495" h="525">
                  <a:moveTo>
                    <a:pt x="0" y="0"/>
                  </a:moveTo>
                  <a:lnTo>
                    <a:pt x="495" y="0"/>
                  </a:lnTo>
                  <a:lnTo>
                    <a:pt x="495" y="5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78680" y="3762000"/>
              <a:ext cx="0" cy="35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990720" y="2786400"/>
              <a:ext cx="2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657440" y="2317320"/>
              <a:ext cx="20088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60800" y="2266920"/>
              <a:ext cx="95256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100%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=150 m/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94960" y="3381840"/>
              <a:ext cx="42336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1600" y="3052440"/>
              <a:ext cx="12175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W/dt=10 M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380880"/>
          <a:ext cx="7086600" cy="182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70866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" name=""/>
          <p:cNvGrpSpPr/>
          <p:nvPr/>
        </p:nvGrpSpPr>
        <p:grpSpPr>
          <a:xfrm>
            <a:off x="685800" y="2286000"/>
            <a:ext cx="3276720" cy="2437920"/>
            <a:chOff x="685800" y="2286000"/>
            <a:chExt cx="3276720" cy="2437920"/>
          </a:xfrm>
        </p:grpSpPr>
        <p:sp>
          <p:nvSpPr>
            <p:cNvPr id="57" name=""/>
            <p:cNvSpPr/>
            <p:nvPr/>
          </p:nvSpPr>
          <p:spPr>
            <a:xfrm>
              <a:off x="1338840" y="3024720"/>
              <a:ext cx="984960" cy="1507320"/>
            </a:xfrm>
            <a:custGeom>
              <a:avLst/>
              <a:gdLst/>
              <a:ahLst/>
              <a:rect l="l" t="t" r="r" b="b"/>
              <a:pathLst>
                <a:path w="1335" h="1530">
                  <a:moveTo>
                    <a:pt x="0" y="0"/>
                  </a:moveTo>
                  <a:lnTo>
                    <a:pt x="0" y="1530"/>
                  </a:lnTo>
                  <a:lnTo>
                    <a:pt x="1335" y="1530"/>
                  </a:lnTo>
                  <a:lnTo>
                    <a:pt x="1335" y="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60800" y="2536920"/>
              <a:ext cx="951840" cy="753480"/>
            </a:xfrm>
            <a:custGeom>
              <a:avLst/>
              <a:gdLst/>
              <a:ahLst/>
              <a:rect l="l" t="t" r="r" b="b"/>
              <a:pathLst>
                <a:path w="1290" h="765">
                  <a:moveTo>
                    <a:pt x="0" y="615"/>
                  </a:moveTo>
                  <a:lnTo>
                    <a:pt x="0" y="765"/>
                  </a:lnTo>
                  <a:lnTo>
                    <a:pt x="1290" y="765"/>
                  </a:lnTo>
                  <a:lnTo>
                    <a:pt x="1290" y="615"/>
                  </a:lnTo>
                  <a:lnTo>
                    <a:pt x="765" y="615"/>
                  </a:lnTo>
                  <a:lnTo>
                    <a:pt x="765" y="15"/>
                  </a:lnTo>
                  <a:lnTo>
                    <a:pt x="615" y="0"/>
                  </a:lnTo>
                  <a:lnTo>
                    <a:pt x="615" y="615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54880" y="3896640"/>
              <a:ext cx="929880" cy="66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34960" y="4251240"/>
              <a:ext cx="61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89840" y="4014720"/>
              <a:ext cx="132480" cy="42840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5800" y="2286000"/>
              <a:ext cx="1062720" cy="14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nk 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itial volu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 m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9800" y="3305520"/>
              <a:ext cx="1062720" cy="14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ank B, 1 m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304920"/>
          <a:ext cx="7543800" cy="147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543800" cy="14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" name=""/>
          <p:cNvGrpSpPr/>
          <p:nvPr/>
        </p:nvGrpSpPr>
        <p:grpSpPr>
          <a:xfrm>
            <a:off x="1066680" y="1905120"/>
            <a:ext cx="1904760" cy="1904400"/>
            <a:chOff x="1066680" y="1905120"/>
            <a:chExt cx="1904760" cy="1904400"/>
          </a:xfrm>
        </p:grpSpPr>
        <p:sp>
          <p:nvSpPr>
            <p:cNvPr id="67" name=""/>
            <p:cNvSpPr/>
            <p:nvPr/>
          </p:nvSpPr>
          <p:spPr>
            <a:xfrm>
              <a:off x="1066680" y="2266560"/>
              <a:ext cx="1447920" cy="1487520"/>
            </a:xfrm>
            <a:custGeom>
              <a:avLst/>
              <a:gdLst/>
              <a:ahLst/>
              <a:rect l="l" t="t" r="r" b="b"/>
              <a:pathLst>
                <a:path w="1425" h="1605">
                  <a:moveTo>
                    <a:pt x="0" y="30"/>
                  </a:moveTo>
                  <a:lnTo>
                    <a:pt x="0" y="1605"/>
                  </a:lnTo>
                  <a:lnTo>
                    <a:pt x="1425" y="1605"/>
                  </a:lnTo>
                  <a:lnTo>
                    <a:pt x="1425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12040" y="1905120"/>
              <a:ext cx="1356480" cy="722880"/>
            </a:xfrm>
            <a:custGeom>
              <a:avLst/>
              <a:gdLst/>
              <a:ahLst/>
              <a:rect l="l" t="t" r="r" b="b"/>
              <a:pathLst>
                <a:path w="1335" h="780">
                  <a:moveTo>
                    <a:pt x="555" y="0"/>
                  </a:moveTo>
                  <a:lnTo>
                    <a:pt x="555" y="600"/>
                  </a:lnTo>
                  <a:lnTo>
                    <a:pt x="0" y="600"/>
                  </a:lnTo>
                  <a:lnTo>
                    <a:pt x="0" y="780"/>
                  </a:lnTo>
                  <a:lnTo>
                    <a:pt x="1320" y="780"/>
                  </a:lnTo>
                  <a:lnTo>
                    <a:pt x="1335" y="600"/>
                  </a:lnTo>
                  <a:lnTo>
                    <a:pt x="735" y="600"/>
                  </a:lnTo>
                  <a:lnTo>
                    <a:pt x="735" y="0"/>
                  </a:lnTo>
                  <a:lnTo>
                    <a:pt x="555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14600" y="36014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12600" y="3392640"/>
              <a:ext cx="145080" cy="416880"/>
            </a:xfrm>
            <a:prstGeom prst="flowChartCollat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12:58:50Z</dcterms:created>
  <dc:creator>C. Shih</dc:creator>
  <dc:description/>
  <dc:language>en-US</dc:language>
  <cp:lastModifiedBy>C. Shih</cp:lastModifiedBy>
  <dcterms:modified xsi:type="dcterms:W3CDTF">1998-10-15T13:03:30Z</dcterms:modified>
  <cp:revision>2</cp:revision>
  <dc:subject/>
  <dc:title>No Slide Title</dc:title>
</cp:coreProperties>
</file>