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234-5656-4783-82A8-569B80D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105-8ACD-4B63-AA49-399711D1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E87-7C65-479A-8878-C00BFD78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746E-3462-40C1-83BC-523235D6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E3C-B421-4C00-A545-89AFC67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4A4-BCE3-41F3-8869-1DCA85B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567-2A4A-41FB-B910-D4D9B577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7BA-8F6C-45C6-9E23-6DC1EF1B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C14F-B77F-4B58-9241-F83ACD6D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E37A-150B-41C1-A915-FA906F80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AE69-9AAB-483E-82CF-E93CC6E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D620-416D-49E8-A9AF-79D89A1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888E-12E9-41C8-969B-E4FB366ED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1880" y="228600"/>
            <a:ext cx="8888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Electric heater is often used in houses to provide heating during 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hs.  It consists of a simple duct with coiled resistance wires as shown.  Cons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20 kW heating system such that the air enters at 100 kPa and 17° C with a 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rate of 2 kg/s.  If it is known that the air leaves the duct with an exit temper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27° C (same pressure), determine the heat loss from the du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2286000"/>
            <a:ext cx="198144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276720"/>
            <a:ext cx="198144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438280"/>
            <a:ext cx="1981440" cy="7621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666880"/>
            <a:ext cx="914400" cy="990720"/>
          </a:xfrm>
          <a:custGeom>
            <a:avLst/>
            <a:gdLst/>
            <a:ahLst/>
            <a:rect l="l" t="t" r="r" b="b"/>
            <a:pathLst>
              <a:path w="576" h="624">
                <a:moveTo>
                  <a:pt x="0" y="624"/>
                </a:moveTo>
                <a:lnTo>
                  <a:pt x="0" y="0"/>
                </a:lnTo>
                <a:lnTo>
                  <a:pt x="48" y="192"/>
                </a:lnTo>
                <a:lnTo>
                  <a:pt x="96" y="0"/>
                </a:lnTo>
                <a:lnTo>
                  <a:pt x="144" y="192"/>
                </a:lnTo>
                <a:lnTo>
                  <a:pt x="192" y="0"/>
                </a:lnTo>
                <a:lnTo>
                  <a:pt x="240" y="192"/>
                </a:lnTo>
                <a:lnTo>
                  <a:pt x="288" y="0"/>
                </a:lnTo>
                <a:lnTo>
                  <a:pt x="336" y="192"/>
                </a:lnTo>
                <a:lnTo>
                  <a:pt x="384" y="0"/>
                </a:lnTo>
                <a:lnTo>
                  <a:pt x="432" y="192"/>
                </a:lnTo>
                <a:lnTo>
                  <a:pt x="480" y="0"/>
                </a:lnTo>
                <a:lnTo>
                  <a:pt x="528" y="192"/>
                </a:lnTo>
                <a:lnTo>
                  <a:pt x="576" y="0"/>
                </a:lnTo>
                <a:lnTo>
                  <a:pt x="576" y="6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28195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42900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t=2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62320" y="20574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1360" y="176688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loss dQ/dt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7480" y="2604960"/>
            <a:ext cx="114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7°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0" y="2209680"/>
            <a:ext cx="114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7°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4960" y="2300400"/>
            <a:ext cx="346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: steady state,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 and PE changes, air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s idea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56" name=""/>
          <p:cNvGraphicFramePr/>
          <p:nvPr/>
        </p:nvGraphicFramePr>
        <p:xfrm>
          <a:off x="87480" y="3886200"/>
          <a:ext cx="909000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3886200"/>
                    <a:ext cx="909000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23960" y="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ent Energy Balance (Unsteady St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4560" y="1333440"/>
            <a:ext cx="2171520" cy="10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2000" y="1752480"/>
            <a:ext cx="1104840" cy="241560"/>
          </a:xfrm>
          <a:prstGeom prst="rightArrow">
            <a:avLst>
              <a:gd name="adj1" fmla="val 50000"/>
              <a:gd name="adj2" fmla="val 1143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7720" y="857160"/>
          <a:ext cx="26226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857160"/>
                    <a:ext cx="26226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0320" y="730080"/>
          <a:ext cx="3173400" cy="8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0320" y="730080"/>
                    <a:ext cx="317340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562720" y="1765440"/>
            <a:ext cx="1104840" cy="241200"/>
          </a:xfrm>
          <a:prstGeom prst="rightArrow">
            <a:avLst>
              <a:gd name="adj1" fmla="val 50000"/>
              <a:gd name="adj2" fmla="val 1145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13280" y="1015920"/>
            <a:ext cx="152280" cy="5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19320" y="56052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in q=dQ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78440" y="2158920"/>
            <a:ext cx="59688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70000" y="238932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out dW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44680" y="2835360"/>
          <a:ext cx="8599320" cy="33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4680" y="2835360"/>
                    <a:ext cx="8599320" cy="33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3654360" y="160020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(t) not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82920" y="6027840"/>
            <a:ext cx="486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27840" y="6151680"/>
            <a:ext cx="33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4.19), p. 157 in Cengel’s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3488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79360" y="369720"/>
          <a:ext cx="8858160" cy="61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369720"/>
                    <a:ext cx="885816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4114800"/>
            <a:ext cx="7848720" cy="990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71080" y="166680"/>
            <a:ext cx="863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team at a pressure of 2 MPa and a temperature of 350° C is ex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 from a tank through a valve to drive a turbine as shown.  The exhausting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s an initially evacuated tank with a volume of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The valve is closed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tank is filled with steam at a pressure of 1.4 MPa and a temperatur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° C.  Assume no significant heat transfer and KE and PE changes are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ligible.  Determine the amount of work developed by the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819520"/>
            <a:ext cx="1676520" cy="1676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2857320" y="3238560"/>
            <a:ext cx="1067040" cy="838080"/>
          </a:xfrm>
          <a:custGeom>
            <a:avLst/>
            <a:gdLst>
              <a:gd name="textAreaLeft" fmla="*/ 234720 w 1067040"/>
              <a:gd name="textAreaRight" fmla="*/ 832320 w 106704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2895480"/>
            <a:ext cx="129528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429000"/>
            <a:ext cx="152280" cy="380880"/>
          </a:xfrm>
          <a:prstGeom prst="flowChartCollat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76360" y="36291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360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90440" y="3014640"/>
            <a:ext cx="96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0 °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38800" y="2986200"/>
            <a:ext cx="119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=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cu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79520" y="2741760"/>
            <a:ext cx="3549960" cy="1703160"/>
          </a:xfrm>
          <a:custGeom>
            <a:avLst/>
            <a:gdLst/>
            <a:ahLst/>
            <a:rect l="l" t="t" r="r" b="b"/>
            <a:pathLst>
              <a:path w="2236" h="1073">
                <a:moveTo>
                  <a:pt x="0" y="419"/>
                </a:moveTo>
                <a:lnTo>
                  <a:pt x="1164" y="0"/>
                </a:lnTo>
                <a:lnTo>
                  <a:pt x="2236" y="0"/>
                </a:lnTo>
                <a:lnTo>
                  <a:pt x="2236" y="1073"/>
                </a:lnTo>
                <a:lnTo>
                  <a:pt x="1173" y="1073"/>
                </a:lnTo>
                <a:lnTo>
                  <a:pt x="0" y="755"/>
                </a:lnTo>
                <a:lnTo>
                  <a:pt x="0" y="419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54720" y="2322360"/>
            <a:ext cx="173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analy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800320" y="2655720"/>
            <a:ext cx="57780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9720" y="4862520"/>
            <a:ext cx="741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ptions: dQ/dt=0 adiabatic process, KE and PE are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m properties at the first tank remains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cond tank reaches final equilibrium after the filling process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96920" y="306360"/>
          <a:ext cx="8577360" cy="65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306360"/>
                    <a:ext cx="857736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601640" y="5888160"/>
            <a:ext cx="79380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91240" y="5830920"/>
            <a:ext cx="750600" cy="57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3680" y="6262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06240" y="6262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067280" y="2784600"/>
                <a:ext cx="1555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5760" y="690480"/>
                <a:ext cx="8785080" cy="431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eed to determine properties from tabl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final temperature and pressure of the second tank are 50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C and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 MP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 table A-6 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5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21 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2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om the same table, 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lso, the first tank 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 MPa, 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0</m:t>
                        </m:r>
                        <m:r>
                          <m:t xml:space="preserve">°</m:t>
                        </m:r>
                        <m:r>
                          <m:t xml:space="preserve">C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J/kg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7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13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30T15:19:23Z</dcterms:created>
  <dc:creator>C. Shih</dc:creator>
  <dc:description/>
  <dc:language>en-US</dc:language>
  <cp:lastModifiedBy>Chiang Shih</cp:lastModifiedBy>
  <dcterms:modified xsi:type="dcterms:W3CDTF">1999-10-21T20:02:18Z</dcterms:modified>
  <cp:revision>1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ublic_html\eml3015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