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032-CF9D-4A2B-AECB-58107E7A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05F-C3B8-4F7D-8538-D7350A09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A1C-D295-44CB-BA2C-61CA8C62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5C41-C61A-4694-920D-F4560723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4F7-DDF6-4E28-B0B5-35B80B33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DF25-B2B6-42CB-90C1-C458F58B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AC4-F07C-4369-A476-A5C0D180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342-5992-44C6-B9CB-E420A41C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F47-0AEF-426F-8CA6-334BB39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83C-92BF-40E9-BC41-7E7AB3BB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0BE-2592-4328-A478-E4962F3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C186-965C-4263-9DF4-FC9197E7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AA02-7C8E-41BD-B9FD-48E864498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0280" y="0"/>
          <a:ext cx="8174160" cy="293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280" y="0"/>
                    <a:ext cx="817416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057400" y="3124080"/>
            <a:ext cx="4533840" cy="3149280"/>
            <a:chOff x="2057400" y="3124080"/>
            <a:chExt cx="4533840" cy="3149280"/>
          </a:xfrm>
        </p:grpSpPr>
        <p:sp>
          <p:nvSpPr>
            <p:cNvPr id="44" name=""/>
            <p:cNvSpPr/>
            <p:nvPr/>
          </p:nvSpPr>
          <p:spPr>
            <a:xfrm>
              <a:off x="2257200" y="3762360"/>
              <a:ext cx="2752560" cy="1152720"/>
            </a:xfrm>
            <a:prstGeom prst="parallelogram">
              <a:avLst>
                <a:gd name="adj" fmla="val 5969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2066760" y="4914720"/>
              <a:ext cx="32364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4829040" y="3285720"/>
              <a:ext cx="28548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05080" y="5358960"/>
              <a:ext cx="13334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low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kg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=2000 J/kg 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2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85800" y="3543120"/>
              <a:ext cx="57132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57400" y="3152520"/>
              <a:ext cx="1361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"=2000 W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76880" y="3124080"/>
              <a:ext cx="1314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low 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=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=2000 J/kg 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29200" y="4476960"/>
              <a:ext cx="1419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2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=30 W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62360" y="510588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ar pa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 m by 3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1447920"/>
          <a:ext cx="845820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4582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380880"/>
          <a:ext cx="8153640" cy="104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0880"/>
                    <a:ext cx="815364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7" name=""/>
          <p:cNvGrpSpPr/>
          <p:nvPr/>
        </p:nvGrpSpPr>
        <p:grpSpPr>
          <a:xfrm>
            <a:off x="533520" y="1600200"/>
            <a:ext cx="4419000" cy="3657600"/>
            <a:chOff x="533520" y="1600200"/>
            <a:chExt cx="4419000" cy="3657600"/>
          </a:xfrm>
        </p:grpSpPr>
        <p:sp>
          <p:nvSpPr>
            <p:cNvPr id="58" name=""/>
            <p:cNvSpPr/>
            <p:nvPr/>
          </p:nvSpPr>
          <p:spPr>
            <a:xfrm>
              <a:off x="3305520" y="3393720"/>
              <a:ext cx="1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9200" y="2381760"/>
              <a:ext cx="15022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oil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800 kg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60360" y="2462040"/>
              <a:ext cx="1182240" cy="1508400"/>
            </a:xfrm>
            <a:custGeom>
              <a:avLst/>
              <a:gdLst/>
              <a:ahLst/>
              <a:rect l="l" t="t" r="r" b="b"/>
              <a:pathLst>
                <a:path w="1830" h="2258">
                  <a:moveTo>
                    <a:pt x="0" y="0"/>
                  </a:moveTo>
                  <a:lnTo>
                    <a:pt x="0" y="2250"/>
                  </a:lnTo>
                  <a:lnTo>
                    <a:pt x="1830" y="2258"/>
                  </a:lnTo>
                  <a:lnTo>
                    <a:pt x="1830" y="15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79440" y="2241360"/>
              <a:ext cx="1143360" cy="460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42600" y="3203280"/>
              <a:ext cx="639360" cy="1032120"/>
            </a:xfrm>
            <a:custGeom>
              <a:avLst/>
              <a:gdLst/>
              <a:ahLst/>
              <a:rect l="l" t="t" r="r" b="b"/>
              <a:pathLst>
                <a:path w="990" h="1545">
                  <a:moveTo>
                    <a:pt x="0" y="900"/>
                  </a:moveTo>
                  <a:lnTo>
                    <a:pt x="510" y="900"/>
                  </a:lnTo>
                  <a:lnTo>
                    <a:pt x="510" y="1545"/>
                  </a:lnTo>
                  <a:lnTo>
                    <a:pt x="990" y="1545"/>
                  </a:lnTo>
                  <a:lnTo>
                    <a:pt x="99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42600" y="3203280"/>
              <a:ext cx="804240" cy="1192320"/>
            </a:xfrm>
            <a:custGeom>
              <a:avLst/>
              <a:gdLst/>
              <a:ahLst/>
              <a:rect l="l" t="t" r="r" b="b"/>
              <a:pathLst>
                <a:path w="1245" h="1785">
                  <a:moveTo>
                    <a:pt x="0" y="1140"/>
                  </a:moveTo>
                  <a:lnTo>
                    <a:pt x="285" y="1140"/>
                  </a:lnTo>
                  <a:lnTo>
                    <a:pt x="285" y="1785"/>
                  </a:lnTo>
                  <a:lnTo>
                    <a:pt x="1245" y="1785"/>
                  </a:lnTo>
                  <a:lnTo>
                    <a:pt x="1245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41680" y="3379320"/>
              <a:ext cx="591120" cy="1001880"/>
            </a:xfrm>
            <a:custGeom>
              <a:avLst/>
              <a:gdLst/>
              <a:ahLst/>
              <a:rect l="l" t="t" r="r" b="b"/>
              <a:pathLst>
                <a:path w="915" h="1500">
                  <a:moveTo>
                    <a:pt x="0" y="1132"/>
                  </a:moveTo>
                  <a:lnTo>
                    <a:pt x="187" y="1132"/>
                  </a:lnTo>
                  <a:lnTo>
                    <a:pt x="187" y="1305"/>
                  </a:lnTo>
                  <a:lnTo>
                    <a:pt x="705" y="1297"/>
                  </a:lnTo>
                  <a:lnTo>
                    <a:pt x="705" y="0"/>
                  </a:lnTo>
                  <a:lnTo>
                    <a:pt x="915" y="0"/>
                  </a:lnTo>
                  <a:lnTo>
                    <a:pt x="915" y="1500"/>
                  </a:lnTo>
                  <a:lnTo>
                    <a:pt x="0" y="1500"/>
                  </a:lnTo>
                  <a:lnTo>
                    <a:pt x="0" y="1132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5120" y="2697840"/>
              <a:ext cx="1153440" cy="615960"/>
            </a:xfrm>
            <a:custGeom>
              <a:avLst/>
              <a:gdLst/>
              <a:ahLst/>
              <a:rect l="l" t="t" r="r" b="b"/>
              <a:pathLst>
                <a:path w="1785" h="922">
                  <a:moveTo>
                    <a:pt x="7" y="0"/>
                  </a:moveTo>
                  <a:lnTo>
                    <a:pt x="0" y="922"/>
                  </a:lnTo>
                  <a:lnTo>
                    <a:pt x="1785" y="922"/>
                  </a:lnTo>
                  <a:lnTo>
                    <a:pt x="1785" y="7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9200" y="1600200"/>
              <a:ext cx="9302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ck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ea 1 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219760" y="2211480"/>
              <a:ext cx="61056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920880" y="2722320"/>
              <a:ext cx="26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920520" y="33138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920520" y="39751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171160" y="4145400"/>
              <a:ext cx="37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69200" y="4135320"/>
              <a:ext cx="66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56600" y="2722320"/>
              <a:ext cx="0" cy="5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56600" y="3333600"/>
              <a:ext cx="0" cy="65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11720" y="339372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336040" y="414504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76600" y="3614400"/>
              <a:ext cx="13759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8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rcu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Hg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3500 kg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325960" y="2822760"/>
              <a:ext cx="51372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82360" y="4295880"/>
              <a:ext cx="153108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wate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000 kg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15160" y="3774240"/>
              <a:ext cx="232560" cy="55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1760" y="2570040"/>
              <a:ext cx="30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1480" y="3151440"/>
              <a:ext cx="30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938600" y="4053240"/>
              <a:ext cx="30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9760" y="3251520"/>
              <a:ext cx="30996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520" y="2900880"/>
              <a:ext cx="93024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5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5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134440" y="44956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2 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28600" y="571680"/>
          <a:ext cx="861048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71680"/>
                    <a:ext cx="861048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57200" y="380880"/>
          <a:ext cx="8153280" cy="53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153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609480" y="1523880"/>
            <a:ext cx="4648320" cy="4038840"/>
            <a:chOff x="609480" y="1523880"/>
            <a:chExt cx="4648320" cy="4038840"/>
          </a:xfrm>
        </p:grpSpPr>
        <p:sp>
          <p:nvSpPr>
            <p:cNvPr id="92" name=""/>
            <p:cNvSpPr/>
            <p:nvPr/>
          </p:nvSpPr>
          <p:spPr>
            <a:xfrm>
              <a:off x="3376080" y="2735280"/>
              <a:ext cx="9648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76480" y="1918440"/>
              <a:ext cx="171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93280" y="2113560"/>
              <a:ext cx="15771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tio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ea 0.03 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01040" y="2113560"/>
              <a:ext cx="18536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000 kg/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240" y="2917800"/>
              <a:ext cx="0" cy="48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47320" y="3510360"/>
              <a:ext cx="11606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137120" y="3448800"/>
              <a:ext cx="15192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62440" y="1589400"/>
              <a:ext cx="1729440" cy="2279160"/>
            </a:xfrm>
            <a:custGeom>
              <a:avLst/>
              <a:gdLst/>
              <a:ahLst/>
              <a:rect l="l" t="t" r="r" b="b"/>
              <a:pathLst>
                <a:path w="1875" h="2805">
                  <a:moveTo>
                    <a:pt x="0" y="0"/>
                  </a:moveTo>
                  <a:lnTo>
                    <a:pt x="0" y="2805"/>
                  </a:lnTo>
                  <a:lnTo>
                    <a:pt x="1875" y="2805"/>
                  </a:lnTo>
                  <a:lnTo>
                    <a:pt x="1875" y="3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91880" y="3176280"/>
              <a:ext cx="1328040" cy="180360"/>
            </a:xfrm>
            <a:custGeom>
              <a:avLst/>
              <a:gdLst/>
              <a:ahLst/>
              <a:rect l="l" t="t" r="r" b="b"/>
              <a:pathLst>
                <a:path w="1440" h="222">
                  <a:moveTo>
                    <a:pt x="0" y="12"/>
                  </a:moveTo>
                  <a:cubicBezTo>
                    <a:pt x="100" y="6"/>
                    <a:pt x="200" y="0"/>
                    <a:pt x="285" y="27"/>
                  </a:cubicBezTo>
                  <a:cubicBezTo>
                    <a:pt x="370" y="54"/>
                    <a:pt x="440" y="147"/>
                    <a:pt x="510" y="177"/>
                  </a:cubicBezTo>
                  <a:cubicBezTo>
                    <a:pt x="580" y="207"/>
                    <a:pt x="635" y="222"/>
                    <a:pt x="705" y="207"/>
                  </a:cubicBezTo>
                  <a:cubicBezTo>
                    <a:pt x="775" y="192"/>
                    <a:pt x="853" y="119"/>
                    <a:pt x="930" y="87"/>
                  </a:cubicBezTo>
                  <a:cubicBezTo>
                    <a:pt x="1007" y="55"/>
                    <a:pt x="1085" y="24"/>
                    <a:pt x="1170" y="12"/>
                  </a:cubicBezTo>
                  <a:cubicBezTo>
                    <a:pt x="1255" y="0"/>
                    <a:pt x="1393" y="12"/>
                    <a:pt x="1440" y="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891880" y="3468240"/>
              <a:ext cx="1328040" cy="180360"/>
            </a:xfrm>
            <a:custGeom>
              <a:avLst/>
              <a:gdLst/>
              <a:ahLst/>
              <a:rect l="l" t="t" r="r" b="b"/>
              <a:pathLst>
                <a:path w="1440" h="222">
                  <a:moveTo>
                    <a:pt x="0" y="12"/>
                  </a:moveTo>
                  <a:cubicBezTo>
                    <a:pt x="100" y="6"/>
                    <a:pt x="200" y="0"/>
                    <a:pt x="285" y="27"/>
                  </a:cubicBezTo>
                  <a:cubicBezTo>
                    <a:pt x="370" y="54"/>
                    <a:pt x="440" y="147"/>
                    <a:pt x="510" y="177"/>
                  </a:cubicBezTo>
                  <a:cubicBezTo>
                    <a:pt x="580" y="207"/>
                    <a:pt x="635" y="222"/>
                    <a:pt x="705" y="207"/>
                  </a:cubicBezTo>
                  <a:cubicBezTo>
                    <a:pt x="775" y="192"/>
                    <a:pt x="853" y="119"/>
                    <a:pt x="930" y="87"/>
                  </a:cubicBezTo>
                  <a:cubicBezTo>
                    <a:pt x="1007" y="55"/>
                    <a:pt x="1085" y="24"/>
                    <a:pt x="1170" y="12"/>
                  </a:cubicBezTo>
                  <a:cubicBezTo>
                    <a:pt x="1255" y="0"/>
                    <a:pt x="1393" y="12"/>
                    <a:pt x="1440" y="12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3160" y="1931040"/>
              <a:ext cx="48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480" y="3417480"/>
              <a:ext cx="26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44560" y="1930680"/>
              <a:ext cx="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48720" y="3758760"/>
              <a:ext cx="190908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tio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it Area 0.05 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t to sca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0000" y="4392720"/>
              <a:ext cx="179820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nk area 5 m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425600" y="3880440"/>
              <a:ext cx="345600" cy="40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53640" y="3644280"/>
              <a:ext cx="129888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70120" y="3181320"/>
              <a:ext cx="143784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50120" y="3327480"/>
              <a:ext cx="1188720" cy="23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05920" y="1523880"/>
              <a:ext cx="165996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tio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ee su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421720" y="1767600"/>
              <a:ext cx="594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43160" y="2550960"/>
            <a:ext cx="5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2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62120" y="533520"/>
                <a:ext cx="6095880" cy="50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20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26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0160" y="289080"/>
                <a:ext cx="5959440" cy="557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Use h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 m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751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9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4T08:32:43Z</dcterms:created>
  <dc:creator>C. Shih</dc:creator>
  <dc:description/>
  <dc:language>en-US</dc:language>
  <cp:lastModifiedBy>Chiang Shih</cp:lastModifiedBy>
  <dcterms:modified xsi:type="dcterms:W3CDTF">1999-09-27T17:59:26Z</dcterms:modified>
  <cp:revision>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hw-solution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