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97F-EEB9-4D0C-9AB8-B7EF5ADA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594-14F6-4D60-8E5B-700D8990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E7B7-C309-44D6-B01C-90AF2FED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AF0-3BA9-48A3-8250-B3BBF1C5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CF7-D521-47F3-8908-4E00D710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8638-CBCB-4515-9863-142979F4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866-DAF0-469E-B7C7-61513C2B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B05-22A4-4BE1-86C0-B466EFA4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8A0-F1E9-4C36-A36F-B1E8ABA6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FC8-1B6C-4B2E-B1F7-DAD6AC84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B4A-8394-4A17-BB70-B2A4EDA6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9439-569A-434B-9504-C091E843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942-84F1-453E-AE76-F544D039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2971800" y="2630520"/>
                <a:ext cx="20304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d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37:56Z</dcterms:created>
  <dc:creator>Dr. Farrukh Alvi</dc:creator>
  <dc:description/>
  <dc:language>en-US</dc:language>
  <cp:lastModifiedBy>Dr. Farrukh Alvi</cp:lastModifiedBy>
  <dcterms:modified xsi:type="dcterms:W3CDTF">1999-09-07T21:41:16Z</dcterms:modified>
  <cp:revision>1</cp:revision>
  <dc:subject/>
  <dc:title>No Slide Title</dc:title>
</cp:coreProperties>
</file>