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885-07FD-46C9-957F-2A41C094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D82-EDFF-464F-997A-B6E4ECD6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ABE-1258-4207-B0CD-9D7F3946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A59-7FEB-413C-8083-22E10B781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4AA-8620-4289-BD97-4C586F3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56B-3FF8-478A-AB2C-1ADC3AE1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354-04CF-4BAD-99F0-407C9444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6432-D328-4CE7-BEA5-7AF751AB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C10-E51B-491D-81CC-F6CA2CFC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93A-ED8E-4C0E-B91C-75C1DD1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92F-5969-4951-A66A-AC5E70D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46E3-EBE7-4B85-89D9-4C7F043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B85-7EB6-4DE7-ACC1-91499B4A5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3, Part 1 Sol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3880"/>
            <a:ext cx="25905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0574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3120" y="773280"/>
            <a:ext cx="8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58092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21200" y="115416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2320" y="2019240"/>
            <a:ext cx="42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tion=convective loss + radiation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838080" y="2438280"/>
                <a:ext cx="46483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εσ</m:t>
                    </m:r>
                    <m:r>
                      <m:t xml:space="preserve">A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rr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736200" y="2781360"/>
            <a:ext cx="74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lect convection since the temperature is very high, solve for T, T=3029 (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imate convective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838080" y="3352680"/>
                <a:ext cx="65534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2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W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740880" y="369576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sumption is reasonable, substitute in for corr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38080" y="4191120"/>
                <a:ext cx="396900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εσ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r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00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843480" y="4991040"/>
            <a:ext cx="7585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temperature is good enough since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a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86.5,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on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.8, q=89.3, close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more correction will lead to more accurate anw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ment 3, Part 1 Soltion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447920"/>
            <a:ext cx="2057400" cy="2057400"/>
          </a:xfrm>
          <a:prstGeom prst="ellipse">
            <a:avLst/>
          </a:prstGeom>
          <a:noFill/>
          <a:ln w="63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599840" y="182844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142640" y="91404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514600"/>
            <a:ext cx="8380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84080" y="160020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ation from filament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3760" y="666720"/>
            <a:ext cx="15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ssio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341960" y="609480"/>
                <a:ext cx="480204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τG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v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iatio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mission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εσ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rr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ρ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teady state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negligible radiation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/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62120" y="4191120"/>
                <a:ext cx="6553080" cy="22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eck radiation: 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not a very good assum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neglect the radiation, more correction is neede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st correction: 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, 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(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nd correction: 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, 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(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rd correctio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th correction: 1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-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, 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7</m:t>
                        </m:r>
                        <m:r>
                          <m:t xml:space="preserve">(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Good enoug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19:30:52Z</dcterms:created>
  <dc:creator>Chiang Shih</dc:creator>
  <dc:description/>
  <dc:language>en-US</dc:language>
  <cp:lastModifiedBy>Chiang Shih</cp:lastModifiedBy>
  <dcterms:modified xsi:type="dcterms:W3CDTF">1999-09-22T20:14:57Z</dcterms:modified>
  <cp:revision>1</cp:revision>
  <dc:subject/>
  <dc:title>Assignment 3, Part 1 Soltion</dc:title>
</cp:coreProperties>
</file>