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7EAC-0199-4FAC-9E0B-5F24FA10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A6D-2D7B-4BAF-BDD2-576348B0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8B2-3D31-4F4F-B29B-C0C67357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2E6F-2E55-4827-A960-D1161135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CC8-BE0E-4FB7-8324-A761721D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3E0C-B9CE-457F-9638-6BC5C53D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D60F-AC93-41E9-9DF8-DC92C5F0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300-FB9C-43EF-9B5A-071BF0CE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32A-85CF-4514-B508-D468791A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2B7-47D7-4609-A05B-1B4E1A7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06C-ABAD-41CF-BFAC-9E415780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4DA-D137-4FA9-8E95-F9078C9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BD60-ACA1-4745-9BDA-31937AC81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7315200" cy="3802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6600" y="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a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52880" y="4772160"/>
            <a:ext cx="3962520" cy="2085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89880" y="4156200"/>
            <a:ext cx="18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iding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095520" y="45720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6120" y="0"/>
            <a:ext cx="299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eam enters chamber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eft, leaving from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160" y="609480"/>
            <a:ext cx="75960" cy="6098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35880" y="45720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both valves closed, piston moves to th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361960" y="9144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2240" y="4662360"/>
            <a:ext cx="311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team enters from righ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eaving from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iston moves back to th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838080" y="4114800"/>
            <a:ext cx="76320" cy="53352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750960"/>
          <a:ext cx="9144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50960"/>
                    <a:ext cx="9144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661120" y="0"/>
            <a:ext cx="343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imple steam power plant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79800" y="85248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ea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44880" y="138600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ork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5040" y="5805360"/>
            <a:ext cx="303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ndensing back to 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orm for easy 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28600" cy="838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505320"/>
            <a:ext cx="83844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51800" y="290988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ea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4343400"/>
            <a:ext cx="60948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92720" y="3886200"/>
            <a:ext cx="11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ork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5562720"/>
            <a:ext cx="0" cy="4572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67520" y="61722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eat out to cooling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15000" y="5105520"/>
            <a:ext cx="45720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87880" y="4205160"/>
            <a:ext cx="108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ork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by p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04920" y="34920"/>
          <a:ext cx="8381880" cy="68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920"/>
                    <a:ext cx="8381880" cy="68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H="1">
            <a:off x="2971440" y="2438280"/>
            <a:ext cx="2057400" cy="266724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809880" y="2590920"/>
            <a:ext cx="3200400" cy="22096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48800" y="236232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uperheated s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1040" y="4038480"/>
            <a:ext cx="17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aturated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iquid+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66680" y="2286000"/>
            <a:ext cx="3047760" cy="579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181480"/>
            <a:ext cx="685800" cy="30492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1440" y="533412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m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subcoo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iq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12520" y="228600"/>
            <a:ext cx="2017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has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93920" y="3352680"/>
            <a:ext cx="235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Above critical poi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there is no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distinction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liquid and vapor ph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248160" y="3733920"/>
            <a:ext cx="53316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51055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648320" y="4952880"/>
            <a:ext cx="304560" cy="15264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3920" y="5257800"/>
            <a:ext cx="145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vap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257800" y="5029200"/>
            <a:ext cx="1371600" cy="38088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2480" y="617220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subl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5029200" y="5791320"/>
            <a:ext cx="380880" cy="38088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560" y="623880"/>
            <a:ext cx="2829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nstant pressur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4572000"/>
            <a:ext cx="1066680" cy="3049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685800" y="685800"/>
          <a:ext cx="79246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 rot="19373400">
            <a:off x="1142640" y="502884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33520" y="4876560"/>
            <a:ext cx="0" cy="144756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6324480"/>
            <a:ext cx="1295280" cy="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840" y="4357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4040" y="618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2514600"/>
            <a:ext cx="1143000" cy="457200"/>
          </a:xfrm>
          <a:prstGeom prst="leftArrow">
            <a:avLst>
              <a:gd name="adj1" fmla="val 50000"/>
              <a:gd name="adj2" fmla="val 6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305920" y="1752480"/>
            <a:ext cx="0" cy="1524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305920" y="2819520"/>
            <a:ext cx="685800" cy="457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09920" y="1461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805960" y="236232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114300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86000" y="228600"/>
            <a:ext cx="1447920" cy="685800"/>
          </a:xfrm>
          <a:prstGeom prst="line">
            <a:avLst/>
          </a:prstGeom>
          <a:ln w="2556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914400"/>
            <a:ext cx="167652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95840" y="14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7640" y="60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3200400"/>
            <a:ext cx="1143000" cy="609480"/>
          </a:xfrm>
          <a:prstGeom prst="ellipse">
            <a:avLst/>
          </a:prstGeom>
          <a:noFill/>
          <a:ln w="255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3657600"/>
            <a:ext cx="83808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1640" y="5562720"/>
            <a:ext cx="139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086240" y="4191120"/>
            <a:ext cx="228600" cy="13716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095520" y="4876920"/>
            <a:ext cx="762120" cy="76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360" y="4800600"/>
            <a:ext cx="114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Consta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7696080" y="3733560"/>
            <a:ext cx="609840" cy="106668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92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440" y="3824280"/>
            <a:ext cx="8885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) P-v diagram: Along the constant temperature line, increasing vapor press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lead to higher density (lower specific volume) due to compressio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it reaches the saturation pressure at that temperature, the vapor will conde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o liquid while the pressure remains constant until all vapor condense into liqui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) T-v diagram: Along the constant pressure line, increasing liquid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lead to lower density (higher specific volume) due to thermal expan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saturation temperature, the liquid will vaporize into gaseous form at a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 until all liquid vaporiz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00200" y="2438280"/>
            <a:ext cx="304920" cy="1371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05120" y="2514600"/>
            <a:ext cx="1600200" cy="2819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08240" y="95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3886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124080" y="3049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-533520" y="-2667960"/>
            <a:ext cx="7315920" cy="65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8023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80237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114440" y="456840"/>
            <a:ext cx="685800" cy="304812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5000" y="15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48520" y="3699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60" y="22860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-T phas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13520" y="194616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38320" y="270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343760" y="-2133000"/>
            <a:ext cx="913680" cy="563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656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656530"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25400" y="9036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ting/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191120" y="457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457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9920" y="547560"/>
            <a:ext cx="270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bstances that contra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n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440" y="1219320"/>
            <a:ext cx="3049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990720"/>
            <a:ext cx="2550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ubstances that exp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n freezing ex.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igher pressure ma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t more difficult to freeze, thus requi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ower freezing temperature.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reverse is true for substances that contract on freez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71800" y="1142640"/>
            <a:ext cx="129528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1143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17400" y="115740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i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22600" y="220968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porization/conden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47676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7680" y="420516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l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91120" y="37335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17080" y="4129200"/>
            <a:ext cx="309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ple point: all three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xist in equilibr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876920" y="3581280"/>
            <a:ext cx="761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5640" y="496728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itical point: A limiting state above which there is no clear distinction betw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quid and vapor pha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7T11:58:36Z</dcterms:created>
  <dc:creator>C. Shih</dc:creator>
  <dc:description/>
  <dc:language>en-US</dc:language>
  <cp:lastModifiedBy>C. Shih</cp:lastModifiedBy>
  <dcterms:modified xsi:type="dcterms:W3CDTF">1998-09-29T09:57:13Z</dcterms:modified>
  <cp:revision>1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ecture-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