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EE0-81F5-42BF-8005-77572F7A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BD7-A87A-4653-B434-CCBDED8F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CC3D-CCE9-4F29-B86B-64A7531E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5FA6-24BF-42CB-83F1-A2F3317C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726-48B1-4221-8FB6-0BA04D44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A8AD-279C-48E5-B1B2-CB8F48FB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6D6-45B6-4B62-932A-6DC18A11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658-79EE-472F-AFBF-9367E098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DE1-AB07-4502-AF82-A1BDEB87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B61B-76BD-4197-99F1-5277E14A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D10-C750-48B4-AB6C-65F94BE4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711-7DDA-4181-AF55-4B4AAB2D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B258-E4EC-4DB4-A982-89ED83206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3600" y="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quations of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3640" y="955800"/>
            <a:ext cx="84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tions that relate the pressure, temperature, and specific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 substance.  They predict the p-v-T relationship of a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ably well within selected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deal gas eq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09480" y="2590920"/>
          <a:ext cx="822960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822960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85000" y="5222880"/>
            <a:ext cx="835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e: many gases such as air, oxygen can be treated as ideal g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wever, dense gases such as water vapor and refrigerant va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hould not be treated as ideal gas.  Use property table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20960" y="30492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al Gas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676520" y="12193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39625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612800"/>
            <a:ext cx="3047760" cy="2121120"/>
          </a:xfrm>
          <a:custGeom>
            <a:avLst/>
            <a:gdLst/>
            <a:ahLst/>
            <a:rect l="l" t="t" r="r" b="b"/>
            <a:pathLst>
              <a:path w="1920" h="1336">
                <a:moveTo>
                  <a:pt x="0" y="1336"/>
                </a:moveTo>
                <a:cubicBezTo>
                  <a:pt x="68" y="1192"/>
                  <a:pt x="136" y="1048"/>
                  <a:pt x="192" y="904"/>
                </a:cubicBezTo>
                <a:cubicBezTo>
                  <a:pt x="248" y="760"/>
                  <a:pt x="288" y="592"/>
                  <a:pt x="336" y="472"/>
                </a:cubicBezTo>
                <a:cubicBezTo>
                  <a:pt x="384" y="352"/>
                  <a:pt x="408" y="256"/>
                  <a:pt x="480" y="184"/>
                </a:cubicBezTo>
                <a:cubicBezTo>
                  <a:pt x="552" y="112"/>
                  <a:pt x="664" y="0"/>
                  <a:pt x="768" y="40"/>
                </a:cubicBezTo>
                <a:cubicBezTo>
                  <a:pt x="872" y="80"/>
                  <a:pt x="1000" y="304"/>
                  <a:pt x="1104" y="424"/>
                </a:cubicBezTo>
                <a:cubicBezTo>
                  <a:pt x="1208" y="544"/>
                  <a:pt x="1296" y="648"/>
                  <a:pt x="1392" y="760"/>
                </a:cubicBezTo>
                <a:cubicBezTo>
                  <a:pt x="1488" y="872"/>
                  <a:pt x="1592" y="1024"/>
                  <a:pt x="1680" y="1096"/>
                </a:cubicBezTo>
                <a:cubicBezTo>
                  <a:pt x="1768" y="1168"/>
                  <a:pt x="1872" y="1176"/>
                  <a:pt x="1920" y="1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28600" y="8031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38840" y="415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18320" y="879480"/>
            <a:ext cx="39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gas behavior( high te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14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71960" y="266688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gas behavior(low press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1447920"/>
            <a:ext cx="6858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685800"/>
            <a:ext cx="188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n-ideal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9618800">
            <a:off x="3657600" y="1752120"/>
            <a:ext cx="457200" cy="1752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05040" y="4648320"/>
            <a:ext cx="770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for most g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te from ideal gas in the vicinity of the critical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aturated vapor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es like ideal gas at high temperature and low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45680" y="0"/>
            <a:ext cx="82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essibility Factor-A measure of deviation from the ideal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14400" y="380880"/>
          <a:ext cx="2438280" cy="6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880"/>
                    <a:ext cx="243828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01960" y="45720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: compressibility factor, Z=1, ideal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447920" y="1066680"/>
          <a:ext cx="7391160" cy="465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066680"/>
                    <a:ext cx="739116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44440" y="1447920"/>
            <a:ext cx="11923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/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T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680" y="5816520"/>
            <a:ext cx="8426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steam T=310° C, P=10 MPa,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647.3K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2.09 MPa (From Table A-1, p. 842);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9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45,   Z=0.75, different from ideal g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952880" y="1142640"/>
            <a:ext cx="0" cy="3886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981080" y="3314880"/>
            <a:ext cx="28958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003560" y="5597280"/>
            <a:ext cx="660600" cy="111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28320" y="5408640"/>
            <a:ext cx="9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ig A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1T21:52:04Z</dcterms:created>
  <dc:creator>C. Shih</dc:creator>
  <dc:description/>
  <dc:language>en-US</dc:language>
  <cp:lastModifiedBy>Chiang Shih</cp:lastModifiedBy>
  <dcterms:modified xsi:type="dcterms:W3CDTF">1999-10-13T16:15:33Z</dcterms:modified>
  <cp:revision>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public_html\eml4930\lecture-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