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662-3DC3-4C72-9D3F-BCCA47CD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F6D-0DCA-4C10-85E1-D48F994B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93D-52CA-4F4D-BB31-FE90EC94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2073-C5CA-4D70-B063-0C7CFCDC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E15A-A6D5-4993-A985-6C7F8891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E57A-0D2A-4E97-8A1A-CFD5100B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2A9-ED85-4624-BD10-DFDE7554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5166-D30C-41FE-99B2-220494F8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54CB-EF4E-4B90-A5F1-C73EB4D1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F6DD-0330-46A0-97F8-02123BB3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AB1B-3923-4E7B-BB01-B88C5A14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E46-4F9B-42B6-A198-D28AE055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232E-7A2D-45F9-A867-C143FF84D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136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Conservation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7240" y="636480"/>
            <a:ext cx="827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Superheated water vapor is entering the steam turbine with a ma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 rate of 1 kg/s and exhausting as saturated steamas shown.  Heat loss f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urbine is 10 kW under the following operating condition.  Determine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output of the turb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1257120" y="3441600"/>
            <a:ext cx="1600200" cy="1231920"/>
          </a:xfrm>
          <a:custGeom>
            <a:avLst/>
            <a:gdLst>
              <a:gd name="textAreaLeft" fmla="*/ 351720 w 1600200"/>
              <a:gd name="textAreaRight" fmla="*/ 1248480 w 1600200"/>
              <a:gd name="textAreaTop" fmla="*/ 270720 h 1231920"/>
              <a:gd name="textAreaBottom" fmla="*/ 96120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50960" y="2641680"/>
            <a:ext cx="0" cy="93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8280" y="478800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3987720"/>
            <a:ext cx="1117800" cy="177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3238560"/>
            <a:ext cx="1575000" cy="1663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86680" y="1868400"/>
            <a:ext cx="131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1.4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=35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=80 m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=10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7840" y="5119560"/>
            <a:ext cx="241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0.5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% saturated s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=50 m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=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rot="12786000">
            <a:off x="786240" y="3568680"/>
            <a:ext cx="939960" cy="177840"/>
          </a:xfrm>
          <a:prstGeom prst="leftArrow">
            <a:avLst>
              <a:gd name="adj1" fmla="val 50000"/>
              <a:gd name="adj2" fmla="val 1321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7640" y="29098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k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50160" y="1792440"/>
            <a:ext cx="3353760" cy="74556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superheated vapor tab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3149.5 kJ/k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930320"/>
            <a:ext cx="1231920" cy="59688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174840" y="2057040"/>
            <a:ext cx="1054440" cy="1652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5143680"/>
            <a:ext cx="2425680" cy="66024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67520" y="6237360"/>
            <a:ext cx="4848480" cy="44064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saturated steam table: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748.7 k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70280" y="5803920"/>
            <a:ext cx="406440" cy="3938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263760" y="2727360"/>
          <a:ext cx="560232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3760" y="2727360"/>
                    <a:ext cx="560232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10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0960" y="4270320"/>
            <a:ext cx="8479080" cy="29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These properties are all dependent: specify one to determine all (because they are in a saturation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Liquid and vapor phases coexist, the total mass of the mixture, m, is the sum of the liquid mass and the vapor mass: m=m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+m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, The ratio of the mass of vapor to the total mass is called the quality of the mixture: x=m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874880"/>
            <a:ext cx="34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f-liquid phase     g-vapor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0040" y="2236680"/>
            <a:ext cx="893880" cy="822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57400" y="2251080"/>
            <a:ext cx="303480" cy="866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99960" y="453960"/>
            <a:ext cx="235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aturated S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59320" y="880920"/>
            <a:ext cx="244440" cy="15004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685800"/>
            <a:ext cx="8312400" cy="67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volume is the sum of liquid volume and vapor volum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 v is the specific volume or 1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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= m(1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mv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/m = 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m +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m = (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m)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m)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[(m-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m]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m)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1-x)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x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ly, all other saturated thermodynamic properties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ed in the same mann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internal energy: u = (1-x)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x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U 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1219320"/>
          <a:ext cx="914400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797840" y="42552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aturated Steam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6320" y="1508040"/>
            <a:ext cx="838440" cy="5050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05400" y="1508040"/>
            <a:ext cx="621000" cy="51912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558440" y="2070000"/>
            <a:ext cx="1024200" cy="881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888160" y="2069640"/>
            <a:ext cx="388800" cy="7225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80360" y="3208320"/>
            <a:ext cx="7729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(p=0.5 Mpa) = 2746.4 + (2758.1-2746.4)/(0.6178-0.4758)*(0.5-0.475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=2748.4 kJ/kg for 100% quality saturated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6520" y="69840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(M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34720" y="611280"/>
            <a:ext cx="122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kJ/K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636960" y="1003320"/>
            <a:ext cx="28908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110960" y="1074600"/>
            <a:ext cx="1404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0200" y="4545000"/>
            <a:ext cx="636984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If the quality is 50% and the temperature is 15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632.2,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114.2,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746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 = (1-x)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x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(1-0.5)(632.2) + 0.5(2746.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689.3 (kJ/k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90440" y="798480"/>
            <a:ext cx="1145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kJ/k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06800" y="1117440"/>
            <a:ext cx="18756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64120" y="425520"/>
            <a:ext cx="122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kJ/k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86280" y="816120"/>
            <a:ext cx="144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3627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430880" y="1984320"/>
            <a:ext cx="561960" cy="24829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448080" y="3933720"/>
            <a:ext cx="1039680" cy="8510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72440" y="4848120"/>
            <a:ext cx="40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h(p=1.5MPa, T=350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)=3147.4 k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11640" y="4386240"/>
            <a:ext cx="386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h(p=1MPa, T=350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)=3157.7 k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30160" y="10112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uperheated S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920840" y="2995200"/>
            <a:ext cx="360360" cy="14288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53120" y="5483160"/>
            <a:ext cx="626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h(p=1.4MPa, T=350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)=3157.7+(3147.7-3157.7)*(0.4/0.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=3149.7 (kJ/k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59360" y="331920"/>
            <a:ext cx="27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ressed Liqu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080" y="768240"/>
          <a:ext cx="7259760" cy="32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080" y="768240"/>
                    <a:ext cx="7259760" cy="32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504720" y="4189320"/>
            <a:ext cx="7823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the format of the superheated vapor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general, properties are not sensitive to pressure, therefore, can treat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ressed liquid as saturated liquid at the given TEMPERA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: P and 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not h, since h=u+pv, and it depends more strongly on p.  It can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imated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27200" y="5106960"/>
                <a:ext cx="3681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@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@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≃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@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98" name=""/>
          <p:cNvGraphicFramePr/>
          <p:nvPr/>
        </p:nvGraphicFramePr>
        <p:xfrm>
          <a:off x="2846520" y="6135840"/>
          <a:ext cx="2814480" cy="3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6520" y="6135840"/>
                    <a:ext cx="28144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9T10:16:56Z</dcterms:created>
  <dc:creator>C. Shih</dc:creator>
  <dc:description/>
  <dc:language>en-US</dc:language>
  <cp:lastModifiedBy>C. Shih</cp:lastModifiedBy>
  <dcterms:modified xsi:type="dcterms:W3CDTF">1998-10-01T21:46:36Z</dcterms:modified>
  <cp:revision>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public_html\eml4930\lecture-not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