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491-034B-4AAE-B47F-C0524CA7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DD0-B920-497D-B970-78F68D30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A72-9D84-4119-9853-9AA9FCA4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6CD-ACB7-4B3E-AAF2-A625EE6E4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7FE-D8DC-427C-A433-1BC10D0C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673-EFC8-48AC-842E-06593F9A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C1F-4E9A-40B4-BD09-EA96BC8C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F1D-8252-484B-A3D2-4DEB7C4A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2E5-86BE-4A25-983D-56806C7E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62F-F795-4CC5-94D9-C07E9D03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1AE1-189B-4113-B4E5-99CCF0A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002-6158-4403-972A-6753D41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E83-EEE1-42C4-861D-C987D13A3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e the thermodynamic property entropy (S) using the Clausius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fact that the entropy is always increasing for an isolated system (or a system plus its surroundings) based on the increase of entropy princi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entopy change of a thermodynamic process (how to use thermodynamic table, ideal gas re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 diagrams involving entropy (T-s and h-s diagra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opy balance: entropy change = entropy transfer + entropy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85800"/>
            <a:ext cx="86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opy: a thermodynamic property, can be used as a measure of disorder.  The more disorganized a system the higher the entr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using Clausius ine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105520" y="1447920"/>
          <a:ext cx="121896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12189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220968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equality is valid for all cycles, reversible and irrever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reversible Carnot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3200400"/>
          <a:ext cx="8229600" cy="162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00400"/>
                    <a:ext cx="822960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81160" y="491796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thermodynamic property entropy (S),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5410080"/>
          <a:ext cx="7632720" cy="11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5410080"/>
                    <a:ext cx="7632720" cy="11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360" y="6508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entropy is a thermodynamic property, it has fixed values at a fixed thermodynamic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20" y="838080"/>
            <a:ext cx="24372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05120" y="27428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880" y="22096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90520" y="1690560"/>
            <a:ext cx="3366000" cy="2575800"/>
            <a:chOff x="290520" y="1690560"/>
            <a:chExt cx="3366000" cy="2575800"/>
          </a:xfrm>
        </p:grpSpPr>
        <p:sp>
          <p:nvSpPr>
            <p:cNvPr id="59" name=""/>
            <p:cNvSpPr/>
            <p:nvPr/>
          </p:nvSpPr>
          <p:spPr>
            <a:xfrm flipV="1">
              <a:off x="762120" y="19047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120" y="3809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219320" y="1981080"/>
              <a:ext cx="2437200" cy="228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31240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38280" y="19810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9640" y="2909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99840" y="1766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80480" y="297180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versi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4640" y="1752480"/>
              <a:ext cx="790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0520" y="169056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4640" y="3809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3200400" y="1371600"/>
          <a:ext cx="571500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371600"/>
                    <a:ext cx="571500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52280" y="55627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ropy change during an irreversible process is greater than the integral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/T during the process.  If the process is reversible, then the entropy change is equal to the integral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/T.  For the same entropy change, the heat transfer for a reversible process is less than that of an irreversible.  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 Increas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533520"/>
          <a:ext cx="701496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701496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41360" y="3290760"/>
            <a:ext cx="8702640" cy="34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ocess can take place only in the direction that complies with the increase of entropy principle, that i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is non-conservative since it is always increasing.  The entropy of the universe is continuously increasing, in other words, it is more disorganized and is approaching chao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ntropy generation is due to the existence of irreversibilities.  Therefore, the higher the entropy generation the higher the irreversibilities and, accordingly, the lower the efficiency of a device since a reversible system is the most efficient sys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 Generation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360" y="623880"/>
            <a:ext cx="87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how that the heat can not transfer from the low-temperature sink to the high-temperature source based on the increase of entropy princi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" y="1523880"/>
            <a:ext cx="2284560" cy="2514600"/>
            <a:chOff x="685800" y="1523880"/>
            <a:chExt cx="2284560" cy="2514600"/>
          </a:xfrm>
        </p:grpSpPr>
        <p:sp>
          <p:nvSpPr>
            <p:cNvPr id="80" name=""/>
            <p:cNvSpPr/>
            <p:nvPr/>
          </p:nvSpPr>
          <p:spPr>
            <a:xfrm>
              <a:off x="685800" y="1523880"/>
              <a:ext cx="1295280" cy="762120"/>
            </a:xfrm>
            <a:prstGeom prst="cloudCallout">
              <a:avLst>
                <a:gd name="adj1" fmla="val -27203"/>
                <a:gd name="adj2" fmla="val 620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040" y="1523880"/>
              <a:ext cx="88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0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5800" y="3276720"/>
              <a:ext cx="1295280" cy="761760"/>
            </a:xfrm>
            <a:prstGeom prst="cloudCallout">
              <a:avLst>
                <a:gd name="adj1" fmla="val -15439"/>
                <a:gd name="adj2" fmla="val -14791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90360" y="3276720"/>
              <a:ext cx="813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00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43000" y="2133720"/>
              <a:ext cx="457200" cy="1143000"/>
            </a:xfrm>
            <a:prstGeom prst="upArrow">
              <a:avLst>
                <a:gd name="adj1" fmla="val 50000"/>
                <a:gd name="adj2" fmla="val 625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58880" y="2300400"/>
              <a:ext cx="131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=2000 k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048120" y="1295280"/>
            <a:ext cx="609588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ource) = 2000/800 = 2.5 (kJ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ink) = -2000/500 = -4 (kJ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ource)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ink) = -1.5(kJ/K)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impossible based on the entropy increase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therefore, the heat can not transfer from low-temp. to high-temp. without external work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process is reversed, 2000 kJ of heat is transferred from the source to the sink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5 (kJ/K) &gt; 0, and the process can occur according to the second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8550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sink temperature is increased to 700 K, how about the entropy generation?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ource) = -2000/800 = -2.5(kJ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ink) = 2000/700 = 2.86 (kJ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ource)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sink) = 0.36 (kJ/K) &lt; 1.5 (kJ/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opy generation is less than when the sink temperature is 500 K, less irreversibility.  Heat transfer between objects having large temperature difference generates higher degree of irrever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6T10:59:38Z</dcterms:created>
  <dc:creator>C. Shih</dc:creator>
  <dc:description/>
  <dc:language>en-US</dc:language>
  <cp:lastModifiedBy>Chiang Shih</cp:lastModifiedBy>
  <dcterms:modified xsi:type="dcterms:W3CDTF">1999-10-14T21:28:13Z</dcterms:modified>
  <cp:revision>11</cp:revision>
  <dc:subject/>
  <dc:title>Entrop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