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69F-FE59-4287-92EC-4181B3A1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302-D3B8-4D85-BC84-F179065A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6CC-E7E4-490C-863C-C9A47D14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979-E609-489E-92E9-A1121C3B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A0E-2467-4ABF-9EBB-BCF15D95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5F1-9B32-475D-80BB-42A07A92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5A2-5954-4BB4-98A4-EECDF86D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CD2-8AA2-4996-8756-599C63C5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3B5-77C2-48CF-BC85-9A8569B2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066D-0AC9-4C73-9032-1D46446B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D2B-0E0D-4381-AF1B-009C899E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7F0-CCB3-4A52-9505-DE1043B3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AF36-7556-418F-93FA-356296336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diagrams (T-s and h-s diagrams)                     from the definition of the entropy, it is known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=TdS during a reversible process.                               The total heat transfer during this process is given by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ver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, it is useful to consider the T-S diagram for a reversible process involving heat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51240" y="4156200"/>
            <a:ext cx="466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a T-S diagram, the area under the process curve represents the heat transfer for a reversibl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1400" y="3257640"/>
            <a:ext cx="5500080" cy="3415680"/>
            <a:chOff x="671400" y="3257640"/>
            <a:chExt cx="5500080" cy="3415680"/>
          </a:xfrm>
        </p:grpSpPr>
        <p:grpSp>
          <p:nvGrpSpPr>
            <p:cNvPr id="45" name=""/>
            <p:cNvGrpSpPr/>
            <p:nvPr/>
          </p:nvGrpSpPr>
          <p:grpSpPr>
            <a:xfrm>
              <a:off x="671400" y="3257640"/>
              <a:ext cx="5500080" cy="3415680"/>
              <a:chOff x="671400" y="3257640"/>
              <a:chExt cx="5500080" cy="3415680"/>
            </a:xfrm>
          </p:grpSpPr>
          <p:sp>
            <p:nvSpPr>
              <p:cNvPr id="46" name=""/>
              <p:cNvSpPr/>
              <p:nvPr/>
            </p:nvSpPr>
            <p:spPr>
              <a:xfrm flipV="1">
                <a:off x="1143000" y="3962520"/>
                <a:ext cx="0" cy="220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143000" y="617220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H="1" flipV="1">
                <a:off x="1600200" y="3257640"/>
                <a:ext cx="4571280" cy="216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72" y="163"/>
                    </a:moveTo>
                    <a:arcTo wR="10800" hR="10800" stAng="-4801252" swAng="48012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72" y="163"/>
                    </a:moveTo>
                    <a:arcTo wR="10800" hR="10800" stAng="-4801252" swAng="4801252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600200" y="4419720"/>
                <a:ext cx="0" cy="175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505320" y="54100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1400" y="39276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96200" y="62136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2590920" y="5257800"/>
              <a:ext cx="15228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s with constant specific h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pecific heats are constant, the integration can be simpli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438280" y="1523880"/>
                <a:ext cx="404028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746280" y="3546360"/>
            <a:ext cx="8397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process is isentropic (that is adiabatic and reversible), ds=0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it can be show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362320" y="4343400"/>
                <a:ext cx="44956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 and 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, where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 is compressed from an initial state of 100 kPa and 300 K to 500 kPa and 360 K.  Determine the entropy change using constan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.003 (kJ/kg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6680" y="1905120"/>
                <a:ext cx="7647120" cy="24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if 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s constant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3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9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1060560" y="4114800"/>
            <a:ext cx="68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entropy due to heat loss to the surrou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the Carnot cycle on a T-S diagram and identify the heat transfer at both the high and low temperatures, and the work output from the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06360" y="1752480"/>
            <a:ext cx="3702960" cy="3177360"/>
            <a:chOff x="306360" y="1752480"/>
            <a:chExt cx="3702960" cy="3177360"/>
          </a:xfrm>
        </p:grpSpPr>
        <p:sp>
          <p:nvSpPr>
            <p:cNvPr id="57" name=""/>
            <p:cNvSpPr/>
            <p:nvPr/>
          </p:nvSpPr>
          <p:spPr>
            <a:xfrm>
              <a:off x="3659400" y="434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777600" y="20160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600" y="43783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16040" y="2320920"/>
              <a:ext cx="1371240" cy="99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16040" y="33876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87640" y="33876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77600" y="232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7600" y="33116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6360" y="1752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0840" y="216864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9760" y="3006720"/>
              <a:ext cx="474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86360" y="4419720"/>
              <a:ext cx="86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57960" y="4419720"/>
              <a:ext cx="868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4900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12760" y="186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49200" y="3200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93440" y="331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36960" y="3997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89440" y="3997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061160" y="2057400"/>
            <a:ext cx="50907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2, reversible isothermal heat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rea 1-2-B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, reversible, adiabatic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entropic process, S=constant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4, reversible isothermal heat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area 3-4-A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1, reversible, adiabatic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entropic process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9960" y="5222880"/>
            <a:ext cx="8474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work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area enclosed by 1-2-3-4, the shade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lier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halpy-entropy diagram, h-s diagram: it is valuable in analyzing steady-flow devices such as turbines, compresso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: change of enthalpy from energy balance (from the first law of thermodynam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 change of entropy from the second law ( a measure of the irreversibilities during an adiabatic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14760" y="3699000"/>
            <a:ext cx="3271320" cy="2593080"/>
            <a:chOff x="1814760" y="3699000"/>
            <a:chExt cx="3271320" cy="2593080"/>
          </a:xfrm>
        </p:grpSpPr>
        <p:sp>
          <p:nvSpPr>
            <p:cNvPr id="81" name=""/>
            <p:cNvSpPr/>
            <p:nvPr/>
          </p:nvSpPr>
          <p:spPr>
            <a:xfrm flipV="1">
              <a:off x="2362320" y="396216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2320" y="60199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3200" y="48006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38480" y="5410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19520" y="42670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1480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576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7432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5880" y="54100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4267080" y="42667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67080" y="5029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29360" y="4378320"/>
              <a:ext cx="51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14760" y="369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86560" y="583236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43200" y="4267080"/>
              <a:ext cx="1295280" cy="1067040"/>
            </a:xfrm>
            <a:custGeom>
              <a:avLst/>
              <a:gdLst/>
              <a:ahLst/>
              <a:rect l="l" t="t" r="r" b="b"/>
              <a:pathLst>
                <a:path w="816" h="672">
                  <a:moveTo>
                    <a:pt x="0" y="0"/>
                  </a:moveTo>
                  <a:cubicBezTo>
                    <a:pt x="40" y="100"/>
                    <a:pt x="80" y="200"/>
                    <a:pt x="144" y="288"/>
                  </a:cubicBezTo>
                  <a:cubicBezTo>
                    <a:pt x="208" y="376"/>
                    <a:pt x="314" y="472"/>
                    <a:pt x="384" y="528"/>
                  </a:cubicBezTo>
                  <a:cubicBezTo>
                    <a:pt x="454" y="584"/>
                    <a:pt x="489" y="599"/>
                    <a:pt x="561" y="623"/>
                  </a:cubicBezTo>
                  <a:cubicBezTo>
                    <a:pt x="633" y="647"/>
                    <a:pt x="763" y="662"/>
                    <a:pt x="816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8120" y="48006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S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closed system containing a pure compressible substance undergoing a reversibl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v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dS - P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S = dU + PdV, or Tds = du + pdv ( per unit m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amous Gibbsi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 du by using the definition of enthalpy h=u+p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h = du + pdv + vdp,  thus du + pdv = dh - v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ds = du + pd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lso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ds = dh - v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: these equations relate the entropy change of a system to the changes in other properties: dh, du, dp, dv.  Therefore, they are independent of the processes.  These relations can be used for reversible as well as irreversible processes.  ( Even their derivation is based on a reversible process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steam is undergoing a phase transition from liquid to vapor at a constant temperature of 20°C.  Determine the entropy chang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Gibbsian equations and compare the value to that read directly from the thermodynamic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00200" y="2590920"/>
                <a:ext cx="58150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hange from liquid to vapor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80880" y="4343400"/>
            <a:ext cx="8534520" cy="21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able A-4, T=20°C, P=0.002338 MPa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001002(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kg)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7.79(m3/kg)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83.9(kJ/kg)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402.9(kJ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(1/293)(2402.9-83.9)+(2.338/293)(57.79-0.001002)=8.375(kJ/kg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ompares favorably with the tabulated valu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8.3715(kJ/kg 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 change of an incompressible sub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ost liquids and all solids, the density is not changed as pressure changes, that is, dv=0. Gibbsian equation states that Tds=du+pdv=du, du=CdT, for an incompressible subs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C is a function of temperature only.  Therefore, ds=du/T=CdT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666880"/>
                <a:ext cx="7696440" cy="252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e to determine the entropy change during a process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r>
                          <m:t xml:space="preserve">≃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here 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averaged specific heat of the substanc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ver the given temperature rang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85800" y="5562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heats for some common liquids and solids can be found in thermodynamic tables such as Table A-14 to A-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1-kg metal bar initially at 1000 K is removed from an oven and quenched by immersing in a closed tank containing 20 kg of water initially at 300 K.  Assume both substances are incompressible and c(water)=4(kJ/kg K), c(metal)=0.4(kJ/kg K).  Neglect heat transfer between the tank and its surroundings.  (a) Determine the final temperature of the metal bar, (b) entropy generation during th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219320" y="2895480"/>
            <a:ext cx="6172200" cy="3048120"/>
            <a:chOff x="1219320" y="2895480"/>
            <a:chExt cx="6172200" cy="3048120"/>
          </a:xfrm>
        </p:grpSpPr>
        <p:sp>
          <p:nvSpPr>
            <p:cNvPr id="110" name=""/>
            <p:cNvSpPr/>
            <p:nvPr/>
          </p:nvSpPr>
          <p:spPr>
            <a:xfrm>
              <a:off x="3276720" y="2895480"/>
              <a:ext cx="3200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1000 K, 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1kg,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4 kJ/kg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9320" y="3733920"/>
              <a:ext cx="2743200" cy="2209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09680" y="4724280"/>
              <a:ext cx="12193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95480" y="3352680"/>
              <a:ext cx="457200" cy="1524240"/>
            </a:xfrm>
            <a:custGeom>
              <a:avLst/>
              <a:gdLst/>
              <a:ahLst/>
              <a:rect l="l" t="t" r="r" b="b"/>
              <a:pathLst>
                <a:path w="288" h="960">
                  <a:moveTo>
                    <a:pt x="0" y="960"/>
                  </a:moveTo>
                  <a:lnTo>
                    <a:pt x="0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39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79840" y="3927600"/>
              <a:ext cx="29116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00 K, m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20 kg,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4 kJ/kg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533520"/>
                <a:ext cx="8510760" cy="32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Energy balance from the first law:</m:t>
                        </m:r>
                      </m:e>
                      <m:e>
                        <m:r>
                          <m:t xml:space="preserve">Δ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-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no heat transfer and no work done</m:t>
                        </m:r>
                      </m:e>
                      <m:e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ater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etal ba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both bar and water reach final temperature 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80880" y="3429000"/>
                <a:ext cx="8458200" cy="305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No heat transfer with the outside 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the entrop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lance of the system </m:t>
                        </m:r>
                        <m:r>
                          <m:t xml:space="preserve">Δs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eneratio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ater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a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1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78280" y="6137280"/>
            <a:ext cx="86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tal entropy of the system increases, thus satisfy the second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 change of an ideal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Gibbsian equations, the change of entropy of an ideal gas can be express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286000" y="1447920"/>
                <a:ext cx="36576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69960" y="2251080"/>
            <a:ext cx="824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ideal gas, u=u(T) and h=h(T), du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dT and dh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dT and Pv=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58800" y="3200400"/>
                <a:ext cx="824076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y integration, the change of the entropy is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 need to know the function 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nd 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n order to complet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integration,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5T20:06:51Z</dcterms:created>
  <dc:creator>C. Shih</dc:creator>
  <dc:description/>
  <dc:language>en-US</dc:language>
  <cp:lastModifiedBy>Chiang Shih</cp:lastModifiedBy>
  <dcterms:modified xsi:type="dcterms:W3CDTF">1999-10-29T16:18:05Z</dcterms:modified>
  <cp:revision>21</cp:revision>
  <dc:subject/>
  <dc:title>Entropy Ch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