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E76-484D-46D3-87E2-94C7FD1B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A0C-1893-45EE-8BBA-C1918986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CFF-8FB9-49C3-BC66-9D2EACE6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F73-4347-4B2C-830A-FB258E75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B8C-61C8-4087-BBAD-0654EF52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633-78B4-4886-AB1A-7217255A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8BFB-277D-4477-A7EA-60E21509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A49-BFB9-4394-ACF4-B6A04F1B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B87-8DB8-449A-8EC3-9F8A4293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9AE-6F04-439A-9E18-90C02C5C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48D-ABC3-40BF-80C4-17E66942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A76-55FD-4955-BAD3-509D30B7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476-D563-43A4-9CA1-3C669CAFA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es in Pip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91440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jor Lo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due to friction, significant head loss is associated with the straight portions of pipe flows.  This loss can be calculated using the Moody chart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ebrook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or Los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dditional components (valves, bends, tees, contractions, etc)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pe flows also contribute to the total head loss of the system.  Their con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generally termed minor lo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ead losses and pressure drops can be characterized by using the loss coefficie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is defin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f the example of minor losses is the entrance flow loss.  A typical flow patt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flow entering a sharp-edged entrance is shown in the following page.  A ve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a region if formed at the inlet because the fluid can not turn a sharp corn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separation and associated viscous effects will tend to decrease the f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phenomenon is complicated.  To simplify the analysis, a head loss and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ed loss coefficient are used in the extended Bernoulli’s equation to take i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ation of this effect as described in the next p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622600" y="3479760"/>
          <a:ext cx="5194080" cy="7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3479760"/>
                    <a:ext cx="519408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343240" y="1314360"/>
          <a:ext cx="5384880" cy="6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3240" y="1314360"/>
                    <a:ext cx="53848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or Loss through flow ent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40160" y="825480"/>
            <a:ext cx="2743200" cy="457200"/>
          </a:xfrm>
          <a:custGeom>
            <a:avLst/>
            <a:gdLst/>
            <a:ahLst/>
            <a:rect l="l" t="t" r="r" b="b"/>
            <a:pathLst>
              <a:path w="1728" h="288">
                <a:moveTo>
                  <a:pt x="0" y="0"/>
                </a:moveTo>
                <a:lnTo>
                  <a:pt x="0" y="288"/>
                </a:lnTo>
                <a:lnTo>
                  <a:pt x="1728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40160" y="2197080"/>
            <a:ext cx="2819160" cy="533520"/>
          </a:xfrm>
          <a:custGeom>
            <a:avLst/>
            <a:gdLst/>
            <a:ahLst/>
            <a:rect l="l" t="t" r="r" b="b"/>
            <a:pathLst>
              <a:path w="1776" h="336">
                <a:moveTo>
                  <a:pt x="0" y="336"/>
                </a:moveTo>
                <a:lnTo>
                  <a:pt x="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0160" y="1263600"/>
            <a:ext cx="1206360" cy="195480"/>
          </a:xfrm>
          <a:custGeom>
            <a:avLst/>
            <a:gdLst/>
            <a:ahLst/>
            <a:rect l="l" t="t" r="r" b="b"/>
            <a:pathLst>
              <a:path w="760" h="123">
                <a:moveTo>
                  <a:pt x="0" y="12"/>
                </a:moveTo>
                <a:cubicBezTo>
                  <a:pt x="24" y="28"/>
                  <a:pt x="48" y="44"/>
                  <a:pt x="96" y="60"/>
                </a:cubicBezTo>
                <a:cubicBezTo>
                  <a:pt x="144" y="76"/>
                  <a:pt x="224" y="100"/>
                  <a:pt x="288" y="108"/>
                </a:cubicBezTo>
                <a:cubicBezTo>
                  <a:pt x="352" y="116"/>
                  <a:pt x="415" y="123"/>
                  <a:pt x="480" y="108"/>
                </a:cubicBezTo>
                <a:cubicBezTo>
                  <a:pt x="545" y="93"/>
                  <a:pt x="760" y="32"/>
                  <a:pt x="680" y="16"/>
                </a:cubicBezTo>
                <a:cubicBezTo>
                  <a:pt x="600" y="0"/>
                  <a:pt x="142" y="13"/>
                  <a:pt x="0" y="12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6280" y="2048040"/>
            <a:ext cx="1306440" cy="169560"/>
          </a:xfrm>
          <a:custGeom>
            <a:avLst/>
            <a:gdLst/>
            <a:ahLst/>
            <a:rect l="l" t="t" r="r" b="b"/>
            <a:pathLst>
              <a:path w="823" h="107">
                <a:moveTo>
                  <a:pt x="0" y="94"/>
                </a:moveTo>
                <a:cubicBezTo>
                  <a:pt x="15" y="87"/>
                  <a:pt x="45" y="69"/>
                  <a:pt x="92" y="54"/>
                </a:cubicBezTo>
                <a:cubicBezTo>
                  <a:pt x="139" y="39"/>
                  <a:pt x="203" y="12"/>
                  <a:pt x="284" y="6"/>
                </a:cubicBezTo>
                <a:cubicBezTo>
                  <a:pt x="365" y="0"/>
                  <a:pt x="506" y="3"/>
                  <a:pt x="580" y="18"/>
                </a:cubicBezTo>
                <a:cubicBezTo>
                  <a:pt x="654" y="33"/>
                  <a:pt x="823" y="81"/>
                  <a:pt x="728" y="94"/>
                </a:cubicBezTo>
                <a:cubicBezTo>
                  <a:pt x="633" y="107"/>
                  <a:pt x="161" y="97"/>
                  <a:pt x="12" y="98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1854360" y="367200"/>
            <a:ext cx="16754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854360" y="1892160"/>
            <a:ext cx="16754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015920" y="1816200"/>
            <a:ext cx="28951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168200" y="-12960"/>
            <a:ext cx="24372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15920" y="166356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83040" y="1701720"/>
            <a:ext cx="7452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5840" y="173988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30720" y="1701720"/>
            <a:ext cx="74520" cy="85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15520" y="1697040"/>
            <a:ext cx="439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34000" y="1716120"/>
            <a:ext cx="45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3920" y="711360"/>
            <a:ext cx="7488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0240" y="322200"/>
            <a:ext cx="45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863640" y="3123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76240" y="4876920"/>
            <a:ext cx="529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3640" y="3314880"/>
            <a:ext cx="524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63640" y="3314880"/>
            <a:ext cx="4597200" cy="1104840"/>
          </a:xfrm>
          <a:custGeom>
            <a:avLst/>
            <a:gdLst/>
            <a:ahLst/>
            <a:rect l="l" t="t" r="r" b="b"/>
            <a:pathLst>
              <a:path w="2896" h="696">
                <a:moveTo>
                  <a:pt x="0" y="0"/>
                </a:moveTo>
                <a:cubicBezTo>
                  <a:pt x="143" y="19"/>
                  <a:pt x="287" y="39"/>
                  <a:pt x="408" y="72"/>
                </a:cubicBezTo>
                <a:cubicBezTo>
                  <a:pt x="529" y="105"/>
                  <a:pt x="640" y="160"/>
                  <a:pt x="728" y="200"/>
                </a:cubicBezTo>
                <a:cubicBezTo>
                  <a:pt x="816" y="240"/>
                  <a:pt x="876" y="269"/>
                  <a:pt x="936" y="312"/>
                </a:cubicBezTo>
                <a:cubicBezTo>
                  <a:pt x="996" y="355"/>
                  <a:pt x="1039" y="408"/>
                  <a:pt x="1088" y="456"/>
                </a:cubicBezTo>
                <a:cubicBezTo>
                  <a:pt x="1137" y="504"/>
                  <a:pt x="1188" y="564"/>
                  <a:pt x="1232" y="600"/>
                </a:cubicBezTo>
                <a:cubicBezTo>
                  <a:pt x="1276" y="636"/>
                  <a:pt x="1305" y="656"/>
                  <a:pt x="1352" y="672"/>
                </a:cubicBezTo>
                <a:cubicBezTo>
                  <a:pt x="1399" y="688"/>
                  <a:pt x="1440" y="696"/>
                  <a:pt x="1512" y="696"/>
                </a:cubicBezTo>
                <a:cubicBezTo>
                  <a:pt x="1584" y="696"/>
                  <a:pt x="1665" y="684"/>
                  <a:pt x="1784" y="672"/>
                </a:cubicBezTo>
                <a:cubicBezTo>
                  <a:pt x="1903" y="660"/>
                  <a:pt x="2067" y="632"/>
                  <a:pt x="2224" y="624"/>
                </a:cubicBezTo>
                <a:cubicBezTo>
                  <a:pt x="2381" y="616"/>
                  <a:pt x="2616" y="625"/>
                  <a:pt x="2728" y="624"/>
                </a:cubicBezTo>
                <a:cubicBezTo>
                  <a:pt x="2840" y="623"/>
                  <a:pt x="2868" y="617"/>
                  <a:pt x="2896" y="616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25960" y="3797280"/>
            <a:ext cx="2222280" cy="609480"/>
          </a:xfrm>
          <a:custGeom>
            <a:avLst/>
            <a:gdLst/>
            <a:ahLst/>
            <a:rect l="l" t="t" r="r" b="b"/>
            <a:pathLst>
              <a:path w="1400" h="384">
                <a:moveTo>
                  <a:pt x="0" y="384"/>
                </a:moveTo>
                <a:cubicBezTo>
                  <a:pt x="85" y="368"/>
                  <a:pt x="171" y="352"/>
                  <a:pt x="240" y="328"/>
                </a:cubicBezTo>
                <a:cubicBezTo>
                  <a:pt x="309" y="304"/>
                  <a:pt x="364" y="271"/>
                  <a:pt x="416" y="240"/>
                </a:cubicBezTo>
                <a:cubicBezTo>
                  <a:pt x="468" y="209"/>
                  <a:pt x="508" y="171"/>
                  <a:pt x="552" y="144"/>
                </a:cubicBezTo>
                <a:cubicBezTo>
                  <a:pt x="596" y="117"/>
                  <a:pt x="621" y="101"/>
                  <a:pt x="680" y="80"/>
                </a:cubicBezTo>
                <a:cubicBezTo>
                  <a:pt x="739" y="59"/>
                  <a:pt x="828" y="28"/>
                  <a:pt x="904" y="16"/>
                </a:cubicBezTo>
                <a:cubicBezTo>
                  <a:pt x="980" y="4"/>
                  <a:pt x="1053" y="11"/>
                  <a:pt x="1136" y="8"/>
                </a:cubicBezTo>
                <a:cubicBezTo>
                  <a:pt x="1219" y="5"/>
                  <a:pt x="1356" y="1"/>
                  <a:pt x="1400" y="0"/>
                </a:cubicBezTo>
              </a:path>
            </a:pathLst>
          </a:custGeom>
          <a:noFill/>
          <a:ln w="316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289320" y="33148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82200" y="3348000"/>
            <a:ext cx="115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/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35640" y="331452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99160" y="3284640"/>
            <a:ext cx="1165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/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23040" y="38098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49920" y="3817800"/>
            <a:ext cx="145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/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429264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9480" y="4008600"/>
            <a:ext cx="75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22280" y="5038560"/>
                <a:ext cx="824220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tended Bernoulli's Equation: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e>
                        </m:rad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61800" y="2606760"/>
                <a:ext cx="1938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ρ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0T13:11:01Z</dcterms:created>
  <dc:creator>C. Shih</dc:creator>
  <dc:description/>
  <dc:language>en-US</dc:language>
  <cp:lastModifiedBy>C. Shih</cp:lastModifiedBy>
  <dcterms:modified xsi:type="dcterms:W3CDTF">1998-09-21T10:37:26Z</dcterms:modified>
  <cp:revision>7</cp:revision>
  <dc:subject/>
  <dc:title>Losses in Pipe Flow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ublic_html\eml4930\lecture-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