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.docx" ContentType="application/vnd.openxmlformats-officedocument.wordprocessingml.documen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87E2E-DF37-4AC8-A295-568E486B5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503F7-E36A-4A77-8F9E-868104243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82D57-3FA9-414A-93A5-B75F16254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C23FA-1935-49FF-8C1D-26CF5F42A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EE1DA-4163-4445-9712-286C10FD9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0FB7F-8B02-4DF0-AF63-096D779C7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F0A52-AB9B-4E8D-A65B-2ACC96EC2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96C8D-E977-4DDB-8F26-014A3AE35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531DA-A7C0-4CED-9A58-B0D570BBE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4414B-164A-4CB8-8CE3-FF0F7628F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75401-AFD5-46D2-850B-4D04ECFF7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E6021-7394-435E-ACEB-AAB22DA17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AC620-6F67-4E19-942C-8DA01F86E3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7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8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9.wmf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simplified Flow Chart for Thermal Sci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2160" y="927000"/>
            <a:ext cx="9110160" cy="4427280"/>
            <a:chOff x="2160" y="927000"/>
            <a:chExt cx="9110160" cy="4427280"/>
          </a:xfrm>
        </p:grpSpPr>
        <p:graphicFrame>
          <p:nvGraphicFramePr>
            <p:cNvPr id="43" name=""/>
            <p:cNvGraphicFramePr/>
            <p:nvPr/>
          </p:nvGraphicFramePr>
          <p:xfrm>
            <a:off x="567360" y="927000"/>
            <a:ext cx="8081280" cy="15652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67360" y="927000"/>
                      <a:ext cx="8081280" cy="1565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5" name=""/>
            <p:cNvGraphicFramePr/>
            <p:nvPr/>
          </p:nvGraphicFramePr>
          <p:xfrm>
            <a:off x="3566160" y="2662920"/>
            <a:ext cx="973800" cy="443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566160" y="2662920"/>
                      <a:ext cx="973800" cy="443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7" name=""/>
            <p:cNvGraphicFramePr/>
            <p:nvPr/>
          </p:nvGraphicFramePr>
          <p:xfrm>
            <a:off x="4547520" y="2647080"/>
            <a:ext cx="1138320" cy="4428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48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547520" y="2647080"/>
                      <a:ext cx="1138320" cy="442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9" name=""/>
            <p:cNvGraphicFramePr/>
            <p:nvPr/>
          </p:nvGraphicFramePr>
          <p:xfrm>
            <a:off x="493560" y="2662920"/>
            <a:ext cx="835200" cy="2206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50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93560" y="2662920"/>
                      <a:ext cx="835200" cy="220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1" name=""/>
            <p:cNvGraphicFramePr/>
            <p:nvPr/>
          </p:nvGraphicFramePr>
          <p:xfrm>
            <a:off x="1563840" y="2662920"/>
            <a:ext cx="864000" cy="50652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52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1563840" y="2662920"/>
                      <a:ext cx="864000" cy="506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3" name=""/>
            <p:cNvSpPr/>
            <p:nvPr/>
          </p:nvSpPr>
          <p:spPr>
            <a:xfrm>
              <a:off x="247680" y="3044520"/>
              <a:ext cx="1259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Energy Conservat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482480" y="3234960"/>
              <a:ext cx="8802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Irreversibilit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Availabilit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221920" y="3711960"/>
              <a:ext cx="0" cy="57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316880" y="4284360"/>
              <a:ext cx="345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27320" y="3234960"/>
              <a:ext cx="0" cy="104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4197240" y="3234960"/>
              <a:ext cx="0" cy="104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 flipV="1">
              <a:off x="4773600" y="3234960"/>
              <a:ext cx="0" cy="104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flipV="1">
              <a:off x="1316880" y="3711600"/>
              <a:ext cx="0" cy="57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907560" y="3426120"/>
              <a:ext cx="586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Q:he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160" y="3485520"/>
              <a:ext cx="660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W:  wor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3" name=""/>
            <p:cNvGraphicFramePr/>
            <p:nvPr/>
          </p:nvGraphicFramePr>
          <p:xfrm>
            <a:off x="5925960" y="2662920"/>
            <a:ext cx="507240" cy="44316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64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5925960" y="2662920"/>
                      <a:ext cx="507240" cy="443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5" name=""/>
            <p:cNvGraphicFramePr/>
            <p:nvPr/>
          </p:nvGraphicFramePr>
          <p:xfrm>
            <a:off x="6501960" y="2662920"/>
            <a:ext cx="1275480" cy="4906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6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6501960" y="2662920"/>
                      <a:ext cx="1275480" cy="490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7" name=""/>
            <p:cNvSpPr/>
            <p:nvPr/>
          </p:nvSpPr>
          <p:spPr>
            <a:xfrm>
              <a:off x="6584760" y="3139920"/>
              <a:ext cx="12096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Euler’s Eqn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Navier Stoke’s Eqn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8" name=""/>
            <p:cNvGraphicFramePr/>
            <p:nvPr/>
          </p:nvGraphicFramePr>
          <p:xfrm>
            <a:off x="7818840" y="2662920"/>
            <a:ext cx="1069920" cy="52452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7818840" y="2662920"/>
                      <a:ext cx="1069920" cy="524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0" name=""/>
            <p:cNvSpPr/>
            <p:nvPr/>
          </p:nvSpPr>
          <p:spPr>
            <a:xfrm>
              <a:off x="7884720" y="3120120"/>
              <a:ext cx="12276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Bernoulli’s Eq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Mech. Energy Cons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255000" y="4188600"/>
              <a:ext cx="213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V="1">
              <a:off x="6255000" y="3139560"/>
              <a:ext cx="0" cy="104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V="1">
              <a:off x="7324920" y="3616200"/>
              <a:ext cx="0" cy="57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V="1">
              <a:off x="8394840" y="3616200"/>
              <a:ext cx="0" cy="57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7324920" y="4188600"/>
              <a:ext cx="0" cy="28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>
              <a:off x="905040" y="4474800"/>
              <a:ext cx="6419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V="1">
              <a:off x="905040" y="3711960"/>
              <a:ext cx="0" cy="76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349600" y="3139920"/>
              <a:ext cx="0" cy="1334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10960" y="4834080"/>
              <a:ext cx="7960680" cy="520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Note: this is only a brief overview of thermal science.  Principles governing these physical phenomena have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een greatly simplified in order to illustrate the inter-connectivity between disciplines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80" name=""/>
            <p:cNvGraphicFramePr/>
            <p:nvPr/>
          </p:nvGraphicFramePr>
          <p:xfrm>
            <a:off x="2578680" y="2635560"/>
            <a:ext cx="850320" cy="442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578680" y="2635560"/>
                      <a:ext cx="850320" cy="442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380880" y="228600"/>
            <a:ext cx="84582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complete thermal system: Solar Power 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at received by collector due to solar i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adi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at transfer to working fluid (oil or molten salt)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nvec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nduc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-temperature fluid heats water into steam vi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at exchang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am flows through typica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modynamic cycle(s) (ex. Rankine cycle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generate electri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ycle consists of a series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ocess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ex. isentropic expansion in turbine, isentropic compression in pump, heat loss to condenser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 and energy balance will be calculated using 1st law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modynamic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mal properti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working flui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luid principl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 used to analyze flow work in pump and turbine, pressure loss in piping system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nvec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solar collecto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mal efficiency and availability calculated us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nd law of thermodynam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162240" y="2571840"/>
            <a:ext cx="3198960" cy="2158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rmal System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lar Power Pla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 Energy Power Pla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et Eng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rnal Combustion Eng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frigeration &amp; Heating Equip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rmal Bubble Inkjet Prin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lectronic Cooling Pack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110120" y="1617840"/>
            <a:ext cx="241200" cy="954000"/>
          </a:xfrm>
          <a:prstGeom prst="upArrow">
            <a:avLst>
              <a:gd name="adj1" fmla="val 50000"/>
              <a:gd name="adj2" fmla="val 9888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983120" y="1633680"/>
            <a:ext cx="214200" cy="954000"/>
          </a:xfrm>
          <a:prstGeom prst="downArrow">
            <a:avLst>
              <a:gd name="adj1" fmla="val 50000"/>
              <a:gd name="adj2" fmla="val 11134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81440" y="1054080"/>
            <a:ext cx="1695600" cy="469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ergy Excha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715000" y="428760"/>
            <a:ext cx="2568600" cy="19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lar Irradi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ssil Fuels (Chemical Energ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lectric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rmal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844800" y="5794200"/>
            <a:ext cx="1619280" cy="735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k Input and Outp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160880" y="4730760"/>
            <a:ext cx="239760" cy="954000"/>
          </a:xfrm>
          <a:prstGeom prst="upArrow">
            <a:avLst>
              <a:gd name="adj1" fmla="val 50000"/>
              <a:gd name="adj2" fmla="val 9947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033880" y="4746600"/>
            <a:ext cx="214560" cy="954000"/>
          </a:xfrm>
          <a:prstGeom prst="downArrow">
            <a:avLst>
              <a:gd name="adj1" fmla="val 50000"/>
              <a:gd name="adj2" fmla="val 11115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91240" y="5184720"/>
            <a:ext cx="3452760" cy="16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nerate Electrical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ansform into Mechanical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lectric Energy Inp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kjet Prin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61360" y="3306600"/>
            <a:ext cx="979560" cy="609840"/>
          </a:xfrm>
          <a:custGeom>
            <a:avLst/>
            <a:gdLst>
              <a:gd name="textAreaLeft" fmla="*/ 122400 w 979560"/>
              <a:gd name="textAreaRight" fmla="*/ 857160 w 979560"/>
              <a:gd name="textAreaTop" fmla="*/ 152280 h 609840"/>
              <a:gd name="textAreaBottom" fmla="*/ 457560 h 6098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2978280"/>
            <a:ext cx="2403360" cy="15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asteful Byproduc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rmal Pol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ir/Water Pol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xic Contamin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8480" y="1789200"/>
            <a:ext cx="168264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Q: Heat Transf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529000" y="5294160"/>
            <a:ext cx="121428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: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437160" y="3165480"/>
            <a:ext cx="2024280" cy="15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: Internal Energy Cha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285920" y="1806480"/>
            <a:ext cx="6638760" cy="4746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evant Issu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derstand fundamentals of thermal sci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prove efficiency of existing thermal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duce environmental pol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eenhouse effect, ozone de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vise innovative thermal technolo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rdisciplinary knowledge is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thodology used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ystem definition and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rmal properties identif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engineering princip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ss, momentum, energy conserv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rst and Second laws of Thermodynam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t transfer m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523880" y="457200"/>
            <a:ext cx="6112080" cy="1157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ergy Balance: Proces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 = Q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– W, Cycle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 = 0, Q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cycl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=W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cyc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rmal Efficiency: Power cycle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= W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/Q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frigeration cycle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= Q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/W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cyc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" name=""/>
          <p:cNvGrpSpPr/>
          <p:nvPr/>
        </p:nvGrpSpPr>
        <p:grpSpPr>
          <a:xfrm>
            <a:off x="762120" y="0"/>
            <a:ext cx="7467480" cy="6477120"/>
            <a:chOff x="762120" y="0"/>
            <a:chExt cx="7467480" cy="6477120"/>
          </a:xfrm>
        </p:grpSpPr>
        <p:grpSp>
          <p:nvGrpSpPr>
            <p:cNvPr id="100" name=""/>
            <p:cNvGrpSpPr/>
            <p:nvPr/>
          </p:nvGrpSpPr>
          <p:grpSpPr>
            <a:xfrm>
              <a:off x="1732680" y="1162800"/>
              <a:ext cx="6196680" cy="5314320"/>
              <a:chOff x="1732680" y="1162800"/>
              <a:chExt cx="6196680" cy="5314320"/>
            </a:xfrm>
          </p:grpSpPr>
          <p:sp>
            <p:nvSpPr>
              <p:cNvPr id="101" name=""/>
              <p:cNvSpPr/>
              <p:nvPr/>
            </p:nvSpPr>
            <p:spPr>
              <a:xfrm>
                <a:off x="2846520" y="2257920"/>
                <a:ext cx="2084400" cy="919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2760480" y="1162800"/>
                <a:ext cx="2227320" cy="703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Solar Collecto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2260800" y="1554840"/>
                <a:ext cx="3040920" cy="112212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2260800" y="2947680"/>
                <a:ext cx="30553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5316480" y="2961000"/>
                <a:ext cx="0" cy="1473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5400000">
                <a:off x="5139360" y="4081320"/>
                <a:ext cx="1081800" cy="1370520"/>
              </a:xfrm>
              <a:custGeom>
                <a:avLst/>
                <a:gdLst>
                  <a:gd name="textAreaLeft" fmla="*/ 237960 w 1081800"/>
                  <a:gd name="textAreaRight" fmla="*/ 843840 w 1081800"/>
                  <a:gd name="textAreaTop" fmla="*/ 301320 h 1370520"/>
                  <a:gd name="textAreaBottom" fmla="*/ 1069200 h 1370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5930280" y="5219280"/>
                <a:ext cx="0" cy="5274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4959360" y="5733360"/>
                <a:ext cx="1370520" cy="621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Condense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1732680" y="5652360"/>
                <a:ext cx="970920" cy="8247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Pump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246400" y="2947680"/>
                <a:ext cx="0" cy="27043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2717640" y="6071400"/>
                <a:ext cx="2241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H="1">
                <a:off x="6329880" y="5909040"/>
                <a:ext cx="11422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330240" y="6247080"/>
                <a:ext cx="11422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6373080" y="4651560"/>
                <a:ext cx="1027800" cy="964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7486920" y="4529880"/>
                <a:ext cx="442440" cy="392040"/>
              </a:xfrm>
              <a:custGeom>
                <a:avLst/>
                <a:gdLst>
                  <a:gd name="textAreaLeft" fmla="*/ 77400 w 442440"/>
                  <a:gd name="textAreaRight" fmla="*/ 320760 w 442440"/>
                  <a:gd name="textAreaTop" fmla="*/ 52560 h 392040"/>
                  <a:gd name="textAreaBottom" fmla="*/ 339480 h 3920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arcTo wR="7560" hR="21600" stAng="10800000" swAng="5400000"/>
                    <a:lnTo>
                      <a:pt x="11880" y="0"/>
                    </a:lnTo>
                    <a:arcTo wR="7560" hR="21600" stAng="-5400000" swAng="2682637"/>
                    <a:lnTo>
                      <a:pt x="21168" y="14400"/>
                    </a:lnTo>
                    <a:lnTo>
                      <a:pt x="17280" y="21600"/>
                    </a:lnTo>
                    <a:lnTo>
                      <a:pt x="12528" y="14400"/>
                    </a:lnTo>
                    <a:lnTo>
                      <a:pt x="14688" y="14400"/>
                    </a:lnTo>
                    <a:arcTo wR="7560" hR="21600" stAng="-2717363" swAng="-2325203"/>
                    <a:lnTo>
                      <a:pt x="9720" y="900"/>
                    </a:lnTo>
                    <a:arcTo wR="7560" hR="21600" stAng="-5757435" swAng="-5042565"/>
                    <a:close/>
                  </a:path>
                  <a:path fill="darkenLess" w="21600" h="21600">
                    <a:moveTo>
                      <a:pt x="0" y="21600"/>
                    </a:moveTo>
                    <a:arcTo wR="7560" hR="21600" stAng="10800000" swAng="5400000"/>
                    <a:lnTo>
                      <a:pt x="7560" y="0"/>
                    </a:lnTo>
                    <a:arcTo wR="7560" hR="21600" stAng="-5400000" swAng="357435"/>
                    <a:lnTo>
                      <a:pt x="9720" y="900"/>
                    </a:lnTo>
                    <a:arcTo wR="7560" hR="21600" stAng="-5757435" swAng="-5042565"/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3103200" y="2271600"/>
                <a:ext cx="1641960" cy="97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Heat Exchang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7" name=""/>
            <p:cNvSpPr/>
            <p:nvPr/>
          </p:nvSpPr>
          <p:spPr>
            <a:xfrm rot="2032200">
              <a:off x="4174200" y="243000"/>
              <a:ext cx="317520" cy="823320"/>
            </a:xfrm>
            <a:prstGeom prst="downArrow">
              <a:avLst>
                <a:gd name="adj1" fmla="val 50000"/>
                <a:gd name="adj2" fmla="val 6482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931280" y="0"/>
              <a:ext cx="1798920" cy="97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olar Irradi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90560" y="1636200"/>
              <a:ext cx="1299240" cy="97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High-tem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flui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587920" y="1703880"/>
              <a:ext cx="1299240" cy="97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Low-tem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flui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688000" y="2853000"/>
              <a:ext cx="1299240" cy="97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High-tem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tea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62120" y="2934360"/>
              <a:ext cx="1299240" cy="97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Low-temp,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ressuriz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wa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716160" y="3840120"/>
              <a:ext cx="1513440" cy="97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haft work outp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3417840" y="6071760"/>
              <a:ext cx="813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 flipV="1">
              <a:off x="2246760" y="4049280"/>
              <a:ext cx="0" cy="601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403440" y="2947680"/>
              <a:ext cx="6494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316840" y="3360240"/>
              <a:ext cx="0" cy="53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930640" y="5300640"/>
              <a:ext cx="0" cy="344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502880" y="5138280"/>
              <a:ext cx="1485000" cy="97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Mixed water &amp; vap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" name=""/>
          <p:cNvSpPr/>
          <p:nvPr/>
        </p:nvSpPr>
        <p:spPr>
          <a:xfrm>
            <a:off x="7696080" y="5715000"/>
            <a:ext cx="90180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oling wat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181120" y="4572000"/>
            <a:ext cx="98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urb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2" name=""/>
          <p:cNvGraphicFramePr/>
          <p:nvPr/>
        </p:nvGraphicFramePr>
        <p:xfrm>
          <a:off x="304920" y="685800"/>
          <a:ext cx="8839080" cy="5827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685800"/>
                    <a:ext cx="8839080" cy="582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22T17:52:40Z</dcterms:created>
  <dc:creator>C. Shih</dc:creator>
  <dc:description/>
  <dc:language>en-US</dc:language>
  <cp:lastModifiedBy>Chiang Shih</cp:lastModifiedBy>
  <cp:lastPrinted>1999-08-30T06:06:21Z</cp:lastPrinted>
  <dcterms:modified xsi:type="dcterms:W3CDTF">1999-09-07T21:07:55Z</dcterms:modified>
  <cp:revision>16</cp:revision>
  <dc:subject/>
  <dc:title>A simplified Flow Chart for Thermal Science</dc:title>
</cp:coreProperties>
</file>