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94525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94EB-0D8D-493A-89D6-5C4A15416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B102-0CB6-4B81-853A-E12C8DF7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AC95-8CE4-4593-856B-EDB009EB9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1A8D-836D-4711-B857-A3CC26BC3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04C2-7462-4EB4-BD1C-196DA2A7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69DB-6307-4F38-A213-CB539C2B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3FAA-520A-41F9-BB13-A6551A58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FF4D-9A45-4F67-9397-5EFAF7BA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1878-4EB0-4254-ACE8-5A3FBF2B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AD9F-C393-4CAA-8740-C10FDC25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DF3A-B7A6-4149-9EA3-181E70E7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1FBF-ADF3-4D4B-B7A9-225A0DDB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EA67-28B3-4F8F-AB67-47B54916C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52680" y="22860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eal Ga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9960" y="803160"/>
            <a:ext cx="8169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any gases, the ideal gas assumption is valid and the P-v-T relationship can be simplified by using the ideal gas equation of state:  Pv=RT (Compressibility factor Z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n ideal gas, it can be shown that the specific internal energy u is a function of temperature only, u=u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rdingly, specific enthalpy is a function of temperature only, since h(T)=u(T)+pv=u(T)+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ly, a gas can be considered ideal only when the intermolecular forces are weak.  This usually happens in low pressure and high temperature r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57200" y="4724280"/>
          <a:ext cx="8381880" cy="15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724280"/>
                    <a:ext cx="8381880" cy="15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7040" y="0"/>
            <a:ext cx="31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eal Gas Model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14760" y="3308400"/>
          <a:ext cx="112680" cy="2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08400"/>
                    <a:ext cx="112680" cy="2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614520" y="574560"/>
            <a:ext cx="4083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 ratio k=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295280" y="1295280"/>
          <a:ext cx="4695840" cy="235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295280"/>
                    <a:ext cx="4695840" cy="23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595080" y="5745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3886200"/>
            <a:ext cx="8397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ome cases, the temperature dependence of the specific heat can be written in polynomial form, see Table A-2, p. 8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, ideal gas tables are also available.  They are easier to use compared to the thermodynamic tables since temperature is the only parame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17680" y="270000"/>
            <a:ext cx="824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Two tanks filled with air are connected by a valve as shown.  If the valve is opened and the gases are allowed to mix while receiving heat from the surrounding.  The final temperature is 227°C.  Determine (a) the final pressure of the mixture, (b) the amount of heat transfer during the mixing process.  Assume ideal gas model is val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640" y="2957400"/>
            <a:ext cx="12952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87640" y="2957400"/>
            <a:ext cx="13716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96920" y="379584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78160" y="3567240"/>
            <a:ext cx="228600" cy="457200"/>
          </a:xfrm>
          <a:prstGeom prst="flowChartCollat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6280" y="3124080"/>
            <a:ext cx="12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, 1 k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7°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05 M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3720" y="3048120"/>
            <a:ext cx="117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, 2 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47°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02 M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61080" y="2909880"/>
            <a:ext cx="390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: little change of KE &amp; 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the initial and the final states are in equilib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8720" y="4967280"/>
            <a:ext cx="77274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table A-1,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32.5 K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3.77 M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3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.0133 for tank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Figure A-13, compressibility factor Z=1, good ideal gas assum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57200" y="812880"/>
                <a:ext cx="8381880" cy="524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R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here 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the total volume of both tank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 is the total mass of both tank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3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7</m:t>
                            </m:r>
                            <m:r>
                              <m:t xml:space="preserve">)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00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5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20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2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P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The heat transfer can be found from the energy balance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W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57200" y="838080"/>
                <a:ext cx="8077320" cy="29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vg</m:t>
                            </m:r>
                            <m:r>
                              <m:t xml:space="preserve">,</m:t>
                            </m:r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vg</m:t>
                            </m:r>
                            <m:r>
                              <m:t xml:space="preserve">,</m:t>
                            </m:r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e eq 3-46, 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112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vg</m:t>
                            </m:r>
                            <m:r>
                              <m:t xml:space="preserve">,</m:t>
                            </m:r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6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4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gK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 be found using averaged 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table A-2 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844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vg</m:t>
                            </m:r>
                            <m:r>
                              <m:t xml:space="preserve">,</m:t>
                            </m:r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2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J/kg K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since 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0-40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4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0-52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6T14:02:53Z</dcterms:created>
  <dc:creator>C. Shih</dc:creator>
  <dc:description/>
  <dc:language>en-US</dc:language>
  <cp:lastModifiedBy>Chiang Shih</cp:lastModifiedBy>
  <cp:lastPrinted>1999-10-07T21:51:42Z</cp:lastPrinted>
  <dcterms:modified xsi:type="dcterms:W3CDTF">1999-10-13T16:18:04Z</dcterms:modified>
  <cp:revision>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E:\public_html\eml3015\lecture notes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