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png" ContentType="image/pn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41A-C621-4779-8CF2-6C850EAA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14F6-B9F4-4B06-9D2C-2F3013F5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7A0D-45DB-4C5E-A984-5DE4F53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2489-DDC5-43BB-BE90-8343D9CB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6B4-BEBF-4779-B743-B546DA3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2E6-9F35-4E76-A299-9BA258D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745-F6A6-44B3-BAD7-0ADDA92E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3C19-5AE2-4F03-BAFE-38549DB8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32C-7637-44AC-8008-7348F0F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C90B-107B-4B52-B913-7B29658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E8B-8AB9-470B-AAF7-CA6FF62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07C-1C19-4609-8B57-D75836EA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F7B5-2267-4484-8C5F-FEA3AE5B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ar Collector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465200" y="0"/>
            <a:ext cx="3886200" cy="3352680"/>
            <a:chOff x="1465200" y="0"/>
            <a:chExt cx="3886200" cy="3352680"/>
          </a:xfrm>
        </p:grpSpPr>
        <p:sp>
          <p:nvSpPr>
            <p:cNvPr id="43" name=""/>
            <p:cNvSpPr/>
            <p:nvPr/>
          </p:nvSpPr>
          <p:spPr>
            <a:xfrm>
              <a:off x="1465200" y="0"/>
              <a:ext cx="3886200" cy="3352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1520" y="15238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84520" y="1523880"/>
              <a:ext cx="30456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79800" y="1523880"/>
              <a:ext cx="304920" cy="304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324120" y="160020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or 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 wide, W=1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257800" y="16761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704640" y="3808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tu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028840" y="609480"/>
            <a:ext cx="1600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3809880"/>
            <a:ext cx="5333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3920" y="32767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2767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27672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951440" y="2649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40280" y="3968640"/>
            <a:ext cx="232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25000" y="37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6120" y="4110120"/>
            <a:ext cx="532764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200" y="4316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17880" y="2805120"/>
            <a:ext cx="210960" cy="669960"/>
          </a:xfrm>
          <a:prstGeom prst="downArrow">
            <a:avLst>
              <a:gd name="adj1" fmla="val 50000"/>
              <a:gd name="adj2" fmla="val 793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7440" y="2341440"/>
            <a:ext cx="32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adiation heat transf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60880" y="2270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4280" y="5075280"/>
            <a:ext cx="8594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hat will be the temperature distribution of the plate, T(x), if there is a constant radiation heat flux q” coming in.  For simplicity, assume the temperature immediately below the water tube is constant, T(x=L)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75200" y="433872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92840" y="433872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75200" y="4497480"/>
            <a:ext cx="91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76480" y="46162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L=0.1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17640" y="1711440"/>
            <a:ext cx="722160" cy="652320"/>
          </a:xfrm>
          <a:prstGeom prst="line">
            <a:avLst/>
          </a:prstGeom>
          <a:ln w="190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398760" y="1704960"/>
            <a:ext cx="722520" cy="652320"/>
          </a:xfrm>
          <a:prstGeom prst="line">
            <a:avLst/>
          </a:prstGeom>
          <a:ln w="1908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093760" y="1670040"/>
            <a:ext cx="722520" cy="652320"/>
          </a:xfrm>
          <a:prstGeom prst="line">
            <a:avLst/>
          </a:prstGeom>
          <a:ln w="19080">
            <a:solidFill>
              <a:srgbClr val="cccc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803160"/>
            <a:ext cx="9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838080"/>
          <a:ext cx="8628120" cy="545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862812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Distribution on th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685800"/>
          <a:ext cx="640080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640080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-76320" y="1523880"/>
          <a:ext cx="5105520" cy="377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1523880"/>
                    <a:ext cx="510552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410080" y="2514600"/>
            <a:ext cx="3505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2743200"/>
            <a:ext cx="3505320" cy="15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58200" y="22096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562720" y="2971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44956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4872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924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229600" y="3505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7315200" y="3505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562720" y="3200400"/>
            <a:ext cx="3352680" cy="685800"/>
            <a:chOff x="5562720" y="3200400"/>
            <a:chExt cx="3352680" cy="685800"/>
          </a:xfrm>
        </p:grpSpPr>
        <p:sp>
          <p:nvSpPr>
            <p:cNvPr id="92" name=""/>
            <p:cNvSpPr/>
            <p:nvPr/>
          </p:nvSpPr>
          <p:spPr>
            <a:xfrm>
              <a:off x="5867280" y="3200400"/>
              <a:ext cx="1365480" cy="685800"/>
            </a:xfrm>
            <a:custGeom>
              <a:avLst/>
              <a:gdLst/>
              <a:ahLst/>
              <a:rect l="l" t="t" r="r" b="b"/>
              <a:pathLst>
                <a:path w="860" h="432">
                  <a:moveTo>
                    <a:pt x="0" y="432"/>
                  </a:moveTo>
                  <a:cubicBezTo>
                    <a:pt x="32" y="380"/>
                    <a:pt x="121" y="189"/>
                    <a:pt x="193" y="117"/>
                  </a:cubicBezTo>
                  <a:cubicBezTo>
                    <a:pt x="265" y="45"/>
                    <a:pt x="351" y="0"/>
                    <a:pt x="432" y="0"/>
                  </a:cubicBezTo>
                  <a:cubicBezTo>
                    <a:pt x="513" y="0"/>
                    <a:pt x="611" y="48"/>
                    <a:pt x="682" y="117"/>
                  </a:cubicBezTo>
                  <a:cubicBezTo>
                    <a:pt x="753" y="186"/>
                    <a:pt x="823" y="355"/>
                    <a:pt x="860" y="4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3200400"/>
              <a:ext cx="1365480" cy="685800"/>
            </a:xfrm>
            <a:custGeom>
              <a:avLst/>
              <a:gdLst/>
              <a:ahLst/>
              <a:rect l="l" t="t" r="r" b="b"/>
              <a:pathLst>
                <a:path w="860" h="432">
                  <a:moveTo>
                    <a:pt x="0" y="432"/>
                  </a:moveTo>
                  <a:cubicBezTo>
                    <a:pt x="32" y="380"/>
                    <a:pt x="121" y="189"/>
                    <a:pt x="193" y="117"/>
                  </a:cubicBezTo>
                  <a:cubicBezTo>
                    <a:pt x="265" y="45"/>
                    <a:pt x="351" y="0"/>
                    <a:pt x="432" y="0"/>
                  </a:cubicBezTo>
                  <a:cubicBezTo>
                    <a:pt x="513" y="0"/>
                    <a:pt x="611" y="48"/>
                    <a:pt x="682" y="117"/>
                  </a:cubicBezTo>
                  <a:cubicBezTo>
                    <a:pt x="753" y="186"/>
                    <a:pt x="823" y="355"/>
                    <a:pt x="860" y="41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2720" y="3352680"/>
              <a:ext cx="304560" cy="533520"/>
            </a:xfrm>
            <a:custGeom>
              <a:avLst/>
              <a:gdLst/>
              <a:ahLst/>
              <a:rect l="l" t="t" r="r" b="b"/>
              <a:pathLst>
                <a:path w="192" h="336">
                  <a:moveTo>
                    <a:pt x="192" y="336"/>
                  </a:moveTo>
                  <a:cubicBezTo>
                    <a:pt x="160" y="268"/>
                    <a:pt x="128" y="200"/>
                    <a:pt x="96" y="144"/>
                  </a:cubicBezTo>
                  <a:cubicBezTo>
                    <a:pt x="64" y="88"/>
                    <a:pt x="32" y="4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10480" y="3429000"/>
              <a:ext cx="304920" cy="457200"/>
            </a:xfrm>
            <a:custGeom>
              <a:avLst/>
              <a:gdLst/>
              <a:ahLst/>
              <a:rect l="l" t="t" r="r" b="b"/>
              <a:pathLst>
                <a:path w="192" h="288">
                  <a:moveTo>
                    <a:pt x="0" y="288"/>
                  </a:moveTo>
                  <a:cubicBezTo>
                    <a:pt x="32" y="216"/>
                    <a:pt x="64" y="144"/>
                    <a:pt x="96" y="96"/>
                  </a:cubicBezTo>
                  <a:cubicBezTo>
                    <a:pt x="128" y="48"/>
                    <a:pt x="160" y="24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7266600" y="358128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65160" y="362268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43200" y="5562720"/>
          <a:ext cx="3124080" cy="907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5562720"/>
                    <a:ext cx="312408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781680" y="35053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52200" y="3581280"/>
            <a:ext cx="67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 to the T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85920" y="762120"/>
          <a:ext cx="8300880" cy="31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762120"/>
                    <a:ext cx="8300880" cy="31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33520" y="5257800"/>
            <a:ext cx="21333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791320"/>
            <a:ext cx="213336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876920"/>
            <a:ext cx="60984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572000"/>
            <a:ext cx="6098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44956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5760" y="4114800"/>
            <a:ext cx="297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b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emperature of 4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89240" y="4665600"/>
            <a:ext cx="434880" cy="4921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9760" y="3892680"/>
            <a:ext cx="304596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ub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140/[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)(T-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11.5(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2-cm radius p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 incoming 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of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520" y="410544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, 20°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3520" y="4568760"/>
            <a:ext cx="37152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Distribution in Flow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52440" y="1322280"/>
            <a:ext cx="516888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74840" y="1322280"/>
            <a:ext cx="600120" cy="389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2520" y="15159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16440" y="149868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52440" y="1711440"/>
            <a:ext cx="5168880" cy="24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03440" y="1515960"/>
            <a:ext cx="193680" cy="354240"/>
          </a:xfrm>
          <a:prstGeom prst="upArrow">
            <a:avLst>
              <a:gd name="adj1" fmla="val 50000"/>
              <a:gd name="adj2" fmla="val 457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3880" y="1515960"/>
            <a:ext cx="91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0840" y="1246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19120" y="685800"/>
          <a:ext cx="154476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9120" y="685800"/>
                    <a:ext cx="15447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95600" y="465120"/>
          <a:ext cx="5295960" cy="7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5600" y="465120"/>
                    <a:ext cx="529596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3296880" y="2058840"/>
            <a:ext cx="57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ssume constant heat flux q” into the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63520" y="2584440"/>
          <a:ext cx="7386840" cy="388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2584440"/>
                    <a:ext cx="738684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0880" y="-36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Distribution in Flow Direction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80920" y="685800"/>
          <a:ext cx="3078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685800"/>
                    <a:ext cx="3078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774320" y="577800"/>
            <a:ext cx="41202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”=h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2230 (W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0.02 (m), dm/dt=0.05 (kg/s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4200(J/kg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9560" y="1793880"/>
            <a:ext cx="404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)=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+0.212z=20+0.212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2552760"/>
          <a:ext cx="490212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552760"/>
                    <a:ext cx="490212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25960" y="2835360"/>
            <a:ext cx="4118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 increases linearly.  It increases 0.212°C for every 1 m increase in length.  The temperature increase in water can be significant if the tube length is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e distribution in flow direction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2880" y="771480"/>
            <a:ext cx="808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ssume h(convection heat transfer coefficient) is constant; q” is not a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9360" y="1743120"/>
          <a:ext cx="439236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743120"/>
                    <a:ext cx="439236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292640" y="1212840"/>
          <a:ext cx="4851360" cy="35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2640" y="1212840"/>
                    <a:ext cx="4851360" cy="35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5464080" y="4722840"/>
            <a:ext cx="367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water temperature increases, both the heat transfer and the rate of temperature change decrease al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00:34:57Z</dcterms:created>
  <dc:creator>C. Shih</dc:creator>
  <dc:description/>
  <dc:language>en-US</dc:language>
  <cp:lastModifiedBy>Chiang Shih</cp:lastModifiedBy>
  <dcterms:modified xsi:type="dcterms:W3CDTF">1999-11-15T21:45:01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