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BB01-7129-4BA3-AD1A-B527EAABF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F20E-0426-4F12-885C-8E9589CFA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858D-AF39-449A-8A38-A23CAA4D8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3FA6-B401-4F75-9E9E-A20834F7B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01C1-52AA-4037-BFA0-DB26FD812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A1E2-3A61-4428-BC7A-FA6E0F538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5687-2443-41B1-8C08-8C3F5DC9C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805A-4503-4918-9579-C834B69C4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486D-B81A-4522-8FD6-65F6ACAA9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846B-DB0E-48A2-9DC6-9097550B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C6DA-327B-4EE7-AD28-9ABA20A2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553A-0985-4320-9BAF-8D67AA14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2C914-CFFE-4C2F-8CEC-46BD0EF7BF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06040" y="228600"/>
            <a:ext cx="22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nal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762120"/>
            <a:ext cx="8474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=U(internal energy)+KE(kinetic energy)+PE(potential energ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sive property since it depends on the mass of the system, U=mu, where m is the mass of the system, u is the specific energy of the system (an intensive property like temperature and press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like KE &amp; PE, the internal energy is a form of energy measured on a molecular scale.  It can consist of different modes: translational kinetic energy of individual molecules, rotational energy and vibrational energies associated with molecules, and intermolecular forces between molecules.  The sum of all these molecular-level energies is called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nal energ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 energy is a property of the substance, thus, its change in value between two states is independent of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1448280" y="4494960"/>
            <a:ext cx="304704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2971800" y="5410080"/>
            <a:ext cx="304704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95480" y="6248520"/>
            <a:ext cx="7632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5334120"/>
            <a:ext cx="7596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47920" y="6137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710240" y="507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708080" y="5881680"/>
            <a:ext cx="120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36640" y="5272200"/>
            <a:ext cx="119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895480" y="548640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4191120" y="5943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07480" y="15228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thal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685800"/>
            <a:ext cx="8321400" cy="46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=U+PV, defined as total enthal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=mh, h=u+Pv, specific enthalpy will be an intensiv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an important property in many situations, for example, the steady flow process, h=u+P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measure of the combined internal energy and the press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also useful when one considers phase transition:  Example: when liquid water vaporizes into water vapor, its internal energy changes from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At the same time, itsa specific volume also changes from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going through an expansion process; and it does work.  Therefore, the total combined change of the energy will be from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p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Their difference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called the latent heat of vaporization at the given temperature/pressu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743200" y="51811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200" y="64771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95480" y="5283360"/>
            <a:ext cx="1524240" cy="1041120"/>
          </a:xfrm>
          <a:custGeom>
            <a:avLst/>
            <a:gdLst/>
            <a:ahLst/>
            <a:rect l="l" t="t" r="r" b="b"/>
            <a:pathLst>
              <a:path w="960" h="656">
                <a:moveTo>
                  <a:pt x="0" y="656"/>
                </a:moveTo>
                <a:cubicBezTo>
                  <a:pt x="36" y="572"/>
                  <a:pt x="72" y="488"/>
                  <a:pt x="96" y="416"/>
                </a:cubicBezTo>
                <a:cubicBezTo>
                  <a:pt x="120" y="344"/>
                  <a:pt x="120" y="288"/>
                  <a:pt x="144" y="224"/>
                </a:cubicBezTo>
                <a:cubicBezTo>
                  <a:pt x="168" y="160"/>
                  <a:pt x="208" y="64"/>
                  <a:pt x="240" y="32"/>
                </a:cubicBezTo>
                <a:cubicBezTo>
                  <a:pt x="272" y="0"/>
                  <a:pt x="304" y="16"/>
                  <a:pt x="336" y="32"/>
                </a:cubicBezTo>
                <a:cubicBezTo>
                  <a:pt x="368" y="48"/>
                  <a:pt x="392" y="88"/>
                  <a:pt x="432" y="128"/>
                </a:cubicBezTo>
                <a:cubicBezTo>
                  <a:pt x="472" y="168"/>
                  <a:pt x="520" y="216"/>
                  <a:pt x="576" y="272"/>
                </a:cubicBezTo>
                <a:cubicBezTo>
                  <a:pt x="632" y="328"/>
                  <a:pt x="704" y="408"/>
                  <a:pt x="768" y="464"/>
                </a:cubicBezTo>
                <a:cubicBezTo>
                  <a:pt x="832" y="520"/>
                  <a:pt x="928" y="584"/>
                  <a:pt x="960" y="6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71960" y="50436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785840" y="6338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819520" y="571464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5715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809880" y="53341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36600" y="5805360"/>
            <a:ext cx="35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62520" y="5562720"/>
            <a:ext cx="393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3123720" y="571464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809520" y="556272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5715000"/>
            <a:ext cx="2403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tent heat=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f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580200" y="228600"/>
            <a:ext cx="202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ecific He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7680" y="803160"/>
            <a:ext cx="8169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ate of a pure, compressible substance can be determined by values of two thermodynamic properties.  Ex: P=P(v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=u(T,v): internal energy is a function of two variables T and v (or any other two independent properties such as P, 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ternal energy can be varied by altering these two propert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62120" y="2971800"/>
          <a:ext cx="7432560" cy="78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971800"/>
                    <a:ext cx="7432560" cy="7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517680" y="3622680"/>
            <a:ext cx="83977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constant-volume specific heat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can sometimes be considered as heat capacity, the ability of a substance to absorb or store ener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ly, the enthalpy can be describ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888840" y="5105520"/>
          <a:ext cx="7596360" cy="86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88840" y="5105520"/>
                    <a:ext cx="759636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533520" y="6019920"/>
            <a:ext cx="532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constant-pressure specific heat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954160" y="193680"/>
            <a:ext cx="293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ecific Heats 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69960" y="803160"/>
            <a:ext cx="824544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considered as heat capacities but under different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ratio k(specific heat ratio) k=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lso a property of the subst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ases: incompressible fluid (density and v is a consta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295280" y="2895480"/>
          <a:ext cx="6894720" cy="358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895480"/>
                    <a:ext cx="6894720" cy="35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6T11:54:34Z</dcterms:created>
  <dc:creator>C. Shih</dc:creator>
  <dc:description/>
  <dc:language>en-US</dc:language>
  <cp:lastModifiedBy>Chiang Shih</cp:lastModifiedBy>
  <dcterms:modified xsi:type="dcterms:W3CDTF">1999-10-07T21:36:42Z</dcterms:modified>
  <cp:revision>8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E:\public_html\eml3015\lecture notes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