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886-C6A6-4CF4-8E41-2CCB0DD2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26DC-83B0-486F-A5F1-952D09AE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961-74D5-479B-9485-C1ED6A89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9C9-D002-4159-B643-633B8A5B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E3D-261C-4BE1-AA97-AAA445AF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7C2-40B7-4F27-83D4-328A3A6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256-7CC6-497B-AE77-5202D0A5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7C8-D3FD-4350-8482-33373552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079-0D09-4BD4-ACAD-896EF784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94E-D6B7-4EAB-83A2-3465A16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9B4-7B35-4DAE-BA0D-2E452C1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AFC-4D26-4A25-A7CF-30D405E5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6A6-D9E5-42BF-B3AB-9329F22F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 Transfer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012680"/>
            <a:ext cx="9144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914400" y="533520"/>
          <a:ext cx="7315200" cy="55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731520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01320" y="457200"/>
            <a:ext cx="43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wo-tube-pass, one shell-pa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-and-tube heat exchang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nser, evaporator, feedwa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er, steam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76640" y="4267080"/>
            <a:ext cx="416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ube-pass flows is in the same as the shell-pass: parallel flow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ond one flows in the opposite direction to the shell-pass: counter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22360"/>
            <a:ext cx="5334120" cy="2873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543480" y="3657600"/>
            <a:ext cx="5600520" cy="3200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68580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st furnace: air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into the furnace to maintain temp. that is higher than 800°C.  Melting iron flows into lad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440" y="3774960"/>
            <a:ext cx="3444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casting can be achieved by cooling the molten iron in a convey system.  Precise temperature control is critical to the quality of the final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(4) Weather Conv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581280" cy="290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886200" cy="3345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733920" y="11430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time: sea breeze coming to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nd as a result of natu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0400" y="4994280"/>
            <a:ext cx="40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ght time: wind blowing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to sea because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 con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22:33:46Z</dcterms:created>
  <dc:creator>C. Shih</dc:creator>
  <dc:description/>
  <dc:language>en-US</dc:language>
  <cp:lastModifiedBy>Chiang Shih</cp:lastModifiedBy>
  <dcterms:modified xsi:type="dcterms:W3CDTF">1999-09-07T20:56:25Z</dcterms:modified>
  <cp:revision>4</cp:revision>
  <dc:subject/>
  <dc:title>Heat Transfer Examples</dc:title>
</cp:coreProperties>
</file>