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5F84-311F-4B8F-AEE8-504196E3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257F-3445-436B-97F1-189C7697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333-ECC2-402D-B663-02E30B0F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6B1-0F35-49D7-AC49-CFE6F2983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4D2B-7A82-47CC-9ABA-B77823BB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3390-FD7C-4690-A81B-DA663CB8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B2D2-B307-4EA9-8B09-463BF73E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3786-7EFB-46CD-97AA-BBB5BC62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C7A1-20EB-45DB-BBEA-DD3B6AD8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50C2-4328-47E9-A282-1BB64782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D60E-34EE-4416-9BB8-D805D670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91C4-48A9-4556-AC51-2AA50DEA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BCC8-CC2F-4432-B5FE-4FD181044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Conservation (Bernoulli’s Equ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14960" y="1219320"/>
                <a:ext cx="320832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VdV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g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587160" y="1336680"/>
            <a:ext cx="36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uler’s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742320" y="2300400"/>
            <a:ext cx="22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’s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886200" y="2057400"/>
                <a:ext cx="38098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1433880" y="3200400"/>
            <a:ext cx="60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w work + kinetic energy + potential energy =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4267080"/>
            <a:ext cx="1143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434340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9160" y="3809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20040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1840" y="4267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828800" y="3962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971800" y="3962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038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10760" y="3651120"/>
            <a:ext cx="4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12600" y="3733920"/>
            <a:ext cx="548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 the action of the pressure, the fluid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s a distanc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within tim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ork done per unit tim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(flow power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676520" y="5029200"/>
                <a:ext cx="60958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W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A</m:t>
                            </m:r>
                            <m:r>
                              <m:t xml:space="preserve">Δx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ρ</m:t>
                                </m:r>
                              </m:den>
                            </m:f>
                          </m:e>
                        </m:d>
                        <m:r>
                          <m:t xml:space="preserve">ρA</m:t>
                        </m:r>
                        <m:f>
                          <m:num>
                            <m:r>
                              <m:t xml:space="preserve">Δx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</m:num>
                              <m:den>
                                <m:r>
                                  <m:t xml:space="preserve">ρ</m:t>
                                </m:r>
                              </m:den>
                            </m:f>
                          </m:e>
                        </m:d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ρ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AV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W</m:t>
                                </m:r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work done per unit mass flow rat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1371600" y="3200400"/>
            <a:ext cx="1295280" cy="380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743200" y="2743200"/>
            <a:ext cx="1066680" cy="3808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2133720"/>
            <a:ext cx="533520" cy="9144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23960" y="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Conservation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454560" y="1333440"/>
            <a:ext cx="2171520" cy="100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02000" y="1752480"/>
            <a:ext cx="1104840" cy="241560"/>
          </a:xfrm>
          <a:prstGeom prst="rightArrow">
            <a:avLst>
              <a:gd name="adj1" fmla="val 50000"/>
              <a:gd name="adj2" fmla="val 1143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77720" y="857160"/>
          <a:ext cx="262260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857160"/>
                    <a:ext cx="26226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724360" y="920880"/>
          <a:ext cx="2721240" cy="81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920880"/>
                    <a:ext cx="272124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5562720" y="1765440"/>
            <a:ext cx="1104840" cy="241200"/>
          </a:xfrm>
          <a:prstGeom prst="rightArrow">
            <a:avLst>
              <a:gd name="adj1" fmla="val 50000"/>
              <a:gd name="adj2" fmla="val 1145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13280" y="1015920"/>
            <a:ext cx="152280" cy="52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19320" y="560520"/>
            <a:ext cx="18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t in q=dQ/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78440" y="2158920"/>
            <a:ext cx="596880" cy="49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670000" y="2389320"/>
            <a:ext cx="18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 out dW/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028880" y="3048120"/>
          <a:ext cx="7010280" cy="320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28880" y="3048120"/>
                    <a:ext cx="701028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Conservation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7240" y="636480"/>
            <a:ext cx="827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Superheated water vapor is entering the steam turbine with a ma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w rate of 1 kg/s and exhausting as saturated steamas shown.  Heat loss f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urbine is 10 kW under the following operating condition.  Determine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output of the turb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257120" y="3441600"/>
            <a:ext cx="1600200" cy="1231920"/>
          </a:xfrm>
          <a:custGeom>
            <a:avLst/>
            <a:gdLst>
              <a:gd name="textAreaLeft" fmla="*/ 351720 w 1600200"/>
              <a:gd name="textAreaRight" fmla="*/ 1248480 w 1600200"/>
              <a:gd name="textAreaTop" fmla="*/ 270720 h 1231920"/>
              <a:gd name="textAreaBottom" fmla="*/ 961200 h 12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650960" y="2641680"/>
            <a:ext cx="0" cy="93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438280" y="478800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66880" y="3987720"/>
            <a:ext cx="1117800" cy="177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95280" y="3238560"/>
            <a:ext cx="1575000" cy="1663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86680" y="1868400"/>
            <a:ext cx="1316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=1.4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=35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=80 m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=10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7840" y="5119560"/>
            <a:ext cx="2416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=0.5 M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% saturated s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=50 m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=5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 rot="12786000">
            <a:off x="786240" y="3568680"/>
            <a:ext cx="939960" cy="177840"/>
          </a:xfrm>
          <a:prstGeom prst="leftArrow">
            <a:avLst>
              <a:gd name="adj1" fmla="val 50000"/>
              <a:gd name="adj2" fmla="val 1321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7640" y="29098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k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50160" y="1792440"/>
            <a:ext cx="3353760" cy="74556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superheated vapor tab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3149.5 kJ/k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1930320"/>
            <a:ext cx="1231920" cy="59688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174840" y="2057040"/>
            <a:ext cx="1054440" cy="1652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480" y="5143680"/>
            <a:ext cx="2425680" cy="66024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67520" y="6237360"/>
            <a:ext cx="4848480" cy="44064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saturated steam table: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748.7 k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70280" y="5803920"/>
            <a:ext cx="406440" cy="39384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3263760" y="2727360"/>
          <a:ext cx="5602320" cy="32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3760" y="2727360"/>
                    <a:ext cx="5602320" cy="32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Conservation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80880" y="685800"/>
                <a:ext cx="83152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where </m:t>
                    </m:r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g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nergy per unit weigh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1123920" y="1676520"/>
            <a:ext cx="707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valid for incompressible fluid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ady flow along a streamlin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energy loss due to friction, no heat transf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3280" y="252900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3124080"/>
            <a:ext cx="1905120" cy="2210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4800600"/>
            <a:ext cx="3049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880" y="5105520"/>
            <a:ext cx="456480" cy="15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819880" y="4647240"/>
            <a:ext cx="45648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3429000"/>
            <a:ext cx="1905120" cy="1905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312408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53341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31240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51055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49528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84000" y="2438280"/>
            <a:ext cx="5776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the velocity and mass flow rate of efflu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the circular hole (0.1 m dia.) at the bottom of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ter tank (at this instant).  The tank is open to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mosph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H=4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3429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1440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8640" y="3809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1904760" y="1904400"/>
            <a:ext cx="2285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14040" y="3062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5160" y="5105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44560" y="3733920"/>
            <a:ext cx="1515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038480" y="4343400"/>
                <a:ext cx="3738600" cy="21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e>
                        </m:rad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∗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∗</m:t>
                            </m:r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∗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Equation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7520" y="879480"/>
            <a:ext cx="80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If the tank has a cross-sectional area of 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stim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me required to drain the tank to level 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676520"/>
            <a:ext cx="1905120" cy="2209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3352680"/>
            <a:ext cx="3049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560" y="3657600"/>
            <a:ext cx="45648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743560" y="3200040"/>
            <a:ext cx="456480" cy="15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1981080"/>
            <a:ext cx="1905120" cy="1905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16765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38862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1676520"/>
            <a:ext cx="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6576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5053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981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838080" y="19810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3623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1828440" y="456120"/>
            <a:ext cx="2285280" cy="304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37720" y="1614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0" y="3657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1905120"/>
            <a:ext cx="1752480" cy="16761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17480" y="1676520"/>
            <a:ext cx="491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, choose the control volume as enclo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the dotted line.  Specify h=h(t) as the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el as a function of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886200" y="3124080"/>
          <a:ext cx="4952880" cy="292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3124080"/>
                    <a:ext cx="4952880" cy="29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304920" y="4038480"/>
            <a:ext cx="3122280" cy="2576520"/>
            <a:chOff x="304920" y="4038480"/>
            <a:chExt cx="3122280" cy="2576520"/>
          </a:xfrm>
        </p:grpSpPr>
        <p:sp>
          <p:nvSpPr>
            <p:cNvPr id="112" name=""/>
            <p:cNvSpPr/>
            <p:nvPr/>
          </p:nvSpPr>
          <p:spPr>
            <a:xfrm>
              <a:off x="1021680" y="4115520"/>
              <a:ext cx="1800" cy="121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21680" y="5833080"/>
              <a:ext cx="1800" cy="123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50840" y="60181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83920" y="4115520"/>
              <a:ext cx="1800" cy="121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83920" y="5833080"/>
              <a:ext cx="1800" cy="123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38920" y="601812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63080" y="4115520"/>
              <a:ext cx="1800" cy="121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63080" y="5833080"/>
              <a:ext cx="1800" cy="123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18080" y="601812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25680" y="4115520"/>
              <a:ext cx="1800" cy="121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25680" y="5833080"/>
              <a:ext cx="1800" cy="123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79960" y="601812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03400" y="4115520"/>
              <a:ext cx="1440" cy="121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03400" y="5833080"/>
              <a:ext cx="1440" cy="123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57680" y="6018120"/>
              <a:ext cx="14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80760" y="4115520"/>
              <a:ext cx="1800" cy="1213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80760" y="5833080"/>
              <a:ext cx="1800" cy="123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87080" y="601812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21680" y="5956560"/>
              <a:ext cx="119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62320" y="5956560"/>
              <a:ext cx="1180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85960" y="58798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21680" y="5496840"/>
              <a:ext cx="119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62320" y="5496840"/>
              <a:ext cx="1180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85960" y="5419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21680" y="5034960"/>
              <a:ext cx="1198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62320" y="5034960"/>
              <a:ext cx="118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85960" y="4959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21680" y="4575240"/>
              <a:ext cx="119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62320" y="4575240"/>
              <a:ext cx="1180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85960" y="4498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1680" y="4115520"/>
              <a:ext cx="1198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62320" y="4115520"/>
              <a:ext cx="1180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85960" y="40384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1680" y="4115520"/>
              <a:ext cx="2358720" cy="1841040"/>
            </a:xfrm>
            <a:custGeom>
              <a:avLst/>
              <a:gdLst/>
              <a:ahLst/>
              <a:rect l="l" t="t" r="r" b="b"/>
              <a:pathLst>
                <a:path w="1418" h="1077">
                  <a:moveTo>
                    <a:pt x="0" y="0"/>
                  </a:moveTo>
                  <a:lnTo>
                    <a:pt x="18" y="27"/>
                  </a:lnTo>
                  <a:lnTo>
                    <a:pt x="27" y="45"/>
                  </a:lnTo>
                  <a:lnTo>
                    <a:pt x="45" y="71"/>
                  </a:lnTo>
                  <a:lnTo>
                    <a:pt x="54" y="89"/>
                  </a:lnTo>
                  <a:lnTo>
                    <a:pt x="72" y="116"/>
                  </a:lnTo>
                  <a:lnTo>
                    <a:pt x="81" y="134"/>
                  </a:lnTo>
                  <a:lnTo>
                    <a:pt x="99" y="152"/>
                  </a:lnTo>
                  <a:lnTo>
                    <a:pt x="117" y="179"/>
                  </a:lnTo>
                  <a:lnTo>
                    <a:pt x="126" y="197"/>
                  </a:lnTo>
                  <a:lnTo>
                    <a:pt x="144" y="215"/>
                  </a:lnTo>
                  <a:lnTo>
                    <a:pt x="153" y="242"/>
                  </a:lnTo>
                  <a:lnTo>
                    <a:pt x="171" y="260"/>
                  </a:lnTo>
                  <a:lnTo>
                    <a:pt x="189" y="278"/>
                  </a:lnTo>
                  <a:lnTo>
                    <a:pt x="197" y="296"/>
                  </a:lnTo>
                  <a:lnTo>
                    <a:pt x="215" y="323"/>
                  </a:lnTo>
                  <a:lnTo>
                    <a:pt x="224" y="341"/>
                  </a:lnTo>
                  <a:lnTo>
                    <a:pt x="242" y="359"/>
                  </a:lnTo>
                  <a:lnTo>
                    <a:pt x="251" y="377"/>
                  </a:lnTo>
                  <a:lnTo>
                    <a:pt x="269" y="395"/>
                  </a:lnTo>
                  <a:lnTo>
                    <a:pt x="287" y="413"/>
                  </a:lnTo>
                  <a:lnTo>
                    <a:pt x="296" y="431"/>
                  </a:lnTo>
                  <a:lnTo>
                    <a:pt x="314" y="449"/>
                  </a:lnTo>
                  <a:lnTo>
                    <a:pt x="323" y="467"/>
                  </a:lnTo>
                  <a:lnTo>
                    <a:pt x="341" y="484"/>
                  </a:lnTo>
                  <a:lnTo>
                    <a:pt x="359" y="502"/>
                  </a:lnTo>
                  <a:lnTo>
                    <a:pt x="368" y="520"/>
                  </a:lnTo>
                  <a:lnTo>
                    <a:pt x="386" y="538"/>
                  </a:lnTo>
                  <a:lnTo>
                    <a:pt x="395" y="547"/>
                  </a:lnTo>
                  <a:lnTo>
                    <a:pt x="413" y="565"/>
                  </a:lnTo>
                  <a:lnTo>
                    <a:pt x="422" y="583"/>
                  </a:lnTo>
                  <a:lnTo>
                    <a:pt x="440" y="601"/>
                  </a:lnTo>
                  <a:lnTo>
                    <a:pt x="458" y="610"/>
                  </a:lnTo>
                  <a:lnTo>
                    <a:pt x="467" y="628"/>
                  </a:lnTo>
                  <a:lnTo>
                    <a:pt x="485" y="646"/>
                  </a:lnTo>
                  <a:lnTo>
                    <a:pt x="494" y="655"/>
                  </a:lnTo>
                  <a:lnTo>
                    <a:pt x="512" y="673"/>
                  </a:lnTo>
                  <a:lnTo>
                    <a:pt x="521" y="682"/>
                  </a:lnTo>
                  <a:lnTo>
                    <a:pt x="539" y="700"/>
                  </a:lnTo>
                  <a:lnTo>
                    <a:pt x="557" y="718"/>
                  </a:lnTo>
                  <a:lnTo>
                    <a:pt x="566" y="727"/>
                  </a:lnTo>
                  <a:lnTo>
                    <a:pt x="583" y="736"/>
                  </a:lnTo>
                  <a:lnTo>
                    <a:pt x="592" y="754"/>
                  </a:lnTo>
                  <a:lnTo>
                    <a:pt x="610" y="763"/>
                  </a:lnTo>
                  <a:lnTo>
                    <a:pt x="628" y="781"/>
                  </a:lnTo>
                  <a:lnTo>
                    <a:pt x="637" y="790"/>
                  </a:lnTo>
                  <a:lnTo>
                    <a:pt x="655" y="799"/>
                  </a:lnTo>
                  <a:lnTo>
                    <a:pt x="664" y="817"/>
                  </a:lnTo>
                  <a:lnTo>
                    <a:pt x="682" y="826"/>
                  </a:lnTo>
                  <a:lnTo>
                    <a:pt x="691" y="835"/>
                  </a:lnTo>
                  <a:lnTo>
                    <a:pt x="709" y="844"/>
                  </a:lnTo>
                  <a:lnTo>
                    <a:pt x="727" y="862"/>
                  </a:lnTo>
                  <a:lnTo>
                    <a:pt x="736" y="871"/>
                  </a:lnTo>
                  <a:lnTo>
                    <a:pt x="754" y="880"/>
                  </a:lnTo>
                  <a:lnTo>
                    <a:pt x="763" y="889"/>
                  </a:lnTo>
                  <a:lnTo>
                    <a:pt x="781" y="897"/>
                  </a:lnTo>
                  <a:lnTo>
                    <a:pt x="790" y="906"/>
                  </a:lnTo>
                  <a:lnTo>
                    <a:pt x="808" y="915"/>
                  </a:lnTo>
                  <a:lnTo>
                    <a:pt x="826" y="924"/>
                  </a:lnTo>
                  <a:lnTo>
                    <a:pt x="835" y="933"/>
                  </a:lnTo>
                  <a:lnTo>
                    <a:pt x="853" y="942"/>
                  </a:lnTo>
                  <a:lnTo>
                    <a:pt x="862" y="951"/>
                  </a:lnTo>
                  <a:lnTo>
                    <a:pt x="880" y="960"/>
                  </a:lnTo>
                  <a:lnTo>
                    <a:pt x="898" y="960"/>
                  </a:lnTo>
                  <a:lnTo>
                    <a:pt x="907" y="969"/>
                  </a:lnTo>
                  <a:lnTo>
                    <a:pt x="925" y="978"/>
                  </a:lnTo>
                  <a:lnTo>
                    <a:pt x="934" y="987"/>
                  </a:lnTo>
                  <a:lnTo>
                    <a:pt x="952" y="996"/>
                  </a:lnTo>
                  <a:lnTo>
                    <a:pt x="961" y="996"/>
                  </a:lnTo>
                  <a:lnTo>
                    <a:pt x="978" y="1005"/>
                  </a:lnTo>
                  <a:lnTo>
                    <a:pt x="996" y="1014"/>
                  </a:lnTo>
                  <a:lnTo>
                    <a:pt x="1005" y="1014"/>
                  </a:lnTo>
                  <a:lnTo>
                    <a:pt x="1023" y="1023"/>
                  </a:lnTo>
                  <a:lnTo>
                    <a:pt x="1032" y="1023"/>
                  </a:lnTo>
                  <a:lnTo>
                    <a:pt x="1050" y="1032"/>
                  </a:lnTo>
                  <a:lnTo>
                    <a:pt x="1068" y="1032"/>
                  </a:lnTo>
                  <a:lnTo>
                    <a:pt x="1077" y="1041"/>
                  </a:lnTo>
                  <a:lnTo>
                    <a:pt x="1095" y="1041"/>
                  </a:lnTo>
                  <a:lnTo>
                    <a:pt x="1104" y="1050"/>
                  </a:lnTo>
                  <a:lnTo>
                    <a:pt x="1122" y="1050"/>
                  </a:lnTo>
                  <a:lnTo>
                    <a:pt x="1131" y="1059"/>
                  </a:lnTo>
                  <a:lnTo>
                    <a:pt x="1149" y="1059"/>
                  </a:lnTo>
                  <a:lnTo>
                    <a:pt x="1167" y="1059"/>
                  </a:lnTo>
                  <a:lnTo>
                    <a:pt x="1176" y="1068"/>
                  </a:lnTo>
                  <a:lnTo>
                    <a:pt x="1194" y="1068"/>
                  </a:lnTo>
                  <a:lnTo>
                    <a:pt x="1203" y="1068"/>
                  </a:lnTo>
                  <a:lnTo>
                    <a:pt x="1221" y="1068"/>
                  </a:lnTo>
                  <a:lnTo>
                    <a:pt x="1230" y="1068"/>
                  </a:lnTo>
                  <a:lnTo>
                    <a:pt x="1248" y="1077"/>
                  </a:lnTo>
                  <a:lnTo>
                    <a:pt x="1266" y="1077"/>
                  </a:lnTo>
                  <a:lnTo>
                    <a:pt x="1275" y="1077"/>
                  </a:lnTo>
                  <a:lnTo>
                    <a:pt x="1293" y="1077"/>
                  </a:lnTo>
                  <a:lnTo>
                    <a:pt x="1302" y="1077"/>
                  </a:lnTo>
                  <a:lnTo>
                    <a:pt x="1320" y="1077"/>
                  </a:lnTo>
                  <a:lnTo>
                    <a:pt x="1338" y="1077"/>
                  </a:lnTo>
                  <a:lnTo>
                    <a:pt x="1347" y="1077"/>
                  </a:lnTo>
                  <a:lnTo>
                    <a:pt x="1365" y="1077"/>
                  </a:lnTo>
                  <a:lnTo>
                    <a:pt x="1373" y="1077"/>
                  </a:lnTo>
                  <a:lnTo>
                    <a:pt x="1391" y="1077"/>
                  </a:lnTo>
                  <a:lnTo>
                    <a:pt x="1400" y="1077"/>
                  </a:lnTo>
                  <a:lnTo>
                    <a:pt x="1418" y="1068"/>
                  </a:lnTo>
                </a:path>
              </a:pathLst>
            </a:custGeom>
            <a:noFill/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9320" y="5173560"/>
              <a:ext cx="222840" cy="180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21680" y="4115520"/>
              <a:ext cx="2358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80760" y="4115520"/>
              <a:ext cx="1800" cy="1841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021680" y="5956560"/>
              <a:ext cx="235872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1021680" y="4115520"/>
              <a:ext cx="1800" cy="1841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97920" y="6447240"/>
              <a:ext cx="596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ime (sec.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6200000">
              <a:off x="-80640" y="4940280"/>
              <a:ext cx="939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water height (m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1560" y="41133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2040" y="4282920"/>
              <a:ext cx="29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752040" y="4251960"/>
              <a:ext cx="144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57160" y="4282920"/>
              <a:ext cx="29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886680" y="4251960"/>
              <a:ext cx="180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2640" y="5802480"/>
              <a:ext cx="49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.5e-00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4920" y="5972040"/>
              <a:ext cx="29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04920" y="5941080"/>
              <a:ext cx="144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57160" y="5972040"/>
              <a:ext cx="29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886680" y="5941080"/>
              <a:ext cx="180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8600" y="49428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2400" y="49428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5600" y="49428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5120" y="49428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71960" y="627804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42800" y="6447240"/>
              <a:ext cx="29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142800" y="6416280"/>
              <a:ext cx="144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95520" y="6447240"/>
              <a:ext cx="29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425400" y="6416280"/>
              <a:ext cx="180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21320" y="62780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91800" y="6447240"/>
              <a:ext cx="29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991800" y="6416280"/>
              <a:ext cx="144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96560" y="6447240"/>
              <a:ext cx="29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126440" y="6416280"/>
              <a:ext cx="1800" cy="30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85200" y="62780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conservation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8960" y="776160"/>
            <a:ext cx="30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ized energy concep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1600200"/>
            <a:ext cx="2438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20574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057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85800" y="1371600"/>
                <a:ext cx="15969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248520" y="1295280"/>
                <a:ext cx="169992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793400" y="609480"/>
            <a:ext cx="26067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y added,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x. pump, compress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571640" y="1066680"/>
            <a:ext cx="1522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2520" y="2743200"/>
            <a:ext cx="24897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y extracted,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x. turbine, windmi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580920" y="236232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09640" y="2681280"/>
            <a:ext cx="3312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y loss,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x. friction, valve, expan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236232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43200" y="3962520"/>
            <a:ext cx="3962520" cy="2361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09680" y="4572000"/>
            <a:ext cx="990720" cy="99072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6171840" y="4495680"/>
            <a:ext cx="1218960" cy="1066680"/>
          </a:xfrm>
          <a:custGeom>
            <a:avLst/>
            <a:gdLst>
              <a:gd name="textAreaLeft" fmla="*/ 267840 w 1218960"/>
              <a:gd name="textAreaRight" fmla="*/ 951120 w 1218960"/>
              <a:gd name="textAreaTop" fmla="*/ 234360 h 1066680"/>
              <a:gd name="textAreaBottom" fmla="*/ 832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3760" y="48006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r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3657600"/>
            <a:ext cx="1752840" cy="6094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t excha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6019920"/>
            <a:ext cx="1524240" cy="609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en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3276360" y="3809880"/>
            <a:ext cx="304920" cy="304560"/>
          </a:xfrm>
          <a:prstGeom prst="flowChartCollat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162920" y="4343400"/>
            <a:ext cx="5331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4495680"/>
            <a:ext cx="114300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2209680" y="350532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629400" y="6095880"/>
            <a:ext cx="6858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905120" y="60199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763400" y="3900600"/>
            <a:ext cx="398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7160" y="3900600"/>
            <a:ext cx="415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2160" y="5410080"/>
            <a:ext cx="1737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friction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 pi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45240" y="5638680"/>
            <a:ext cx="13053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ss 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b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15840" y="2895480"/>
            <a:ext cx="13053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ss 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conservation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04920" y="609480"/>
                <a:ext cx="851364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tended Bernoulli's equation, 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280440" y="1523880"/>
            <a:ext cx="859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: Determine the efficiency of the pump if the power input of the mo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measured to be 1.5 hp.  It is known that the pump delivers 300 gal/min of wa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52480" y="2590920"/>
            <a:ext cx="106704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97180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297180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2" idx="2"/>
          </p:cNvCxnSpPr>
          <p:nvPr/>
        </p:nvCxnSpPr>
        <p:spPr>
          <a:xfrm flipH="1" rot="16200000">
            <a:off x="1580040" y="2723760"/>
            <a:ext cx="1524600" cy="2477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5" name=""/>
          <p:cNvSpPr/>
          <p:nvPr/>
        </p:nvSpPr>
        <p:spPr>
          <a:xfrm flipV="1">
            <a:off x="3581280" y="32000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371600" y="32004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3200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56840" y="32004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57200" y="2971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4495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352680" y="32004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2971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04840" y="365760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5268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5740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3657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0" y="3657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69800" y="367200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=15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3124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57440" y="3033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400560" y="3099960"/>
            <a:ext cx="99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1920" y="2571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90400" y="2567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5120" y="4821120"/>
            <a:ext cx="28324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rcury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844.9 lb/f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ter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62.4 lb/f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hp=550 lb-ft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54440" y="2225520"/>
            <a:ext cx="204804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, 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1000" y="2198520"/>
            <a:ext cx="15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-in dia. pi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5360" y="2590920"/>
            <a:ext cx="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4560" y="219852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-in dia.pi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76640" y="2603520"/>
            <a:ext cx="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20040" y="2770200"/>
            <a:ext cx="34282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=300 gal/min=0.667 f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s=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Q/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3.33 ft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Q/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7.54 ft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986280" y="3840120"/>
          <a:ext cx="410364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6280" y="3840120"/>
                    <a:ext cx="410364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3363840" y="5013360"/>
          <a:ext cx="4857840" cy="14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3840" y="5013360"/>
                    <a:ext cx="485784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635040" y="367020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825480" y="3098880"/>
            <a:ext cx="0" cy="55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7120" y="3176640"/>
            <a:ext cx="36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98800" y="3759120"/>
            <a:ext cx="2781360" cy="368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909720" y="4444560"/>
            <a:ext cx="258840" cy="40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conservation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1840" y="70020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(co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932120" y="1235160"/>
          <a:ext cx="5821200" cy="22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2120" y="1235160"/>
                    <a:ext cx="5821200" cy="22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1892160" y="1181160"/>
            <a:ext cx="2552760" cy="3934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879560" y="3657600"/>
          <a:ext cx="4927680" cy="288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79560" y="3657600"/>
                    <a:ext cx="4927680" cy="28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11360" y="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ctional losses in pip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79360" y="539640"/>
                <a:ext cx="8513640" cy="16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tended Bernoulli's equation, 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Δp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rictional head los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1193760" y="2273400"/>
            <a:ext cx="3924360" cy="266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9480" y="18558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95000" y="22366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4600" y="2311560"/>
            <a:ext cx="495360" cy="164880"/>
          </a:xfrm>
          <a:prstGeom prst="rightArrow">
            <a:avLst>
              <a:gd name="adj1" fmla="val 50000"/>
              <a:gd name="adj2" fmla="val 751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70400" y="2311560"/>
            <a:ext cx="495360" cy="164880"/>
          </a:xfrm>
          <a:prstGeom prst="rightArrow">
            <a:avLst>
              <a:gd name="adj1" fmla="val 50000"/>
              <a:gd name="adj2" fmla="val 751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77960" y="2146320"/>
            <a:ext cx="774720" cy="53352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1040" y="3036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2880" y="2757600"/>
            <a:ext cx="571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a laminar,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fully develop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ircular pipe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28880" y="4241880"/>
            <a:ext cx="698400" cy="317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231560" y="406404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231920" y="472428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8400" y="441972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727280" y="441972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7200" y="42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56040" y="4179960"/>
            <a:ext cx="7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+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60560" y="3665520"/>
            <a:ext cx="39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060720" y="3294000"/>
          <a:ext cx="5694480" cy="32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0720" y="3294000"/>
                    <a:ext cx="5694480" cy="32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687240" y="5816520"/>
          <a:ext cx="230220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240" y="5816520"/>
                    <a:ext cx="230220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882720" y="5081760"/>
            <a:ext cx="20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rcy’s Equ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36800" y="2122560"/>
            <a:ext cx="2444040" cy="105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: radius, D: di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: pipe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wall shear 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" name=""/>
          <p:cNvGraphicFramePr/>
          <p:nvPr/>
        </p:nvGraphicFramePr>
        <p:xfrm>
          <a:off x="615960" y="611280"/>
          <a:ext cx="8221680" cy="57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611280"/>
                    <a:ext cx="822168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747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y Conservation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2640" y="687240"/>
            <a:ext cx="855504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=U(internal thermal energy)+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me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mechanical energ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U+KE(kinetic energy)+PE(potential energ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W=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x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xternal work)+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l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low wo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Q heat transfer via conduction, convection &amp; ra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=dQ-dW, dQ&gt;0 net heat transfer in dE&gt;0 energy increase and vice 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W&gt;0, does positive work at the expense of decreasing energy, dE&lt;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=mu, u(internal energy per unit mass), KE=(1/2)m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E=mg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l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m(p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289" name=""/>
          <p:cNvGraphicFramePr/>
          <p:nvPr/>
        </p:nvGraphicFramePr>
        <p:xfrm>
          <a:off x="204840" y="4049640"/>
          <a:ext cx="863748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40" y="4049640"/>
                    <a:ext cx="863748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807120" y="6033960"/>
            <a:ext cx="740736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ir difference is due to external heat transfer and work done on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2T16:08:52Z</dcterms:created>
  <dc:creator>C. Shih</dc:creator>
  <dc:description/>
  <dc:language>en-US</dc:language>
  <cp:lastModifiedBy>C. Shih</cp:lastModifiedBy>
  <dcterms:modified xsi:type="dcterms:W3CDTF">1998-09-29T10:21:24Z</dcterms:modified>
  <cp:revision>32</cp:revision>
  <dc:subject/>
  <dc:title>Energy Conservation (Bernoulli’s Equation)</dc:title>
</cp:coreProperties>
</file>