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D7A-60C3-4F1E-AF91-8EC5A177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324-1071-4FEB-A03A-0CF850FF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E27-B25A-4D33-931A-5D958893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A0F-793F-4D9C-B292-39D3BCAF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E8B3-E474-4416-B13D-CFAA301B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BF7-0EDD-41D2-8E17-2E0A37C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853-92CE-4783-B0E7-C175A576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FDFA-C25C-47EE-91BE-892B1DF3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CD1-31F5-4B19-A67C-1CA6711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A0F-3E67-4CDD-9A5E-5D6D5369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4F1-55DE-4F2A-AF9E-5F858E7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874-3FCA-4B2D-8B18-B21BB9A8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1EFC-CA77-40D0-9097-1253AEC10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2120" y="190440"/>
          <a:ext cx="769608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440"/>
                    <a:ext cx="76960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03480" y="574560"/>
            <a:ext cx="7635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A Deep Spac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enon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cting Ionized Xenon to generate propulsion - Xenon ion can travel at 65,000 m.p.h.  It is estimated that it can produce thrust equivalent of the weight of a piece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 push for 300 days to reach 6,000 m.p.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ource: solar energy through focusing lens and solar cell pa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23:23:58Z</dcterms:created>
  <dc:creator>C. Shih</dc:creator>
  <dc:description/>
  <dc:language>en-US</dc:language>
  <cp:lastModifiedBy>C. Shih</cp:lastModifiedBy>
  <dcterms:modified xsi:type="dcterms:W3CDTF">1998-10-06T23:34:02Z</dcterms:modified>
  <cp:revision>1</cp:revision>
  <dc:subject/>
  <dc:title>No Slide Title</dc:title>
</cp:coreProperties>
</file>