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EC3-8507-45A2-A5DA-BA90CF0E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82A-668A-427E-A0EB-9C297B0F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04E0-3882-45C3-8765-3894267FE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9B23-3333-4522-938B-47092C28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B7F-95F9-40D2-A2D5-BACB1A7B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2D3-2663-4B9A-A609-DA32D34F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275F-5676-4A9B-9009-7EC71600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8450-4C11-4CA4-B869-A752937F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D178-ADF8-48B0-A60F-F8E38E26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FE9-43B4-49BA-9143-CAF6C44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FBB-9925-45B2-ACA3-BFBB714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6A3-BFD8-470A-9D7B-AF49CE2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3674-4763-4B54-820F-946D65368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9760" y="1008000"/>
            <a:ext cx="2889360" cy="1506600"/>
          </a:xfrm>
          <a:custGeom>
            <a:avLst/>
            <a:gdLst/>
            <a:ahLst/>
            <a:rect l="l" t="t" r="r" b="b"/>
            <a:pathLst>
              <a:path w="1488" h="816">
                <a:moveTo>
                  <a:pt x="0" y="192"/>
                </a:moveTo>
                <a:lnTo>
                  <a:pt x="384" y="192"/>
                </a:lnTo>
                <a:lnTo>
                  <a:pt x="384" y="816"/>
                </a:lnTo>
                <a:lnTo>
                  <a:pt x="720" y="816"/>
                </a:lnTo>
                <a:lnTo>
                  <a:pt x="720" y="192"/>
                </a:lnTo>
                <a:lnTo>
                  <a:pt x="1056" y="192"/>
                </a:lnTo>
                <a:lnTo>
                  <a:pt x="1064" y="808"/>
                </a:lnTo>
                <a:lnTo>
                  <a:pt x="1488" y="816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1000080"/>
            <a:ext cx="3122640" cy="1698840"/>
          </a:xfrm>
          <a:custGeom>
            <a:avLst/>
            <a:gdLst/>
            <a:ahLst/>
            <a:rect l="l" t="t" r="r" b="b"/>
            <a:pathLst>
              <a:path w="1608" h="920">
                <a:moveTo>
                  <a:pt x="0" y="292"/>
                </a:moveTo>
                <a:lnTo>
                  <a:pt x="260" y="292"/>
                </a:lnTo>
                <a:lnTo>
                  <a:pt x="260" y="920"/>
                </a:lnTo>
                <a:lnTo>
                  <a:pt x="820" y="920"/>
                </a:lnTo>
                <a:lnTo>
                  <a:pt x="820" y="292"/>
                </a:lnTo>
                <a:lnTo>
                  <a:pt x="952" y="292"/>
                </a:lnTo>
                <a:lnTo>
                  <a:pt x="952" y="908"/>
                </a:lnTo>
                <a:lnTo>
                  <a:pt x="1608" y="912"/>
                </a:lnTo>
                <a:lnTo>
                  <a:pt x="16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6560" y="1362240"/>
            <a:ext cx="203400" cy="442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03680" y="1355760"/>
            <a:ext cx="655560" cy="19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59080" y="1355760"/>
            <a:ext cx="220680" cy="133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7920" y="2498760"/>
            <a:ext cx="1284480" cy="200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9120" y="2189160"/>
            <a:ext cx="233280" cy="509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3800" y="520560"/>
            <a:ext cx="754200" cy="487440"/>
          </a:xfrm>
          <a:custGeom>
            <a:avLst/>
            <a:gdLst/>
            <a:ahLst/>
            <a:rect l="l" t="t" r="r" b="b"/>
            <a:pathLst>
              <a:path w="388" h="264">
                <a:moveTo>
                  <a:pt x="136" y="264"/>
                </a:moveTo>
                <a:lnTo>
                  <a:pt x="0" y="264"/>
                </a:lnTo>
                <a:lnTo>
                  <a:pt x="0" y="4"/>
                </a:lnTo>
                <a:lnTo>
                  <a:pt x="388" y="0"/>
                </a:lnTo>
                <a:lnTo>
                  <a:pt x="388" y="264"/>
                </a:lnTo>
                <a:lnTo>
                  <a:pt x="256" y="2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6960" y="1111320"/>
            <a:ext cx="448920" cy="604800"/>
          </a:xfrm>
          <a:custGeom>
            <a:avLst/>
            <a:gdLst/>
            <a:ahLst/>
            <a:rect l="l" t="t" r="r" b="b"/>
            <a:pathLst>
              <a:path w="232" h="328">
                <a:moveTo>
                  <a:pt x="228" y="232"/>
                </a:moveTo>
                <a:lnTo>
                  <a:pt x="228" y="328"/>
                </a:lnTo>
                <a:lnTo>
                  <a:pt x="0" y="328"/>
                </a:lnTo>
                <a:lnTo>
                  <a:pt x="0" y="0"/>
                </a:lnTo>
                <a:lnTo>
                  <a:pt x="228" y="0"/>
                </a:lnTo>
                <a:lnTo>
                  <a:pt x="232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0680" y="1406520"/>
            <a:ext cx="92160" cy="9684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61040" y="698400"/>
            <a:ext cx="90360" cy="954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320" y="14652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7280" y="261792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465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09760" y="14508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09760" y="179856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8840" y="144612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16280" y="219708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2684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35440" y="220032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94320" y="7430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8880" y="7430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9280" y="10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24440" y="49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1765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81960" y="9144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9800" y="2793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0840" y="15238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7480" y="507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99960" y="26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648320" y="533520"/>
            <a:ext cx="31752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307880" y="851040"/>
            <a:ext cx="88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8080" y="3808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25960" y="736560"/>
            <a:ext cx="63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78080" y="368280"/>
            <a:ext cx="32331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1: Given: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 kP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 kPa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ater)=10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ensity of the fl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27200" y="3338640"/>
          <a:ext cx="7818480" cy="315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7200" y="3338640"/>
                    <a:ext cx="78184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522440" y="173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2800" y="181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79840" y="1625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82600" y="210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4680" y="171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816200" y="18540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30600" y="1803240"/>
            <a:ext cx="1778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365640" y="1802880"/>
            <a:ext cx="26640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0400" y="2209320"/>
            <a:ext cx="16524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44920" y="1930320"/>
            <a:ext cx="2793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19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4280" y="419040"/>
            <a:ext cx="85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2: Calculate the force acting on the underwater gate as shown below.  The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quare-shaped with 2 m on each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7720" y="1295280"/>
            <a:ext cx="812880" cy="106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035160"/>
            <a:ext cx="81288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17720" y="2349360"/>
            <a:ext cx="74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06440" y="15494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2760" y="161280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0560" y="1689120"/>
            <a:ext cx="1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523520" y="2349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76520" y="1549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666880"/>
            <a:ext cx="622440" cy="112680"/>
          </a:xfrm>
          <a:prstGeom prst="rightArrow">
            <a:avLst>
              <a:gd name="adj1" fmla="val 50000"/>
              <a:gd name="adj2" fmla="val 1380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6204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9320" y="167652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8600" y="229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104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8440" y="30607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086280" y="2374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8120" y="18414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m x 2m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920" y="1028880"/>
            <a:ext cx="63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0360" y="2489040"/>
            <a:ext cx="63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49600" y="3054240"/>
          <a:ext cx="4883040" cy="33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9600" y="3054240"/>
                    <a:ext cx="488304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160" y="368280"/>
            <a:ext cx="88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3: A solid cube made up of an unknown material X, with 1 m on each side,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in water with 0.5 m above the water surface.  (a) Determine the density of the material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If the cube is placed in a different fluid Y, it floats with 0.2 m above the liquid surf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ensity of the fluid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8840" y="1994040"/>
            <a:ext cx="119412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0560" y="2527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8600" y="25779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9360" y="265428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5240" y="1981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87520" y="19810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4680" y="20192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34680" y="1994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5040" y="3085920"/>
            <a:ext cx="177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9160" y="19940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880" y="19684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360" y="199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240" y="4203720"/>
            <a:ext cx="119376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45086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55940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6760" y="463536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2037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74920" y="41911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2080" y="4000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080" y="4203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2440" y="5295600"/>
            <a:ext cx="177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6560" y="420372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2200" y="4140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9080" y="2577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2080" y="48769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11760" y="2220840"/>
          <a:ext cx="50162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2220840"/>
                    <a:ext cx="50162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8320" y="254160"/>
            <a:ext cx="86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4: Neglecting all losses, determine (a) the mass flow rate of the discharge at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;  (b) how time rate of decreasing of the oil level at this instant; © how long will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 to drain the water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ater)=10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il)=9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4280" y="1549440"/>
            <a:ext cx="1517400" cy="1600200"/>
          </a:xfrm>
          <a:custGeom>
            <a:avLst/>
            <a:gdLst/>
            <a:ahLst/>
            <a:rect l="l" t="t" r="r" b="b"/>
            <a:pathLst>
              <a:path w="956" h="1008">
                <a:moveTo>
                  <a:pt x="0" y="0"/>
                </a:moveTo>
                <a:lnTo>
                  <a:pt x="0" y="1008"/>
                </a:lnTo>
                <a:lnTo>
                  <a:pt x="956" y="10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4040" y="1504800"/>
            <a:ext cx="88920" cy="1479600"/>
          </a:xfrm>
          <a:custGeom>
            <a:avLst/>
            <a:gdLst/>
            <a:ahLst/>
            <a:rect l="l" t="t" r="r" b="b"/>
            <a:pathLst>
              <a:path w="56" h="932">
                <a:moveTo>
                  <a:pt x="56" y="932"/>
                </a:move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0400" y="2368440"/>
            <a:ext cx="1390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1631880"/>
            <a:ext cx="137808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990880"/>
            <a:ext cx="1018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0760" y="3009960"/>
            <a:ext cx="273240" cy="108000"/>
          </a:xfrm>
          <a:prstGeom prst="rightArrow">
            <a:avLst>
              <a:gd name="adj1" fmla="val 50000"/>
              <a:gd name="adj2" fmla="val 6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44800" y="315612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280656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0160" y="3365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m dia. Circular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98440" y="2394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5480" y="30542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1440" y="16257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25160" y="2387520"/>
            <a:ext cx="6120" cy="66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5520" y="162576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" y="17208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5124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" y="142236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9000" y="11937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lar tan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. 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44880" y="1141560"/>
          <a:ext cx="425628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4880" y="1141560"/>
                    <a:ext cx="425628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98320" y="3986280"/>
          <a:ext cx="7794720" cy="338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8320" y="3986280"/>
                    <a:ext cx="77947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0480" y="393840"/>
            <a:ext cx="86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5: A mercury U-tube is used to measure the pressure difference between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and B.  The specific gravity of mercury is 13.54.  Determine the mercury height h in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-tube if the velocity at A is 8 m/s.  Neglect viscous eff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99200" y="1538640"/>
            <a:ext cx="4009320" cy="2445480"/>
            <a:chOff x="799200" y="1538640"/>
            <a:chExt cx="4009320" cy="2445480"/>
          </a:xfrm>
        </p:grpSpPr>
        <p:sp>
          <p:nvSpPr>
            <p:cNvPr id="163" name=""/>
            <p:cNvSpPr/>
            <p:nvPr/>
          </p:nvSpPr>
          <p:spPr>
            <a:xfrm rot="1204200">
              <a:off x="1063080" y="2174400"/>
              <a:ext cx="3784320" cy="441360"/>
            </a:xfrm>
            <a:custGeom>
              <a:avLst/>
              <a:gdLst/>
              <a:ahLst/>
              <a:rect l="l" t="t" r="r" b="b"/>
              <a:pathLst>
                <a:path w="2384" h="278">
                  <a:moveTo>
                    <a:pt x="0" y="16"/>
                  </a:moveTo>
                  <a:cubicBezTo>
                    <a:pt x="227" y="20"/>
                    <a:pt x="338" y="2"/>
                    <a:pt x="540" y="24"/>
                  </a:cubicBezTo>
                  <a:cubicBezTo>
                    <a:pt x="608" y="24"/>
                    <a:pt x="664" y="63"/>
                    <a:pt x="716" y="80"/>
                  </a:cubicBezTo>
                  <a:cubicBezTo>
                    <a:pt x="744" y="101"/>
                    <a:pt x="824" y="154"/>
                    <a:pt x="856" y="164"/>
                  </a:cubicBezTo>
                  <a:cubicBezTo>
                    <a:pt x="906" y="214"/>
                    <a:pt x="941" y="230"/>
                    <a:pt x="1008" y="252"/>
                  </a:cubicBezTo>
                  <a:cubicBezTo>
                    <a:pt x="1042" y="263"/>
                    <a:pt x="1200" y="272"/>
                    <a:pt x="1200" y="272"/>
                  </a:cubicBezTo>
                  <a:cubicBezTo>
                    <a:pt x="1364" y="276"/>
                    <a:pt x="1211" y="278"/>
                    <a:pt x="1312" y="264"/>
                  </a:cubicBezTo>
                  <a:cubicBezTo>
                    <a:pt x="1341" y="249"/>
                    <a:pt x="1418" y="212"/>
                    <a:pt x="1446" y="196"/>
                  </a:cubicBezTo>
                  <a:cubicBezTo>
                    <a:pt x="1474" y="180"/>
                    <a:pt x="1495" y="158"/>
                    <a:pt x="1526" y="148"/>
                  </a:cubicBezTo>
                  <a:cubicBezTo>
                    <a:pt x="1675" y="38"/>
                    <a:pt x="1872" y="8"/>
                    <a:pt x="2052" y="0"/>
                  </a:cubicBezTo>
                  <a:cubicBezTo>
                    <a:pt x="2300" y="9"/>
                    <a:pt x="2315" y="10"/>
                    <a:pt x="2384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203600">
              <a:off x="795600" y="2980800"/>
              <a:ext cx="3784680" cy="365040"/>
            </a:xfrm>
            <a:custGeom>
              <a:avLst/>
              <a:gdLst/>
              <a:ahLst/>
              <a:rect l="l" t="t" r="r" b="b"/>
              <a:pathLst>
                <a:path w="2384" h="278">
                  <a:moveTo>
                    <a:pt x="0" y="16"/>
                  </a:moveTo>
                  <a:cubicBezTo>
                    <a:pt x="227" y="20"/>
                    <a:pt x="338" y="2"/>
                    <a:pt x="540" y="24"/>
                  </a:cubicBezTo>
                  <a:cubicBezTo>
                    <a:pt x="608" y="24"/>
                    <a:pt x="664" y="63"/>
                    <a:pt x="716" y="80"/>
                  </a:cubicBezTo>
                  <a:cubicBezTo>
                    <a:pt x="744" y="101"/>
                    <a:pt x="824" y="154"/>
                    <a:pt x="856" y="164"/>
                  </a:cubicBezTo>
                  <a:cubicBezTo>
                    <a:pt x="906" y="214"/>
                    <a:pt x="941" y="230"/>
                    <a:pt x="1008" y="252"/>
                  </a:cubicBezTo>
                  <a:cubicBezTo>
                    <a:pt x="1042" y="263"/>
                    <a:pt x="1200" y="272"/>
                    <a:pt x="1200" y="272"/>
                  </a:cubicBezTo>
                  <a:cubicBezTo>
                    <a:pt x="1364" y="276"/>
                    <a:pt x="1211" y="278"/>
                    <a:pt x="1312" y="264"/>
                  </a:cubicBezTo>
                  <a:cubicBezTo>
                    <a:pt x="1341" y="249"/>
                    <a:pt x="1418" y="212"/>
                    <a:pt x="1446" y="196"/>
                  </a:cubicBezTo>
                  <a:cubicBezTo>
                    <a:pt x="1474" y="180"/>
                    <a:pt x="1495" y="158"/>
                    <a:pt x="1526" y="148"/>
                  </a:cubicBezTo>
                  <a:cubicBezTo>
                    <a:pt x="1675" y="38"/>
                    <a:pt x="1872" y="8"/>
                    <a:pt x="2052" y="0"/>
                  </a:cubicBezTo>
                  <a:cubicBezTo>
                    <a:pt x="2300" y="9"/>
                    <a:pt x="2315" y="10"/>
                    <a:pt x="2384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9200" y="2062080"/>
              <a:ext cx="3924360" cy="143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09760" y="2870280"/>
            <a:ext cx="1400040" cy="2057400"/>
          </a:xfrm>
          <a:custGeom>
            <a:avLst/>
            <a:gdLst/>
            <a:ahLst/>
            <a:rect l="l" t="t" r="r" b="b"/>
            <a:pathLst>
              <a:path w="882" h="1296">
                <a:moveTo>
                  <a:pt x="0" y="0"/>
                </a:moveTo>
                <a:lnTo>
                  <a:pt x="0" y="1296"/>
                </a:lnTo>
                <a:lnTo>
                  <a:pt x="882" y="1288"/>
                </a:lnTo>
                <a:lnTo>
                  <a:pt x="882" y="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5760" y="2946240"/>
            <a:ext cx="984240" cy="1791000"/>
          </a:xfrm>
          <a:custGeom>
            <a:avLst/>
            <a:gdLst/>
            <a:ahLst/>
            <a:rect l="l" t="t" r="r" b="b"/>
            <a:pathLst>
              <a:path w="620" h="1128">
                <a:moveTo>
                  <a:pt x="0" y="0"/>
                </a:moveTo>
                <a:lnTo>
                  <a:pt x="0" y="1128"/>
                </a:lnTo>
                <a:lnTo>
                  <a:pt x="620" y="1128"/>
                </a:lnTo>
                <a:lnTo>
                  <a:pt x="620" y="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15880" y="280044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9360" y="2908440"/>
            <a:ext cx="1713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22600" y="3790800"/>
            <a:ext cx="177840" cy="112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6680" y="4743360"/>
            <a:ext cx="1054080" cy="171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2360" y="4400640"/>
            <a:ext cx="190440" cy="514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60520" y="2260440"/>
            <a:ext cx="139680" cy="14004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0760" y="2711520"/>
            <a:ext cx="139680" cy="13968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18880" y="23241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0440" y="2790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" y="378144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3880" y="4410000"/>
            <a:ext cx="6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66720" y="232416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58680" y="278712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52560" y="37814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56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99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233352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9400" y="1819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95800" y="237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85760" y="2152800"/>
            <a:ext cx="63828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55720" y="1800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m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809360" y="1476360"/>
            <a:ext cx="552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3000" y="12668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m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5680" y="1841400"/>
            <a:ext cx="36828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75040" y="3530520"/>
            <a:ext cx="254160" cy="10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13720" y="29844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56280" y="1600200"/>
            <a:ext cx="0" cy="88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6280" y="2489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8120" y="2311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0640" y="1333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502320" y="2171880"/>
          <a:ext cx="2641680" cy="121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2320" y="2171880"/>
                    <a:ext cx="26416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022720" y="3479760"/>
          <a:ext cx="3905280" cy="18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2720" y="3479760"/>
                    <a:ext cx="390528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863640" y="5218200"/>
          <a:ext cx="7726320" cy="179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3640" y="5218200"/>
                    <a:ext cx="77263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9560" y="177840"/>
            <a:ext cx="83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6: Water jet flowing out of the bottom of a tank filled to an unknown level, 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jectory of the water jet at this instant is given as shown below.  Determin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 level h at this instant.  (Neglect all lo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65160" y="1422360"/>
            <a:ext cx="1371600" cy="1397160"/>
          </a:xfrm>
          <a:custGeom>
            <a:avLst/>
            <a:gdLst/>
            <a:ahLst/>
            <a:rect l="l" t="t" r="r" b="b"/>
            <a:pathLst>
              <a:path w="864" h="880">
                <a:moveTo>
                  <a:pt x="0" y="0"/>
                </a:moveTo>
                <a:lnTo>
                  <a:pt x="0" y="880"/>
                </a:lnTo>
                <a:lnTo>
                  <a:pt x="864" y="88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58920" y="1409760"/>
            <a:ext cx="139680" cy="1219320"/>
          </a:xfrm>
          <a:custGeom>
            <a:avLst/>
            <a:gdLst/>
            <a:ahLst/>
            <a:rect l="l" t="t" r="r" b="b"/>
            <a:pathLst>
              <a:path w="88" h="768">
                <a:moveTo>
                  <a:pt x="88" y="768"/>
                </a:moveTo>
                <a:lnTo>
                  <a:pt x="0" y="768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52560" y="2819520"/>
            <a:ext cx="11412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0000" y="2819520"/>
            <a:ext cx="11448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5480" y="2819520"/>
            <a:ext cx="149868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65160" y="1600200"/>
            <a:ext cx="12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560" y="2666880"/>
            <a:ext cx="37584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9080" y="2782800"/>
            <a:ext cx="355536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46320" y="438156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7360" y="38988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040" y="28195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20560" y="16002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60240" y="1587600"/>
            <a:ext cx="12960" cy="1231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240" y="283212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" y="32130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18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51400" y="1771560"/>
          <a:ext cx="450684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1771560"/>
                    <a:ext cx="450684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8:02:11Z</dcterms:created>
  <dc:creator>C. Shih</dc:creator>
  <dc:description/>
  <dc:language>en-US</dc:language>
  <cp:lastModifiedBy>Chiang Shih</cp:lastModifiedBy>
  <dcterms:modified xsi:type="dcterms:W3CDTF">1999-09-24T19:11:29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