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77F-92A1-4E4F-BA3B-46F43E6A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CED-E3AE-457F-8702-DAAE8EF0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A91-FE28-4B5E-B930-A1921312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D5A-B0EA-4C23-8F3E-8198653C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35C-2C0D-445A-9467-60611EBC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B13-2584-44F4-A4AE-534872DD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48A-7A65-4EDE-A215-C35A37CE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B6D-4137-42B4-A7A5-990F0DEC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1958-666F-489B-AA6D-F5969048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E16-E46D-42CA-BEE8-2DEB06A8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F10-CD4B-43BA-9CF3-84AB954D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D474-25C8-4482-9347-56C2B770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49AC-8E1D-4F0E-8D8D-687FB3C66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Diffusion Eq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628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905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his equation to a solid undergoing conduction heat trans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743200"/>
            <a:ext cx="25146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3886200"/>
            <a:ext cx="457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638680" y="3505320"/>
            <a:ext cx="1295640" cy="121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61960" y="3505320"/>
            <a:ext cx="32763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4343400"/>
            <a:ext cx="3276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81952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20080" y="2549520"/>
            <a:ext cx="421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=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)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xdydz)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33520" y="3851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560" y="3352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403848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40384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6" name=""/>
          <p:cNvGraphicFramePr/>
          <p:nvPr/>
        </p:nvGraphicFramePr>
        <p:xfrm>
          <a:off x="419040" y="762120"/>
          <a:ext cx="8075520" cy="77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762120"/>
                    <a:ext cx="807552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4183560" y="3851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877880" y="3809880"/>
            <a:ext cx="69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+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4495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5943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85800" y="4343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8960" y="60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0520" y="476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114800" y="4876920"/>
          <a:ext cx="4191120" cy="176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876920"/>
                    <a:ext cx="419112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 flipV="1">
            <a:off x="8001000" y="609480"/>
            <a:ext cx="53352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7010280" y="609480"/>
            <a:ext cx="121932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77120" y="685800"/>
            <a:ext cx="121896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560" y="2286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l go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Diffusion Equatio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9480" y="1143000"/>
          <a:ext cx="79250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43000"/>
                    <a:ext cx="79250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038480" y="4343400"/>
            <a:ext cx="2895840" cy="10666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933960" y="5410080"/>
            <a:ext cx="228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97800" y="5791320"/>
            <a:ext cx="42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neralized to three-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000" y="5638680"/>
            <a:ext cx="424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te: partial differential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s used since T=T(x,y,z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Diffusion Equatio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" y="609480"/>
          <a:ext cx="8559720" cy="596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8559720" cy="596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D, Steady Heat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27720" y="3340080"/>
          <a:ext cx="87120" cy="1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7720" y="3340080"/>
                    <a:ext cx="87120" cy="1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85920" y="766800"/>
          <a:ext cx="8511840" cy="40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" y="766800"/>
                    <a:ext cx="85118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252440" y="5097600"/>
            <a:ext cx="987480" cy="144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2440" y="6543720"/>
            <a:ext cx="194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252440" y="4920840"/>
            <a:ext cx="0" cy="16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74000" y="5075280"/>
            <a:ext cx="4437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x=0)=100°C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x=1 m)=20°C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-80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(x)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-80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°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52440" y="5519880"/>
            <a:ext cx="987480" cy="723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4680" y="52164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1960" y="595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4720" y="4740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14880" y="640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7724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D Heat Transfer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33640" y="649440"/>
          <a:ext cx="6770520" cy="25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649440"/>
                    <a:ext cx="6770520" cy="25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900000" y="4197240"/>
            <a:ext cx="77652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7480" y="3786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7400" y="382284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7640" y="5873760"/>
            <a:ext cx="127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62360" y="537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603252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04960" y="60436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37280"/>
            <a:ext cx="81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27160" y="6221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2480" y="4303800"/>
            <a:ext cx="30024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676160" y="4286160"/>
            <a:ext cx="24588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701800" y="3390840"/>
          <a:ext cx="6008760" cy="1728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1800" y="3390840"/>
                    <a:ext cx="600876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833560" y="5859360"/>
            <a:ext cx="1963800" cy="370080"/>
          </a:xfrm>
          <a:custGeom>
            <a:avLst/>
            <a:gdLst/>
            <a:ahLst/>
            <a:rect l="l" t="t" r="r" b="b"/>
            <a:pathLst>
              <a:path w="1237" h="233">
                <a:moveTo>
                  <a:pt x="0" y="111"/>
                </a:moveTo>
                <a:lnTo>
                  <a:pt x="241" y="113"/>
                </a:lnTo>
                <a:lnTo>
                  <a:pt x="311" y="0"/>
                </a:lnTo>
                <a:lnTo>
                  <a:pt x="389" y="222"/>
                </a:lnTo>
                <a:lnTo>
                  <a:pt x="478" y="0"/>
                </a:lnTo>
                <a:lnTo>
                  <a:pt x="567" y="222"/>
                </a:lnTo>
                <a:lnTo>
                  <a:pt x="644" y="0"/>
                </a:lnTo>
                <a:lnTo>
                  <a:pt x="721" y="233"/>
                </a:lnTo>
                <a:lnTo>
                  <a:pt x="811" y="0"/>
                </a:lnTo>
                <a:lnTo>
                  <a:pt x="895" y="227"/>
                </a:lnTo>
                <a:lnTo>
                  <a:pt x="978" y="56"/>
                </a:lnTo>
                <a:lnTo>
                  <a:pt x="1237" y="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1160" y="5543640"/>
            <a:ext cx="914400" cy="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05840" y="5194440"/>
            <a:ext cx="71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6040" y="597528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71080" y="5861160"/>
            <a:ext cx="101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02160" y="62229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3200" y="5332320"/>
            <a:ext cx="30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ctric circuit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16560" y="5938920"/>
            <a:ext cx="181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 = (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V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e Wall Heat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1198440"/>
            <a:ext cx="590400" cy="1832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69920" y="1192320"/>
            <a:ext cx="777960" cy="183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8640" y="6843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29080" y="71424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68560" y="1168560"/>
            <a:ext cx="172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798280" y="1241280"/>
            <a:ext cx="1746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348000"/>
            <a:ext cx="59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62000" y="3348000"/>
            <a:ext cx="779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1760" y="31892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69920" y="31971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49280" y="32115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89320" y="33987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339876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46560" y="5554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53160" y="54144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14840" y="1847880"/>
            <a:ext cx="1963800" cy="369720"/>
          </a:xfrm>
          <a:custGeom>
            <a:avLst/>
            <a:gdLst/>
            <a:ahLst/>
            <a:rect l="l" t="t" r="r" b="b"/>
            <a:pathLst>
              <a:path w="1237" h="233">
                <a:moveTo>
                  <a:pt x="0" y="111"/>
                </a:moveTo>
                <a:lnTo>
                  <a:pt x="241" y="113"/>
                </a:lnTo>
                <a:lnTo>
                  <a:pt x="311" y="0"/>
                </a:lnTo>
                <a:lnTo>
                  <a:pt x="389" y="222"/>
                </a:lnTo>
                <a:lnTo>
                  <a:pt x="478" y="0"/>
                </a:lnTo>
                <a:lnTo>
                  <a:pt x="567" y="222"/>
                </a:lnTo>
                <a:lnTo>
                  <a:pt x="644" y="0"/>
                </a:lnTo>
                <a:lnTo>
                  <a:pt x="721" y="233"/>
                </a:lnTo>
                <a:lnTo>
                  <a:pt x="811" y="0"/>
                </a:lnTo>
                <a:lnTo>
                  <a:pt x="895" y="227"/>
                </a:lnTo>
                <a:lnTo>
                  <a:pt x="978" y="56"/>
                </a:lnTo>
                <a:lnTo>
                  <a:pt x="1237" y="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88120" y="1760400"/>
            <a:ext cx="1963440" cy="370080"/>
          </a:xfrm>
          <a:custGeom>
            <a:avLst/>
            <a:gdLst/>
            <a:ahLst/>
            <a:rect l="l" t="t" r="r" b="b"/>
            <a:pathLst>
              <a:path w="1237" h="233">
                <a:moveTo>
                  <a:pt x="0" y="111"/>
                </a:moveTo>
                <a:lnTo>
                  <a:pt x="241" y="113"/>
                </a:lnTo>
                <a:lnTo>
                  <a:pt x="311" y="0"/>
                </a:lnTo>
                <a:lnTo>
                  <a:pt x="389" y="222"/>
                </a:lnTo>
                <a:lnTo>
                  <a:pt x="478" y="0"/>
                </a:lnTo>
                <a:lnTo>
                  <a:pt x="567" y="222"/>
                </a:lnTo>
                <a:lnTo>
                  <a:pt x="644" y="0"/>
                </a:lnTo>
                <a:lnTo>
                  <a:pt x="721" y="233"/>
                </a:lnTo>
                <a:lnTo>
                  <a:pt x="811" y="0"/>
                </a:lnTo>
                <a:lnTo>
                  <a:pt x="895" y="227"/>
                </a:lnTo>
                <a:lnTo>
                  <a:pt x="978" y="56"/>
                </a:lnTo>
                <a:lnTo>
                  <a:pt x="1237" y="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20320" y="16477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35400" y="14461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1031760"/>
            <a:ext cx="166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81680" y="1068480"/>
            <a:ext cx="166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(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49960" y="2128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83040" y="2647800"/>
          <a:ext cx="5584680" cy="225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3040" y="2647800"/>
                    <a:ext cx="5584680" cy="22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28480" y="5102280"/>
            <a:ext cx="83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n the US, insulation materials are often specified in terms of their thermal resistance in (hr f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°F)/Btu   ----&gt; 1 Btu=1055 J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-value = L/k, R-11 for wall, R-19 to R-31 for cei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47880" y="146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985760" y="611280"/>
            <a:ext cx="45720" cy="53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00200" y="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1600" y="771480"/>
            <a:ext cx="849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al resistance of insulation material can be characterized by its R-value.  R is defined as the temperature difference across the insulation by the heat flux going through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1800" y="2058840"/>
          <a:ext cx="2658960" cy="7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1800" y="2058840"/>
                    <a:ext cx="2658960" cy="7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42880" y="3057480"/>
            <a:ext cx="860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ypical space inside the residential frame wall is 3.5 in.  Find the R-value if the wall cavity is filled with fiberglass batt.  (k=0.046 W/m.K=0.027 Btu/h.ft.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893960" y="4176720"/>
          <a:ext cx="5956200" cy="6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93960" y="4176720"/>
                    <a:ext cx="59562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7T16:01:24Z</dcterms:created>
  <dc:creator>C. Shih</dc:creator>
  <dc:description/>
  <dc:language>en-US</dc:language>
  <cp:lastModifiedBy>Chiang Shih</cp:lastModifiedBy>
  <dcterms:modified xsi:type="dcterms:W3CDTF">1999-11-29T17:24:20Z</dcterms:modified>
  <cp:revision>14</cp:revision>
  <dc:subject/>
  <dc:title>Energy Balance Eq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