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664-BBE8-413E-A3FD-EB4C17DF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8452-9A77-4617-BD81-9C4EE5E6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AE5-5AC1-418F-A66B-91510025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202-B82A-4189-8CE3-4829CDF9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42E-6EF8-4742-A99B-DF61C469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598-A6A3-4780-B7AA-AAF95400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2516-C318-47AF-8398-316920B6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1F9-1A60-403D-8E40-B888A612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BD9-C537-43E6-BF36-E4AF4A85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B3B-13C7-4FD7-8E2A-E13CFB40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1A4-3934-4AF9-A28F-4ABFBD35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7B55-702A-42F8-A982-C10007C8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3A4A-B4D7-40DB-AA21-3F45DBC90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blueneptune.com/~xmwang/myGUI/OttoG.html" TargetMode="Externa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nnerauto.com/innerauto/htm/auto.html" TargetMode="External"/><Relationship Id="rId2" Type="http://schemas.openxmlformats.org/officeDocument/2006/relationships/hyperlink" Target="http://www.innerauto.com/innerauto/htm/auto.html" TargetMode="External"/><Relationship Id="rId3" Type="http://schemas.openxmlformats.org/officeDocument/2006/relationships/hyperlink" Target="http://www.innerauto.com/innerauto/htm/auto.html" TargetMode="Externa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 Power Cycle - Internal Combustion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04920" y="746280"/>
          <a:ext cx="8534160" cy="53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46280"/>
                    <a:ext cx="8534160" cy="53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8305920" y="838080"/>
            <a:ext cx="609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61722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Otto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to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9000" y="304920"/>
            <a:ext cx="3009600" cy="2552040"/>
            <a:chOff x="459000" y="304920"/>
            <a:chExt cx="3009600" cy="2552040"/>
          </a:xfrm>
        </p:grpSpPr>
        <p:sp>
          <p:nvSpPr>
            <p:cNvPr id="48" name=""/>
            <p:cNvSpPr/>
            <p:nvPr/>
          </p:nvSpPr>
          <p:spPr>
            <a:xfrm>
              <a:off x="894240" y="2489760"/>
              <a:ext cx="225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894240" y="524160"/>
              <a:ext cx="0" cy="196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9000" y="304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35600" y="2397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46680" y="714240"/>
              <a:ext cx="1479240" cy="1521720"/>
            </a:xfrm>
            <a:custGeom>
              <a:avLst/>
              <a:gdLst/>
              <a:ahLst/>
              <a:rect l="l" t="t" r="r" b="b"/>
              <a:pathLst>
                <a:path w="1008" h="1152">
                  <a:moveTo>
                    <a:pt x="0" y="576"/>
                  </a:moveTo>
                  <a:lnTo>
                    <a:pt x="0" y="0"/>
                  </a:lnTo>
                  <a:lnTo>
                    <a:pt x="1008" y="768"/>
                  </a:lnTo>
                  <a:lnTo>
                    <a:pt x="1008" y="1152"/>
                  </a:lnTo>
                  <a:lnTo>
                    <a:pt x="0" y="576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83160" y="2121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21680" y="14871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92240" y="345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83160" y="1423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972880" y="380880"/>
            <a:ext cx="3006720" cy="2508480"/>
            <a:chOff x="2972880" y="380880"/>
            <a:chExt cx="3006720" cy="2508480"/>
          </a:xfrm>
        </p:grpSpPr>
        <p:sp>
          <p:nvSpPr>
            <p:cNvPr id="58" name=""/>
            <p:cNvSpPr/>
            <p:nvPr/>
          </p:nvSpPr>
          <p:spPr>
            <a:xfrm flipV="1">
              <a:off x="3459240" y="537840"/>
              <a:ext cx="0" cy="198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9240" y="2523240"/>
              <a:ext cx="21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72880" y="3808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80080" y="24296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33000" y="858240"/>
              <a:ext cx="1217880" cy="1216440"/>
            </a:xfrm>
            <a:custGeom>
              <a:avLst/>
              <a:gdLst/>
              <a:ahLst/>
              <a:rect l="l" t="t" r="r" b="b"/>
              <a:pathLst>
                <a:path w="864" h="912">
                  <a:moveTo>
                    <a:pt x="0" y="912"/>
                  </a:moveTo>
                  <a:lnTo>
                    <a:pt x="0" y="576"/>
                  </a:lnTo>
                  <a:lnTo>
                    <a:pt x="864" y="0"/>
                  </a:lnTo>
                  <a:lnTo>
                    <a:pt x="864" y="576"/>
                  </a:lnTo>
                  <a:lnTo>
                    <a:pt x="0" y="912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48600" y="2086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1640" y="13172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05960" y="550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38280" y="1574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7" name=""/>
          <p:cNvGraphicFramePr/>
          <p:nvPr/>
        </p:nvGraphicFramePr>
        <p:xfrm>
          <a:off x="914400" y="2971800"/>
          <a:ext cx="7772400" cy="36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971800"/>
                    <a:ext cx="7772400" cy="36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5791320" y="533520"/>
            <a:ext cx="3504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2 isentropic com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3 constant volume heat trans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-4 isentropic 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-1 constant volume heat re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4362120" y="1085760"/>
            <a:ext cx="342720" cy="228600"/>
          </a:xfrm>
          <a:prstGeom prst="rightArrow">
            <a:avLst>
              <a:gd name="adj1" fmla="val 50000"/>
              <a:gd name="adj2" fmla="val 374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4380840" y="17906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99072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8288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to Cycle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533520"/>
          <a:ext cx="4819680" cy="34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4819680" cy="34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29200" y="873000"/>
          <a:ext cx="4038480" cy="109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873000"/>
                    <a:ext cx="403848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116680" y="2133720"/>
            <a:ext cx="402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value of r for a real engine: between 7 and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2240" y="4308480"/>
            <a:ext cx="832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igher the compression ratio, the higher the thermal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r will led to engine knock (spontaneous ignition)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ment of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3640" y="727200"/>
            <a:ext cx="824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he compression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the engine displacement: more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 more air into the cylinder during intake: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percharg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nd turbochar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 the air before allowing it to enter the cylinder: cooler air can expand more, thus, increase the work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resistance during intake and exhaust stages: multiple valve configuration: 4 cylinders/16 valves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Fuel injec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 do away with th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arbureto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nd provide precise metering of fuel into the cylin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esel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95320" y="3251160"/>
            <a:ext cx="225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95320" y="1285560"/>
            <a:ext cx="0" cy="19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9000" y="1066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35600" y="315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85760" y="1662120"/>
            <a:ext cx="1639800" cy="1336680"/>
          </a:xfrm>
          <a:custGeom>
            <a:avLst/>
            <a:gdLst/>
            <a:ahLst/>
            <a:rect l="l" t="t" r="r" b="b"/>
            <a:pathLst>
              <a:path w="1033" h="842">
                <a:moveTo>
                  <a:pt x="0" y="8"/>
                </a:moveTo>
                <a:lnTo>
                  <a:pt x="480" y="0"/>
                </a:lnTo>
                <a:lnTo>
                  <a:pt x="1033" y="522"/>
                </a:lnTo>
                <a:lnTo>
                  <a:pt x="1033" y="842"/>
                </a:lnTo>
                <a:lnTo>
                  <a:pt x="0" y="8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82440" y="2882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1800" y="114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06200" y="121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82440" y="2185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972880" y="1143000"/>
            <a:ext cx="3006720" cy="2508480"/>
            <a:chOff x="2972880" y="1143000"/>
            <a:chExt cx="3006720" cy="2508480"/>
          </a:xfrm>
        </p:grpSpPr>
        <p:sp>
          <p:nvSpPr>
            <p:cNvPr id="94" name=""/>
            <p:cNvSpPr/>
            <p:nvPr/>
          </p:nvSpPr>
          <p:spPr>
            <a:xfrm flipV="1">
              <a:off x="3459240" y="1299960"/>
              <a:ext cx="0" cy="198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59240" y="3285360"/>
              <a:ext cx="216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72880" y="1143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80080" y="319176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33000" y="1620360"/>
              <a:ext cx="1217880" cy="1216440"/>
            </a:xfrm>
            <a:custGeom>
              <a:avLst/>
              <a:gdLst/>
              <a:ahLst/>
              <a:rect l="l" t="t" r="r" b="b"/>
              <a:pathLst>
                <a:path w="864" h="912">
                  <a:moveTo>
                    <a:pt x="0" y="912"/>
                  </a:moveTo>
                  <a:lnTo>
                    <a:pt x="0" y="576"/>
                  </a:lnTo>
                  <a:lnTo>
                    <a:pt x="864" y="0"/>
                  </a:lnTo>
                  <a:lnTo>
                    <a:pt x="864" y="576"/>
                  </a:lnTo>
                  <a:lnTo>
                    <a:pt x="0" y="912"/>
                  </a:lnTo>
                  <a:close/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8600" y="2849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81640" y="2079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05960" y="1312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38280" y="2336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828800" y="1676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803160"/>
            <a:ext cx="2971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3: a constant pressure process (instead of a constant volume process) and is the only difference between an idealized Diesel cycle and an idealized Otto cy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6280" y="3622680"/>
            <a:ext cx="8169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el injection for an extended period during the power stroke and therefore maintaining a relatively constant press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esel cycle has a lower thermal efficiency as compared to an Otto cycle under the same compression rat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general, Diesel engine has a higher thermal efficiency than spark-ignition engine because the Diesel engine has a much higher compression rat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ression-ignition: very high compression ratio 10 to 20 or even hig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7T12:15:49Z</dcterms:created>
  <dc:creator>C. Shih</dc:creator>
  <dc:description/>
  <dc:language>en-US</dc:language>
  <cp:lastModifiedBy>Chiang Shih</cp:lastModifiedBy>
  <dcterms:modified xsi:type="dcterms:W3CDTF">1999-11-19T17:36:30Z</dcterms:modified>
  <cp:revision>16</cp:revision>
  <dc:subject/>
  <dc:title>Gas Power Cycle - Internal Combustion Eng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ublic_html\eml3015\lecture not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